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1F5-7A7C-4C23-8933-7C0B2C17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30D-2EE6-4F02-A146-96186A6C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4CB-1C86-4884-95A2-B293D066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A1A-FCF3-4B32-BF6F-518792AE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718-2899-40D7-AAF0-64304F18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28A-2A80-43F5-9012-055E9AA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DC1-D7FA-41E1-BF04-5CD99CA0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C9F-600E-4494-B16A-5F54B610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3EC-F3F1-4E74-B6CA-96AFE9B9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A6B-F6D1-42CF-8787-D2D2098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D38-AAB5-48E7-AEC0-988389E4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FD6-ED56-4041-9B8E-D93FEBA5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70C5-0479-4E26-AF5B-5E98E2DA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609480"/>
            <a:ext cx="4114800" cy="624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609480"/>
            <a:ext cx="3657600" cy="624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1371600" cy="624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0120" y="111240"/>
            <a:ext cx="76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OS ENTRE MARKETING Y OTROS D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20" y="6224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DP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07840" y="85392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SU ENF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31720" y="85104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ENFASIS DE MERCA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560" y="1581120"/>
            <a:ext cx="1127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NGENI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920" y="2901960"/>
            <a:ext cx="120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7000" y="3968640"/>
            <a:ext cx="1113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PRODUC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320" y="5607000"/>
            <a:ext cx="1183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NVEN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9080" y="1454040"/>
            <a:ext cx="35654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Líder de diseño por tiempo prolon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aracterísticas fun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ocos mod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omponentes estánd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4840" y="1447920"/>
            <a:ext cx="26877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Tiempo líder de diseño 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aracterísticas de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Muchos mod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omponentes a la med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52040" y="2698920"/>
            <a:ext cx="28432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artes estánd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recio del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Tamaños económicos de l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8120" y="2701800"/>
            <a:ext cx="33523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artes no estánd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alidad del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Tamaños grandes de lote para evi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agotamiento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21280" y="3809880"/>
            <a:ext cx="36144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Tiempo líder de producción prolon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Largas corridas con pocos mod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Ningún cambio en los mod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edidos estánd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Facilidad de manufa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ontrol promedio de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76000" y="3817800"/>
            <a:ext cx="39924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Líder de producción por corto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orridas cortas de producción con much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Cambios frecuentes de 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edidos 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Apariencia est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Estricto control de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6720" y="5772240"/>
            <a:ext cx="3461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Artículos que se mueven rápido, lí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angost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Niveles económicos de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5823000"/>
            <a:ext cx="2571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Amplia líne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 Altos niveles de exis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160" y="3733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543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09480"/>
            <a:ext cx="1295280" cy="6237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98320"/>
            <a:ext cx="4019760" cy="624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598320"/>
            <a:ext cx="4114800" cy="624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0120" y="111240"/>
            <a:ext cx="76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OS ENTRE MARKETING Y OTROS D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0520" y="6224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DP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07840" y="85392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SU ENF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1720" y="85104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imes New Roman"/>
              </a:rPr>
              <a:t>ENFASIS DE MERCA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60" y="1600200"/>
            <a:ext cx="1217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38200" y="1536840"/>
            <a:ext cx="34725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Racionales estrictos para ga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resupuestos estrictos y  limi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Fijación de precios para cubrir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5680" y="1486080"/>
            <a:ext cx="340416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Argumentos intuitivos para el ga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resupuestos flxibles para satisf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necesidades cambi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Fijación de precios para aumentar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desarrollo del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240" y="3200400"/>
            <a:ext cx="1181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CON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0720" y="3124080"/>
            <a:ext cx="30625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Transacciones estánd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ocos repor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Reportes orientados a los ga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857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5160" y="3124080"/>
            <a:ext cx="31633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Descuentos y términos 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Muchos 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Informes especiales orientado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0" y="4800600"/>
            <a:ext cx="1181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CRED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15520" y="4495680"/>
            <a:ext cx="3312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Revelaciones financieras compl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Riesgos de crédito por l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Términos estrictos de créd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rocedimientos estrictos de co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27920" y="4495680"/>
            <a:ext cx="38520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Análisis mínimo del crédito de lo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Riesgos medios de créd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Términos fáciles de créd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*Procedimientos fáciles de co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8160" y="2743200"/>
            <a:ext cx="6874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o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erson E., Rolph etal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ción de Venta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 Mc Graw Hill, 1995, pág. 18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13:17Z</dcterms:created>
  <dc:creator>Ronald Alvarez G.</dc:creator>
  <dc:description/>
  <dc:language>en-US</dc:language>
  <cp:lastModifiedBy>Ronald Alvarez G.</cp:lastModifiedBy>
  <dcterms:modified xsi:type="dcterms:W3CDTF">2003-11-10T04:14:24Z</dcterms:modified>
  <cp:revision>20</cp:revision>
  <dc:subject/>
  <dc:title>Presentación de PowerPoint</dc:title>
</cp:coreProperties>
</file>