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730-977F-4656-A4B8-4015E2A2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94C-86DF-4C95-A329-A1524C26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96F-19E4-4FF9-BBEA-E4545719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F4D-318A-4C42-97A2-5A53D684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40EB-3D8D-48F6-9CC4-BFE40A7B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945B-302C-4AB8-A3D1-B68D5BDF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944C-2A0C-465B-9936-193134F1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1B13-0B27-4C0A-B168-BDB20770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9B99-786D-42F7-9042-DB0DA412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FB22-5BBF-4F73-A5B8-99B8EF1D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87D7-3E5D-4074-9A23-9DBE622B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9D7-B8AA-427D-BF73-83072C37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A1B4-193D-4FF0-9618-0768D864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C60F-0233-4C73-8E19-21358DBF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3DAE-0259-4B8F-9471-5747B7C4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EDBA-68C2-446A-920D-C1646E2F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6A7C-712C-4837-A9AC-FDDAEBC3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779-989C-412E-B1C8-3CC58AA9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F11-FFE6-47BC-AA9E-58B2F0E1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C18D-594F-45C3-A6C8-42D9C882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C91-2459-4FAC-BB29-14A89AA7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8F6-E4DD-43AD-9126-F3785856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555-4233-42CB-9B3C-3E172EA2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89A-8D9F-4EE1-87D4-B2B4C79F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7466-04A2-4DA3-A646-B3FCAB755A26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8AB9-C6A1-482C-B484-C908867219BE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457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66"/>
                </a:solidFill>
                <a:latin typeface="Arial Narrow"/>
              </a:rPr>
              <a:t>Planeación estratégica del marketing</a:t>
            </a:r>
            <a:br>
              <a:rPr sz="4400"/>
            </a:br>
            <a:r>
              <a:rPr b="0" lang="es-CR" sz="2800" spc="-1" strike="noStrike">
                <a:solidFill>
                  <a:srgbClr val="000066"/>
                </a:solidFill>
                <a:latin typeface="Arial Narrow"/>
              </a:rPr>
              <a:t>Capítulo I:  Ferr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3124080"/>
            <a:ext cx="32767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 Narrow"/>
              </a:rPr>
              <a:t>Integ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Pablo S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María Paz Ramí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Mabel Kerzem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Alejandra Av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000000"/>
                </a:solidFill>
                <a:latin typeface="Arial Narrow"/>
              </a:rPr>
              <a:t>Generalidade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Organizaciones exitosas participan en el proceso de planeación estratégica del marketing:  aprovechan fortalezas y ofrecen bienes o servicios que satisfacen necesidades y dese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25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Toda organización participa en la creación y puesta en marcha de estrategias de market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45720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 Narrow"/>
              </a:rPr>
              <a:t>Proceso de la planeación estratégica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990720"/>
            <a:ext cx="3429000" cy="45720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66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5ebc1"/>
                </a:solidFill>
                <a:latin typeface="Arial Narrow"/>
              </a:rPr>
              <a:t>Análisis situ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828800"/>
            <a:ext cx="3429000" cy="45720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5ebc1"/>
                </a:solidFill>
                <a:latin typeface="Arial Narrow"/>
              </a:rPr>
              <a:t>FO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2590920"/>
            <a:ext cx="3886200" cy="45720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5ebc1"/>
                </a:solidFill>
                <a:latin typeface="Arial Narrow"/>
              </a:rPr>
              <a:t>Misión, metas y objetivo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352680"/>
            <a:ext cx="3962520" cy="45720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6666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5ebc1"/>
                </a:solidFill>
                <a:latin typeface="Arial Narrow"/>
              </a:rPr>
              <a:t>Estrategia de la Unidad de 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4114800"/>
            <a:ext cx="3429000" cy="266688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5ebc1"/>
                </a:solidFill>
                <a:latin typeface="Arial Narrow"/>
              </a:rPr>
              <a:t>Metas y objetivos de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5ebc1"/>
                </a:solidFill>
                <a:latin typeface="Arial Narrow"/>
              </a:rPr>
              <a:t>Estrategia de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5ebc1"/>
                </a:solidFill>
                <a:latin typeface="Arial Narrow"/>
              </a:rPr>
              <a:t>Instru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5ebc1"/>
                </a:solidFill>
                <a:latin typeface="Arial Narrow"/>
              </a:rPr>
              <a:t>Evaluación y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5ebc1"/>
                </a:solidFill>
                <a:latin typeface="Arial Narrow"/>
              </a:rPr>
              <a:t>Planes de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0" cy="30492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4114800"/>
            <a:ext cx="3429000" cy="26668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5ebc1"/>
                </a:solidFill>
                <a:latin typeface="Arial Narrow"/>
              </a:rPr>
              <a:t>Otras Metas y objetivos fun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5ebc1"/>
                </a:solidFill>
                <a:latin typeface="Arial Narrow"/>
              </a:rPr>
              <a:t>Otras estrategias fun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5ebc1"/>
                </a:solidFill>
                <a:latin typeface="Arial Narrow"/>
              </a:rPr>
              <a:t>Instru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5ebc1"/>
                </a:solidFill>
                <a:latin typeface="Arial Narrow"/>
              </a:rPr>
              <a:t>Evaluación y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5ebc1"/>
                </a:solidFill>
                <a:latin typeface="Arial Narrow"/>
              </a:rPr>
              <a:t>Otros planes fun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4343400"/>
            <a:ext cx="0" cy="30492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4876920"/>
            <a:ext cx="0" cy="3045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5410080"/>
            <a:ext cx="0" cy="30492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34320" y="6019920"/>
            <a:ext cx="0" cy="3045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4876920"/>
            <a:ext cx="0" cy="3045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5410080"/>
            <a:ext cx="0" cy="30492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6019920"/>
            <a:ext cx="0" cy="3045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152388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236232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312408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1220400" y="3352320"/>
            <a:ext cx="1057320" cy="685800"/>
          </a:xfrm>
          <a:custGeom>
            <a:avLst/>
            <a:gdLst>
              <a:gd name="textAreaLeft" fmla="*/ 352440 w 1057320"/>
              <a:gd name="textAreaRight" fmla="*/ 905760 w 105732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ff33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 rot="21595200">
            <a:off x="6856200" y="3348720"/>
            <a:ext cx="1143000" cy="685800"/>
          </a:xfrm>
          <a:custGeom>
            <a:avLst/>
            <a:gdLst>
              <a:gd name="textAreaLeft" fmla="*/ 380880 w 1143000"/>
              <a:gd name="textAreaRight" fmla="*/ 979200 w 11430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990033"/>
              </a:gs>
            </a:gsLst>
            <a:lin ang="1349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Estrategias de market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Elección y análisis de mercados me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Creación y mantenimiento de una mezcla de marketing apropiada que satisfaga necesida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Plan de market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Documento con plano de actividades de marke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Consta de instrumentación, evaluación y control de actividades de marke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Misió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¿En qué negocio estamo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Razón de ser (significado y filosofía operativa fundamenta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Visió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¿En qué queremos convertirno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Factor crítico de éxito para que funcionen:  conocimiento y respaldo de los funcionari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000000"/>
                </a:solidFill>
                <a:latin typeface="Arial Narrow"/>
              </a:rPr>
              <a:t>Elementos de planteamiento de misió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Quiénes som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Quiénes son nuestros clien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Cuál es nuestra filosofía operativ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Cuáles son nuestras ventajas competitiv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Cuáles son nuestras preocupaciones e intereses con nuestros funcionarios, comunidad, asuntos sociales, entorn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000000"/>
                </a:solidFill>
                <a:latin typeface="Arial Narrow"/>
              </a:rPr>
              <a:t>Características de planteamiento de misió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Estabilidad (se justifica el cambio cuando se es desplazado por la competencia, tecnología, nuevas oportunidade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Orientarse al clien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 Narrow"/>
              </a:rPr>
              <a:t>Ganancias u otros resultados de desempeño son finalidades no misió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33720" y="2057400"/>
            <a:ext cx="2057400" cy="2819520"/>
          </a:xfrm>
          <a:prstGeom prst="rect">
            <a:avLst/>
          </a:prstGeom>
          <a:gradFill rotWithShape="0">
            <a:gsLst>
              <a:gs pos="0">
                <a:srgbClr val="d4876c"/>
              </a:gs>
              <a:gs pos="100000">
                <a:srgbClr val="6666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Eleme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filosó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1981080"/>
            <a:ext cx="3657600" cy="2895840"/>
          </a:xfrm>
          <a:prstGeom prst="rect">
            <a:avLst/>
          </a:prstGeom>
          <a:gradFill rotWithShape="0">
            <a:gsLst>
              <a:gs pos="0">
                <a:srgbClr val="d4876c"/>
              </a:gs>
              <a:gs pos="100000">
                <a:srgbClr val="6666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2209680"/>
            <a:ext cx="337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Me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Estrateg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Tác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Planes de instru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5600" y="57150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72680" y="5715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 Narrow"/>
              </a:rPr>
              <a:t>No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51055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6699"/>
              </a:gs>
              <a:gs pos="100000">
                <a:srgbClr val="0066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51055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6699"/>
              </a:gs>
              <a:gs pos="100000">
                <a:srgbClr val="6666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4:47:38Z</dcterms:created>
  <dc:creator>Quesarce S.A.</dc:creator>
  <dc:description/>
  <dc:language>en-US</dc:language>
  <cp:lastModifiedBy>aavila</cp:lastModifiedBy>
  <dcterms:modified xsi:type="dcterms:W3CDTF">2004-01-20T22:42:45Z</dcterms:modified>
  <cp:revision>44</cp:revision>
  <dc:subject/>
  <dc:title>Segmentos Prioritarios Que Debe Atraer El Inbioparque Para Aumentar Su Visit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21191823</vt:r8>
  </property>
  <property fmtid="{D5CDD505-2E9C-101B-9397-08002B2CF9AE}" pid="3" name="_AuthorEmail">
    <vt:lpwstr>aavila@inbio.ac.cr</vt:lpwstr>
  </property>
  <property fmtid="{D5CDD505-2E9C-101B-9397-08002B2CF9AE}" pid="4" name="_AuthorEmailDisplayName">
    <vt:lpwstr>Alejandra Avila</vt:lpwstr>
  </property>
  <property fmtid="{D5CDD505-2E9C-101B-9397-08002B2CF9AE}" pid="5" name="_EmailSubject">
    <vt:lpwstr>Planeacion estrategica del mk.ppt</vt:lpwstr>
  </property>
</Properties>
</file>