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3F59-CCBE-4CB6-B81B-3E6425BA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692-55F3-481F-8EAA-D276120E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D22-D0FA-45CC-A436-BDB02EA8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589-BE13-4046-9D4E-B2A1E57C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28AB-D0DE-4406-82A4-86B63516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C2E9-8AD7-48C4-BDAE-1946C28D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200E-6842-45FD-B219-6562B547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8D24-9F35-497D-923E-87E5B14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4D7-ED02-4FDA-80A3-A2DA0700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D81D-E93B-4E61-9B16-26E2093A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07CD-EC6A-4E1B-A272-D316891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703-D017-4159-A094-E5F2B1B8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8520-3DE9-4A5D-9E86-6C71C74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5818-D451-4BA2-9D04-2720E45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CBE9-5149-4219-B813-831908B2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1AFA-68FB-43DE-AFA1-0C6F2C6E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B785-03A2-46AC-B9F0-63A26BDB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F06-D2D6-48B4-A067-B802D5E1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A78-6535-4995-8683-9FF52ED9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291-2069-4D01-A715-F24CD2D2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D43-4EDE-42EE-967F-C16C3338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533-54E0-4368-BB90-C5F71AF5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F5B-2059-4108-9EFC-65DCD2C9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F8F-786F-442B-ACA9-523AA1B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6DD-DDA3-4E49-B314-4BC4B48252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447920"/>
            <a:ext cx="7391520" cy="152280"/>
            <a:chOff x="228600" y="1447920"/>
            <a:chExt cx="7391520" cy="152280"/>
          </a:xfrm>
        </p:grpSpPr>
        <p:sp>
          <p:nvSpPr>
            <p:cNvPr id="10" name=""/>
            <p:cNvSpPr/>
            <p:nvPr/>
          </p:nvSpPr>
          <p:spPr>
            <a:xfrm>
              <a:off x="609480" y="1447920"/>
              <a:ext cx="7010640" cy="151560"/>
            </a:xfrm>
            <a:prstGeom prst="roundRect">
              <a:avLst>
                <a:gd name="adj" fmla="val 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447920"/>
              <a:ext cx="393840" cy="152280"/>
            </a:xfrm>
            <a:prstGeom prst="flowChartDelay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8FBF-8A6E-47AF-9C3F-8E8232B3A0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18000" y="3200040"/>
            <a:ext cx="462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Arial"/>
              </a:rPr>
              <a:t>Planeación Estratégica de Mark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15200" y="609588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Arial"/>
              </a:rPr>
              <a:t>Enero 2004.</a:t>
            </a:r>
            <a:endParaRPr b="0" lang="en-US" sz="2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37160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99"/>
                </a:solidFill>
                <a:latin typeface="Arial"/>
              </a:rPr>
              <a:t>CAPITULO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Metas y Objetivos de Market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eben respaldar la misión y metas de la organización:  traducidos en objetivos con mediciones cuantitativ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Objetivos de marketing deben ser congruentes con los organizacion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Objetivos deben expresarse en terminos de unidades de medición:  volumen de ventas, rentabilidad por unidad, % de consumidores de mercad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eben chequearse con peridiocidad para que guarden congruencia con la siguiente edición del plan de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Estrategia de Market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Se diseña para integrar los esfuerzos encaminados a lograr los objetivos de comercialización.  Se eligen uno o más mercados meta y se desarrolla una mezcla de marketing que satisfaga las necesidades y deseos de ese mercado eleg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La estrategia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Satisfacer las necesidades y propósitos del mercado meta seleccion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Ser realista en términos de los recursos disponibles y el entorno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Ser congruente con la misión, las metas y los objetivos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Instrumentación y control de Marketing.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Comprende las actividades que llevan a la práctica la estrategia de mark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Las organizaciones cuentan con dos mercados meta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Ex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99"/>
                </a:solidFill>
                <a:latin typeface="Tahoma"/>
              </a:rPr>
              <a:t>Int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Director de marketing debe mantener contacto con otros administradores funcionales: producción, distribu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Tahoma"/>
              </a:rPr>
              <a:t>La ejecución de la estrategia de marketing depende de la realización coordinada de otras estrategias (producción, recursos humanos, investigación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Plan de Market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3399"/>
                </a:solidFill>
                <a:latin typeface="Tahoma"/>
              </a:rPr>
              <a:t>Un documento de a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3399"/>
                </a:solidFill>
                <a:latin typeface="Tahoma"/>
              </a:rPr>
              <a:t>Se puede desarrollar para diferentes modal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333399"/>
                </a:solidFill>
                <a:latin typeface="Tahoma"/>
              </a:rPr>
              <a:t>Un plan de marketing abarca diversas áreas de un negocio</a:t>
            </a: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99"/>
                </a:solidFill>
                <a:latin typeface="Arial"/>
              </a:rPr>
              <a:t>Propósitos del Plan de Marketing.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Explica situacione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Especifica resultados esperados, con lo cual la empresa pueda adelantar su situación en el futu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Describe acciones concr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Identifica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99"/>
                </a:solidFill>
                <a:latin typeface="Tahoma"/>
              </a:rPr>
              <a:t>Control de las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1676520"/>
            <a:ext cx="9144000" cy="5181120"/>
            <a:chOff x="0" y="1676520"/>
            <a:chExt cx="9144000" cy="5181120"/>
          </a:xfrm>
        </p:grpSpPr>
        <p:sp>
          <p:nvSpPr>
            <p:cNvPr id="108" name=""/>
            <p:cNvSpPr/>
            <p:nvPr/>
          </p:nvSpPr>
          <p:spPr>
            <a:xfrm>
              <a:off x="0" y="6050160"/>
              <a:ext cx="9144000" cy="807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8280" y="1676520"/>
              <a:ext cx="41148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2d86"/>
                  </a:solidFill>
                  <a:latin typeface="Times New Roman"/>
                </a:rPr>
                <a:t>Planeación última déca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38280" y="2420640"/>
              <a:ext cx="41148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000" spc="-1" strike="noStrike">
                  <a:solidFill>
                    <a:srgbClr val="002d86"/>
                  </a:solidFill>
                  <a:latin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2790720"/>
              <a:ext cx="1143000" cy="3322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compete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57600" y="2790720"/>
              <a:ext cx="1371600" cy="3322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objetiv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05520" y="2790720"/>
              <a:ext cx="1447560" cy="3322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medi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3128760"/>
              <a:ext cx="4114800" cy="49896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400" spc="-1" strike="noStrike">
                  <a:solidFill>
                    <a:srgbClr val="002d86"/>
                  </a:solidFill>
                  <a:latin typeface="Times New Roman"/>
                </a:rPr>
                <a:t>Planeación razonada y real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999240"/>
              <a:ext cx="4191120" cy="57456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800" spc="-1" strike="noStrike">
                  <a:solidFill>
                    <a:srgbClr val="cc0066"/>
                  </a:solidFill>
                  <a:latin typeface="Times New Roman"/>
                </a:rPr>
                <a:t>Satisfacer las necesidades del consum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8280" y="5314320"/>
              <a:ext cx="121932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Merca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3920" y="5314320"/>
              <a:ext cx="9144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Ven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5314320"/>
              <a:ext cx="18288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Servicio 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4839120"/>
              <a:ext cx="4114800" cy="4708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CRM</a:t>
              </a: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200" spc="-1" strike="noStrike">
                  <a:solidFill>
                    <a:srgbClr val="002d86"/>
                  </a:solidFill>
                  <a:latin typeface="Times New Roman"/>
                </a:rPr>
                <a:t>(Administración Relación con el Cli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38280" y="6458400"/>
              <a:ext cx="41148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6427440" y="3404520"/>
              <a:ext cx="2220480" cy="92556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PRODUC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393120" y="3609000"/>
              <a:ext cx="2220480" cy="65088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Segmentacion/fo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-617040" y="3745080"/>
              <a:ext cx="2220480" cy="37620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7569000" y="3679200"/>
              <a:ext cx="2220480" cy="37620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1600" spc="-1" strike="noStrike">
                  <a:solidFill>
                    <a:srgbClr val="002d86"/>
                  </a:solidFill>
                  <a:latin typeface="Times New Roman"/>
                </a:rPr>
                <a:t>CLIE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19720" y="6054480"/>
              <a:ext cx="0" cy="26496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19720" y="4574160"/>
              <a:ext cx="0" cy="26460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9720" y="3632040"/>
              <a:ext cx="0" cy="33192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19720" y="2012760"/>
              <a:ext cx="0" cy="40356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629400" y="3156480"/>
              <a:ext cx="457200" cy="1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8001000" y="3832560"/>
              <a:ext cx="457200" cy="1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6629400" y="4170600"/>
              <a:ext cx="457200" cy="1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05120" y="3155400"/>
              <a:ext cx="457200" cy="1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905120" y="4304880"/>
              <a:ext cx="457200" cy="108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85800" y="3833640"/>
              <a:ext cx="457200" cy="144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8280" y="5718240"/>
              <a:ext cx="4114800" cy="331920"/>
            </a:xfrm>
            <a:prstGeom prst="rect">
              <a:avLst/>
            </a:prstGeom>
            <a:gradFill rotWithShape="0">
              <a:gsLst>
                <a:gs pos="0">
                  <a:srgbClr val="9900cc"/>
                </a:gs>
                <a:gs pos="50000">
                  <a:srgbClr val="ffff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d86"/>
                  </a:solidFill>
                  <a:latin typeface="Times New Roman"/>
                </a:rPr>
                <a:t>Manejo de la Cadena de Ven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2120" y="7621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d4d4d"/>
                </a:solidFill>
                <a:latin typeface="Arial"/>
              </a:rPr>
              <a:t>Planeación estratégica orientada hacia el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1600200"/>
            <a:ext cx="1447920" cy="5335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1600200"/>
            <a:ext cx="1295280" cy="228600"/>
          </a:xfrm>
          <a:custGeom>
            <a:avLst/>
            <a:gdLst>
              <a:gd name="textAreaLeft" fmla="*/ 226440 w 1295280"/>
              <a:gd name="textAreaRight" fmla="*/ 939240 w 12952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66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22096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2d86"/>
                </a:solidFill>
                <a:latin typeface="Times New Roman"/>
              </a:rPr>
              <a:t>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37440" y="213372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002d86"/>
                </a:solidFill>
                <a:latin typeface="Times New Roman"/>
              </a:rPr>
              <a:t>H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775400">
            <a:off x="874800" y="5373720"/>
            <a:ext cx="1511280" cy="253800"/>
          </a:xfrm>
          <a:prstGeom prst="rightArrow">
            <a:avLst>
              <a:gd name="adj1" fmla="val 50000"/>
              <a:gd name="adj2" fmla="val 1488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838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4d4d4d"/>
                </a:solidFill>
                <a:latin typeface="Arial"/>
              </a:rPr>
              <a:t>Estructura tradicional versus la de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1752480"/>
            <a:ext cx="49528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Crear una organización orientada al mercado requiere:  líder con imaginación , visión, valor y ser capaz de renunciar al poder sobre la organiz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Capacita al personal , les brinda confianz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-685800"/>
            <a:ext cx="3275640" cy="3428640"/>
            <a:chOff x="990720" y="-685800"/>
            <a:chExt cx="3275640" cy="3428640"/>
          </a:xfrm>
        </p:grpSpPr>
        <p:sp>
          <p:nvSpPr>
            <p:cNvPr id="145" name=""/>
            <p:cNvSpPr/>
            <p:nvPr/>
          </p:nvSpPr>
          <p:spPr>
            <a:xfrm>
              <a:off x="990720" y="-685800"/>
              <a:ext cx="2731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CIUDADAN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1185840" y="2075760"/>
              <a:ext cx="1178280" cy="6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666520" y="2242800"/>
              <a:ext cx="1599840" cy="0"/>
            </a:xfrm>
            <a:prstGeom prst="line">
              <a:avLst/>
            </a:prstGeom>
            <a:ln w="38160">
              <a:solidFill>
                <a:srgbClr val="99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2120" y="3352680"/>
            <a:ext cx="4038480" cy="3048120"/>
            <a:chOff x="762120" y="3352680"/>
            <a:chExt cx="4038480" cy="3048120"/>
          </a:xfrm>
        </p:grpSpPr>
        <p:sp>
          <p:nvSpPr>
            <p:cNvPr id="149" name="Pyr1"/>
            <p:cNvSpPr/>
            <p:nvPr/>
          </p:nvSpPr>
          <p:spPr>
            <a:xfrm>
              <a:off x="2333520" y="3352680"/>
              <a:ext cx="905040" cy="6753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Pyr2"/>
            <p:cNvSpPr/>
            <p:nvPr/>
          </p:nvSpPr>
          <p:spPr>
            <a:xfrm>
              <a:off x="1809360" y="4028040"/>
              <a:ext cx="1948680" cy="7923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Pyr3"/>
            <p:cNvSpPr/>
            <p:nvPr/>
          </p:nvSpPr>
          <p:spPr>
            <a:xfrm>
              <a:off x="1290960" y="4820760"/>
              <a:ext cx="2985480" cy="791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Pyr4"/>
            <p:cNvSpPr/>
            <p:nvPr/>
          </p:nvSpPr>
          <p:spPr>
            <a:xfrm>
              <a:off x="762120" y="5608440"/>
              <a:ext cx="4038480" cy="79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752480" y="586728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            </a:t>
            </a: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Empleados pri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lí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40384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interme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3581280"/>
            <a:ext cx="102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Dire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419720" y="3352320"/>
            <a:ext cx="4038480" cy="3048120"/>
            <a:chOff x="4419720" y="3352320"/>
            <a:chExt cx="4038480" cy="3048120"/>
          </a:xfrm>
        </p:grpSpPr>
        <p:sp>
          <p:nvSpPr>
            <p:cNvPr id="158" name="Pyr1"/>
            <p:cNvSpPr/>
            <p:nvPr/>
          </p:nvSpPr>
          <p:spPr>
            <a:xfrm rot="10800000">
              <a:off x="5981760" y="5725080"/>
              <a:ext cx="905040" cy="6753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Pyr2"/>
            <p:cNvSpPr/>
            <p:nvPr/>
          </p:nvSpPr>
          <p:spPr>
            <a:xfrm rot="10800000">
              <a:off x="5462280" y="4932720"/>
              <a:ext cx="1948680" cy="7923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yr3"/>
            <p:cNvSpPr/>
            <p:nvPr/>
          </p:nvSpPr>
          <p:spPr>
            <a:xfrm rot="10800000">
              <a:off x="4943880" y="4140720"/>
              <a:ext cx="2985480" cy="791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yr4"/>
            <p:cNvSpPr/>
            <p:nvPr/>
          </p:nvSpPr>
          <p:spPr>
            <a:xfrm rot="10800000">
              <a:off x="4419720" y="3352320"/>
              <a:ext cx="4038480" cy="79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410080" y="342900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            </a:t>
            </a: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CL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191120"/>
            <a:ext cx="3505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Empleados pri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lí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43600" y="4800600"/>
            <a:ext cx="4495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interme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Dire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400" spc="-1" strike="noStrike">
                <a:solidFill>
                  <a:srgbClr val="4d4d4d"/>
                </a:solidFill>
                <a:latin typeface="Arial"/>
              </a:rPr>
              <a:t>gn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6:27:28Z</dcterms:created>
  <dc:creator>Luis</dc:creator>
  <dc:description/>
  <dc:language>en-US</dc:language>
  <cp:lastModifiedBy>jenmoore</cp:lastModifiedBy>
  <cp:lastPrinted>2003-08-27T18:44:08Z</cp:lastPrinted>
  <dcterms:modified xsi:type="dcterms:W3CDTF">2004-01-27T15:47:46Z</dcterms:modified>
  <cp:revision>47</cp:revision>
  <dc:subject/>
  <dc:title>Plan de Incentivos</dc:title>
</cp:coreProperties>
</file>