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1DF-231B-4AA7-9ABB-66486C76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4AD-7F52-44A5-9C29-9CE92235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5FE-FDC7-4039-A794-30E7B34B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217-E128-4FA3-853C-E405C0A5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D939-1307-4D42-9299-66328530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073D-3E3C-4E36-B15C-E0C497E5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9601-9448-436F-AC67-65F91928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B344-92EA-48D3-B518-902E844E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10EA-FFCC-453F-8C83-A287761F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3293-E7E2-49DA-AA58-283C067C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5DFE-14B8-4CB9-934E-A086EA88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556-B2CB-4319-90D7-DF77A426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7A4F-5E78-46B6-BC27-84C67F22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45BE-A81C-42C5-985C-011FBF8C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E03B-B096-40B1-B2B2-D280D5F7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D953-71F1-4487-8FC1-318F434B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58D3-E4D6-4A28-A839-31F02A85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A19-F2EF-4570-A799-4E7E105C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22C-F14C-478A-98AC-126F98CB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517-153E-467C-A5DC-53DE4AD3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F43-C7DC-454C-93B7-A81C4892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AE3-DE18-4D80-88AA-EF84F280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4AE-F8E7-4CAB-9398-7AEAEC9F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92A-29C3-4FBE-8227-55CC7263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0264-AE8B-4717-BAF1-23B47DED863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1330-DD7D-47A5-ACAF-6314323A29B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600" spc="-1" strike="noStrike">
                <a:solidFill>
                  <a:srgbClr val="006633"/>
                </a:solidFill>
                <a:latin typeface="Garamond"/>
              </a:rPr>
              <a:t>Planeación estratégica para la ventaja competitiva.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819520" y="32000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arketing”. Lamb, Hair &amp; McDaniel. Cap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4419720"/>
            <a:ext cx="41324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5f5f5f"/>
                </a:solidFill>
                <a:latin typeface="Verdana"/>
              </a:rPr>
              <a:t>Grupo #3:</a:t>
            </a:r>
            <a:r>
              <a:rPr b="0" lang="es-CR" sz="20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5f5f5f"/>
                </a:solidFill>
                <a:latin typeface="Verdana"/>
              </a:rPr>
              <a:t>Jorge Le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5f5f5f"/>
                </a:solidFill>
                <a:latin typeface="Verdana"/>
              </a:rPr>
              <a:t>Laura Ort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5f5f5f"/>
                </a:solidFill>
                <a:latin typeface="Verdana"/>
              </a:rPr>
              <a:t>Ronald Por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DBF8-C135-4103-B738-1572BFC459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Creación de ventaja competitiva futu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Ventaja competitiva sostenible:  competencia no la puede copi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Posición únic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Orig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Activos de producción (patentes, derechos de registro, ubicación, tecnología y equipo superior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286-4D6A-4659-B5F5-EF418F4AF1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Direcciones estratégic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Análisis FODA + ID ventaja competitiva = evaluar dirección de la empre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Pasos siguien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Buscar ventana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Seleccionar alternativa estratég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F40-DB32-4692-BE7C-DB217263C3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Ventana Estratég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91600" y="2277000"/>
            <a:ext cx="6606000" cy="1668600"/>
            <a:chOff x="1191600" y="2277000"/>
            <a:chExt cx="6606000" cy="1668600"/>
          </a:xfrm>
        </p:grpSpPr>
        <p:sp>
          <p:nvSpPr>
            <p:cNvPr id="145" name="_s119815"/>
            <p:cNvSpPr/>
            <p:nvPr/>
          </p:nvSpPr>
          <p:spPr>
            <a:xfrm>
              <a:off x="4295520" y="2277000"/>
              <a:ext cx="1668960" cy="1668600"/>
            </a:xfrm>
            <a:prstGeom prst="ellipse">
              <a:avLst/>
            </a:prstGeom>
            <a:solidFill>
              <a:srgbClr val="3b812f">
                <a:alpha val="50000"/>
              </a:srgbClr>
            </a:solidFill>
            <a:ln w="468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19816"/>
            <p:cNvSpPr/>
            <p:nvPr/>
          </p:nvSpPr>
          <p:spPr>
            <a:xfrm>
              <a:off x="6129000" y="2902320"/>
              <a:ext cx="166860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500" spc="-1" strike="noStrike">
                  <a:solidFill>
                    <a:srgbClr val="000000"/>
                  </a:solidFill>
                  <a:latin typeface="Arial"/>
                </a:rPr>
                <a:t>Competenci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500" spc="-1" strike="noStrike">
                  <a:solidFill>
                    <a:srgbClr val="000000"/>
                  </a:solidFill>
                  <a:latin typeface="Arial"/>
                </a:rPr>
                <a:t>de la empres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19817"/>
            <p:cNvSpPr/>
            <p:nvPr/>
          </p:nvSpPr>
          <p:spPr>
            <a:xfrm>
              <a:off x="3028680" y="2277000"/>
              <a:ext cx="1668960" cy="1668600"/>
            </a:xfrm>
            <a:prstGeom prst="ellipse">
              <a:avLst/>
            </a:prstGeom>
            <a:solidFill>
              <a:srgbClr val="996600">
                <a:alpha val="50000"/>
              </a:srgbClr>
            </a:solidFill>
            <a:ln w="46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19818"/>
            <p:cNvSpPr/>
            <p:nvPr/>
          </p:nvSpPr>
          <p:spPr>
            <a:xfrm>
              <a:off x="1191600" y="2902320"/>
              <a:ext cx="166860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500" spc="-1" strike="noStrike">
                  <a:solidFill>
                    <a:srgbClr val="000000"/>
                  </a:solidFill>
                  <a:latin typeface="Arial"/>
                </a:rPr>
                <a:t>Requisitos Clav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500" spc="-1" strike="noStrike">
                  <a:solidFill>
                    <a:srgbClr val="000000"/>
                  </a:solidFill>
                  <a:latin typeface="Arial"/>
                </a:rPr>
                <a:t>de un mercado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886200" y="1676520"/>
            <a:ext cx="5335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860-0090-4108-A8D5-96E71C78BB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Alternativas Estratégic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2952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6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Produc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6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Actu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6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Produc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6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Nuev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etración de mercad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o de produc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ev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o de Mercad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sificació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8FA-11E0-4F20-9AE0-0389D22023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Matriz de portafol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133720" y="1371600"/>
          <a:ext cx="6476400" cy="3048120"/>
        </p:xfrm>
        <a:graphic>
          <a:graphicData uri="http://schemas.openxmlformats.org/drawingml/2006/table">
            <a:tbl>
              <a:tblPr/>
              <a:tblGrid>
                <a:gridCol w="3238200"/>
                <a:gridCol w="323820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3205440" y="4952880"/>
            <a:ext cx="42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Dominio de participación d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(con respecto al competidor más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5680" y="45147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41880" y="45133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95480" y="48769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-1105920" y="2602440"/>
            <a:ext cx="35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Tasa de crecimiento d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(en cantidades const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9520" y="1981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9520" y="35053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295280" y="1752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47000" y="224172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Verdana"/>
              </a:rPr>
              <a:t>Est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44280" y="323676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Vac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54680" y="156060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Ni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60160" y="3276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P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1676520"/>
            <a:ext cx="53352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3505320"/>
            <a:ext cx="838080" cy="685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2209680"/>
            <a:ext cx="53316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3276720"/>
            <a:ext cx="45720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631-14B2-418B-BBFB-2B8A901DB1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Cosechar.  Todas a excepción de estrel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Elimin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Matriz de Portafol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4832280" y="1066680"/>
            <a:ext cx="685800" cy="6098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12400" y="16318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Verdana"/>
              </a:rPr>
              <a:t>Est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84720" y="1447920"/>
            <a:ext cx="1066680" cy="30456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30240" y="2590920"/>
            <a:ext cx="1219320" cy="990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136240" y="259884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Vac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3048120"/>
            <a:ext cx="1066680" cy="30456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343400" y="4724280"/>
            <a:ext cx="1573200" cy="1247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127320" y="480060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Ni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162920" y="4724280"/>
            <a:ext cx="961920" cy="1295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631560" y="5119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P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4572000"/>
            <a:ext cx="1981080" cy="1600200"/>
          </a:xfrm>
          <a:prstGeom prst="noSmoking">
            <a:avLst>
              <a:gd name="adj" fmla="val 632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4495680"/>
            <a:ext cx="1981080" cy="1600200"/>
          </a:xfrm>
          <a:prstGeom prst="noSmoking">
            <a:avLst>
              <a:gd name="adj" fmla="val 632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AEA-0623-40A0-A31C-26C86C7588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800" spc="-1" strike="noStrike">
                <a:solidFill>
                  <a:srgbClr val="006633"/>
                </a:solidFill>
                <a:latin typeface="Garamond"/>
              </a:rPr>
              <a:t>Matriz de atractivo del mercado/ fuerza de la compañí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819520" y="1600200"/>
          <a:ext cx="5867280" cy="3048120"/>
        </p:xfrm>
        <a:graphic>
          <a:graphicData uri="http://schemas.openxmlformats.org/drawingml/2006/table">
            <a:tbl>
              <a:tblPr/>
              <a:tblGrid>
                <a:gridCol w="1955880"/>
                <a:gridCol w="1955520"/>
                <a:gridCol w="1955880"/>
              </a:tblGrid>
              <a:tr h="101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3414960" y="4722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76240" y="4722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99000" y="472284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Déb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9040" y="18651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15640" y="29322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97720" y="39988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4520" y="52182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Posición del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4120" y="278748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Atra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d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8680" y="17892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Alto atractivo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88080" y="251460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Mediano atra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25360" y="35956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Bajo atractivo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1676520"/>
            <a:ext cx="533520" cy="457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362320"/>
            <a:ext cx="685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3962520"/>
            <a:ext cx="45720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3962520"/>
            <a:ext cx="38124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2209680"/>
            <a:ext cx="38124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191120" y="5181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28800" y="1981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91F-880D-4463-B6B5-3F88FC8F3F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Planeación Estratég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33960" y="1828800"/>
            <a:ext cx="190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cimiento a larg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38360"/>
            <a:ext cx="3048120" cy="1371600"/>
          </a:xfrm>
          <a:prstGeom prst="parallelogram">
            <a:avLst>
              <a:gd name="adj" fmla="val 55558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1638360"/>
            <a:ext cx="3048120" cy="1371600"/>
          </a:xfrm>
          <a:prstGeom prst="parallelogram">
            <a:avLst>
              <a:gd name="adj" fmla="val 55558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1981080"/>
            <a:ext cx="990720" cy="6858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3352680"/>
            <a:ext cx="914400" cy="1295640"/>
          </a:xfrm>
          <a:custGeom>
            <a:avLst/>
            <a:gdLst>
              <a:gd name="textAreaLeft" fmla="*/ 122400 w 914400"/>
              <a:gd name="textAreaRight" fmla="*/ 792000 w 9144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817988"/>
                <a:lnTo>
                  <a:pt x="14891" y="21226"/>
                </a:lnTo>
                <a:lnTo>
                  <a:pt x="21600" y="17280"/>
                </a:lnTo>
                <a:lnTo>
                  <a:pt x="14891" y="12586"/>
                </a:lnTo>
                <a:lnTo>
                  <a:pt x="14891" y="14746"/>
                </a:lnTo>
                <a:arcTo wR="21600" hR="7560" stAng="7982012" swAng="246055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3962520"/>
            <a:ext cx="579096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 – Objetivos y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mpeño actual vs esp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7EF-433B-4450-818A-83FC6E3E28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800" spc="-1" strike="noStrike">
                <a:solidFill>
                  <a:srgbClr val="006633"/>
                </a:solidFill>
                <a:latin typeface="Garamond"/>
              </a:rPr>
              <a:t>El</a:t>
            </a:r>
            <a:br>
              <a:rPr sz="3800"/>
            </a:br>
            <a:r>
              <a:rPr b="0" lang="es-CR" sz="3800" spc="-1" strike="noStrike">
                <a:solidFill>
                  <a:srgbClr val="006633"/>
                </a:solidFill>
                <a:latin typeface="Garamond"/>
              </a:rPr>
              <a:t>proceso </a:t>
            </a:r>
            <a:br>
              <a:rPr sz="3800"/>
            </a:br>
            <a:r>
              <a:rPr b="0" lang="es-CR" sz="3800" spc="-1" strike="noStrike">
                <a:solidFill>
                  <a:srgbClr val="006633"/>
                </a:solidFill>
                <a:latin typeface="Garamond"/>
              </a:rPr>
              <a:t>del</a:t>
            </a:r>
            <a:br>
              <a:rPr sz="3800"/>
            </a:br>
            <a:r>
              <a:rPr b="0" lang="es-CR" sz="3800" spc="-1" strike="noStrike">
                <a:solidFill>
                  <a:srgbClr val="006633"/>
                </a:solidFill>
                <a:latin typeface="Garamond"/>
              </a:rPr>
              <a:t>market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304920"/>
            <a:ext cx="1295640" cy="5331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990720"/>
            <a:ext cx="1295640" cy="5331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676520"/>
            <a:ext cx="1295640" cy="5331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F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7" idx="2"/>
            <a:endCxn id="98" idx="0"/>
          </p:cNvCxnSpPr>
          <p:nvPr/>
        </p:nvCxnSpPr>
        <p:spPr>
          <a:xfrm>
            <a:off x="4914720" y="838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>
            <a:off x="4914720" y="1523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02" name=""/>
          <p:cNvGrpSpPr/>
          <p:nvPr/>
        </p:nvGrpSpPr>
        <p:grpSpPr>
          <a:xfrm>
            <a:off x="2895480" y="2362320"/>
            <a:ext cx="4038480" cy="3124080"/>
            <a:chOff x="2895480" y="2362320"/>
            <a:chExt cx="4038480" cy="3124080"/>
          </a:xfrm>
        </p:grpSpPr>
        <p:sp>
          <p:nvSpPr>
            <p:cNvPr id="103" name=""/>
            <p:cNvSpPr/>
            <p:nvPr/>
          </p:nvSpPr>
          <p:spPr>
            <a:xfrm>
              <a:off x="2895480" y="2362320"/>
              <a:ext cx="4038480" cy="312408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1800" spc="-1" strike="noStrike">
                  <a:solidFill>
                    <a:srgbClr val="000000"/>
                  </a:solidFill>
                  <a:latin typeface="Arial"/>
                </a:rPr>
                <a:t>Estrategia de 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1280" y="2743200"/>
              <a:ext cx="2629080" cy="533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1600" spc="-1" strike="noStrike">
                  <a:solidFill>
                    <a:srgbClr val="000000"/>
                  </a:solidFill>
                  <a:latin typeface="Arial"/>
                </a:rPr>
                <a:t>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1600" spc="-1" strike="noStrike">
                  <a:solidFill>
                    <a:srgbClr val="000000"/>
                  </a:solidFill>
                  <a:latin typeface="Arial"/>
                </a:rPr>
                <a:t>del mercado obj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200400" y="3505320"/>
              <a:ext cx="3352680" cy="1828800"/>
              <a:chOff x="3200400" y="3505320"/>
              <a:chExt cx="3352680" cy="1828800"/>
            </a:xfrm>
          </p:grpSpPr>
          <p:sp>
            <p:nvSpPr>
              <p:cNvPr id="106" name=""/>
              <p:cNvSpPr/>
              <p:nvPr/>
            </p:nvSpPr>
            <p:spPr>
              <a:xfrm>
                <a:off x="3200400" y="3505320"/>
                <a:ext cx="335268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1800" spc="-1" strike="noStrike">
                    <a:solidFill>
                      <a:srgbClr val="000000"/>
                    </a:solidFill>
                    <a:latin typeface="Arial"/>
                  </a:rPr>
                  <a:t>Mezcla de Market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04960" y="4038840"/>
                <a:ext cx="129492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1400" spc="-1" strike="noStrike">
                    <a:solidFill>
                      <a:srgbClr val="000000"/>
                    </a:solidFill>
                    <a:latin typeface="Arial"/>
                  </a:rPr>
                  <a:t>Produc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52880" y="4038840"/>
                <a:ext cx="129492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1400" spc="-1" strike="noStrike">
                    <a:solidFill>
                      <a:srgbClr val="000000"/>
                    </a:solidFill>
                    <a:latin typeface="Arial"/>
                  </a:rPr>
                  <a:t>Distribu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04960" y="4686480"/>
                <a:ext cx="129492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1400" spc="-1" strike="noStrike">
                    <a:solidFill>
                      <a:srgbClr val="000000"/>
                    </a:solidFill>
                    <a:latin typeface="Arial"/>
                  </a:rPr>
                  <a:t>Promo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52880" y="4686480"/>
                <a:ext cx="129492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1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1" name=""/>
            <p:cNvCxnSpPr>
              <a:stCxn id="104" idx="2"/>
              <a:endCxn id="106" idx="0"/>
            </p:cNvCxnSpPr>
            <p:nvPr/>
          </p:nvCxnSpPr>
          <p:spPr>
            <a:xfrm flipH="1">
              <a:off x="4875840" y="3276360"/>
              <a:ext cx="1980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12" name=""/>
          <p:cNvSpPr/>
          <p:nvPr/>
        </p:nvSpPr>
        <p:spPr>
          <a:xfrm>
            <a:off x="3695760" y="5715000"/>
            <a:ext cx="2438280" cy="838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Implementa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valuación,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9" idx="2"/>
            <a:endCxn id="103" idx="0"/>
          </p:cNvCxnSpPr>
          <p:nvPr/>
        </p:nvCxnSpPr>
        <p:spPr>
          <a:xfrm>
            <a:off x="49147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3" idx="2"/>
            <a:endCxn id="112" idx="0"/>
          </p:cNvCxnSpPr>
          <p:nvPr/>
        </p:nvCxnSpPr>
        <p:spPr>
          <a:xfrm>
            <a:off x="4914720" y="54860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97" idx="3"/>
            <a:endCxn id="98" idx="3"/>
          </p:cNvCxnSpPr>
          <p:nvPr/>
        </p:nvCxnSpPr>
        <p:spPr>
          <a:xfrm>
            <a:off x="5562720" y="571320"/>
            <a:ext cx="2160" cy="686520"/>
          </a:xfrm>
          <a:prstGeom prst="bentConnector3">
            <a:avLst>
              <a:gd name="adj1" fmla="val 1002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8" idx="3"/>
            <a:endCxn id="99" idx="3"/>
          </p:cNvCxnSpPr>
          <p:nvPr/>
        </p:nvCxnSpPr>
        <p:spPr>
          <a:xfrm>
            <a:off x="5562720" y="1257120"/>
            <a:ext cx="2160" cy="686520"/>
          </a:xfrm>
          <a:prstGeom prst="bentConnector3">
            <a:avLst>
              <a:gd name="adj1" fmla="val 1013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99" idx="3"/>
            <a:endCxn id="103" idx="3"/>
          </p:cNvCxnSpPr>
          <p:nvPr/>
        </p:nvCxnSpPr>
        <p:spPr>
          <a:xfrm>
            <a:off x="5562720" y="1942920"/>
            <a:ext cx="1372320" cy="1981800"/>
          </a:xfrm>
          <a:prstGeom prst="bentConnector3">
            <a:avLst>
              <a:gd name="adj1" fmla="val 1166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03" idx="3"/>
            <a:endCxn id="112" idx="3"/>
          </p:cNvCxnSpPr>
          <p:nvPr/>
        </p:nvCxnSpPr>
        <p:spPr>
          <a:xfrm flipH="1">
            <a:off x="6133320" y="3924360"/>
            <a:ext cx="801000" cy="2210400"/>
          </a:xfrm>
          <a:prstGeom prst="bentConnector3">
            <a:avLst>
              <a:gd name="adj1" fmla="val -285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7" idx="1"/>
            <a:endCxn id="98" idx="1"/>
          </p:cNvCxnSpPr>
          <p:nvPr/>
        </p:nvCxnSpPr>
        <p:spPr>
          <a:xfrm flipH="1" flipV="1" rot="10800000">
            <a:off x="4266000" y="570600"/>
            <a:ext cx="2520" cy="686520"/>
          </a:xfrm>
          <a:prstGeom prst="bentConnector3">
            <a:avLst>
              <a:gd name="adj1" fmla="val -1001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98" idx="1"/>
            <a:endCxn id="99" idx="1"/>
          </p:cNvCxnSpPr>
          <p:nvPr/>
        </p:nvCxnSpPr>
        <p:spPr>
          <a:xfrm flipH="1" flipV="1" rot="10800000">
            <a:off x="4266000" y="1256400"/>
            <a:ext cx="2520" cy="686520"/>
          </a:xfrm>
          <a:prstGeom prst="bentConnector3">
            <a:avLst>
              <a:gd name="adj1" fmla="val -1001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99" idx="1"/>
            <a:endCxn id="103" idx="1"/>
          </p:cNvCxnSpPr>
          <p:nvPr/>
        </p:nvCxnSpPr>
        <p:spPr>
          <a:xfrm flipV="1" rot="10800000">
            <a:off x="2894760" y="1942200"/>
            <a:ext cx="1372320" cy="1981800"/>
          </a:xfrm>
          <a:prstGeom prst="bentConnector3">
            <a:avLst>
              <a:gd name="adj1" fmla="val 1166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03" idx="1"/>
            <a:endCxn id="112" idx="1"/>
          </p:cNvCxnSpPr>
          <p:nvPr/>
        </p:nvCxnSpPr>
        <p:spPr>
          <a:xfrm flipH="1" flipV="1" rot="10800000">
            <a:off x="2894400" y="3924000"/>
            <a:ext cx="801000" cy="2210400"/>
          </a:xfrm>
          <a:prstGeom prst="bentConnector3">
            <a:avLst>
              <a:gd name="adj1" fmla="val -285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A89-8750-4B79-887B-C779BCCE02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Declaración de la mis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Visión de largo plaz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Toma en cuen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8280" indent="-1789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Arial"/>
              </a:rPr>
              <a:t>Beneficios buscados por los clie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8280" indent="-1789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Arial"/>
              </a:rPr>
              <a:t>Condiciones ambientales existentes y previs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86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Ultracel está en el negocio de </a:t>
            </a:r>
            <a:r>
              <a:rPr b="0" i="1" lang="es-CR" sz="2600" spc="-1" strike="noStrike">
                <a:solidFill>
                  <a:srgbClr val="ff5050"/>
                </a:solidFill>
                <a:latin typeface="Arial"/>
              </a:rPr>
              <a:t>proporcionar tecnología</a:t>
            </a: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 avanzada de </a:t>
            </a:r>
            <a:r>
              <a:rPr b="0" i="1" lang="es-CR" sz="2600" spc="-1" strike="noStrike">
                <a:solidFill>
                  <a:srgbClr val="ff5050"/>
                </a:solidFill>
                <a:latin typeface="Arial"/>
              </a:rPr>
              <a:t>comunicaciones y servicios</a:t>
            </a: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 en las comunicaciones a </a:t>
            </a:r>
            <a:r>
              <a:rPr b="0" i="1" lang="es-CR" sz="2600" spc="-1" strike="noStrike">
                <a:solidFill>
                  <a:srgbClr val="ff5050"/>
                </a:solidFill>
                <a:latin typeface="Arial"/>
              </a:rPr>
              <a:t>usuarios de teléfonos móviles</a:t>
            </a: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46B-9494-4DDC-867B-90896ACB92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Objetivos del plan de marke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Permiten medir el desempeño del plan (actividad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Realistas, mensurables y específicos en cuanto a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Consistentes e indicarán las prioridades de la empre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Arial"/>
              </a:rPr>
              <a:t>Comunican la filosofía del mkt de la alta 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Arial"/>
              </a:rPr>
              <a:t>Orientan a los gerentes de menor ni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Arial"/>
              </a:rPr>
              <a:t>Motivadores (metas accesibles y desafiant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00"/>
                </a:solidFill>
                <a:latin typeface="Arial"/>
              </a:rPr>
              <a:t>Base para el contro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E90-F9C4-4BC0-97C9-FAB19877A0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Objetivos del plan de marketing</a:t>
            </a:r>
            <a:br>
              <a:rPr sz="4200"/>
            </a:b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Ejemp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 expresa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estro objetivo es obtener un rendimiento máximo de ut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en expresa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estro objetivo es alcanzar 10% sobre la inversión durante 2001, con un período de recuperación en las nuevas inversiones de no más de 4 a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CEF-CA1E-4EED-B4D1-26B58383ED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Análisis Situacion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Comprender el ambi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Análisis FO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133720" y="2590920"/>
          <a:ext cx="4876560" cy="2057400"/>
        </p:xfrm>
        <a:graphic>
          <a:graphicData uri="http://schemas.openxmlformats.org/drawingml/2006/table">
            <a:tbl>
              <a:tblPr/>
              <a:tblGrid>
                <a:gridCol w="2484360"/>
                <a:gridCol w="2392200"/>
              </a:tblGrid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Inter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Exter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z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rtun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l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az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423320" y="551484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Rastre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87692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3EE-F24E-45E8-973E-98369BAE00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Ventaja Competi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Características percibidos por el mercado meta como superio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Por Costo.  Maneras de reducir cost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Curvas de experi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Mano de obra eficiente. (industria maquila costur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Artículos y servicios en presentación austera. (Southwe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Nuevos métodos de prestación de servicios. (e-ticket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445-5D7B-4368-8BB0-AE89C2E83D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006633"/>
                </a:solidFill>
                <a:latin typeface="Garamond"/>
              </a:rPr>
              <a:t>Ventaja Competi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Diferenciación. algo único valio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Impresiones de valor. (frasco perfume Jo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Productos aumentados. Prodto o servicio cliente no espera. (tecnologí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Nicho. Pequeño segmento.  Empresa pequeñ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87A-B1E2-4316-A3A4-4A7F20F486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03:31:57Z</dcterms:created>
  <dc:creator>Ale</dc:creator>
  <dc:description/>
  <dc:language>en-US</dc:language>
  <cp:lastModifiedBy>Ale</cp:lastModifiedBy>
  <dcterms:modified xsi:type="dcterms:W3CDTF">2004-01-22T06:31:05Z</dcterms:modified>
  <cp:revision>82</cp:revision>
  <dc:subject/>
  <dc:title>Planeación estratégica para la ventaja competitiva. </dc:title>
</cp:coreProperties>
</file>