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BE95-53FD-45B9-AC7E-3799095C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3193-D92E-4C8D-AF27-88DF6BFA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4FD1-90CB-4AB6-98FA-2557EB0E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49E-FE42-469E-9694-FAF4B6BE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BA4C-91F8-493B-9EFF-1CA7819E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6B8E-5722-486F-9D30-3564AC62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506E-8199-4ACE-9024-DE5CD6D6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2E8B-92D1-47CD-A15D-ABFC2921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DBD0-C21B-4DF3-A294-2FC47EE7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7468-869D-4E54-B78D-74E97238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4D30-6DEF-4547-A501-AB6F7AA6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A32-5584-479F-9940-FC65F175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65B8-8839-4791-8B79-AE056945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C25B-DEC6-48B1-B645-1A97880B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323E-ED0C-4B86-99AE-3751FA43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5EAD-6D74-4C93-9C41-ABA250FE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FB96-8F8B-429E-A200-EFD43C8B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93C-D38D-4D35-A40D-B29C42CF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AB0-1AD9-435E-B5D4-292B1A34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778E-808C-4A12-ADE8-CD873A64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867F-2AB3-457D-810F-56006005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3483-233F-4453-B458-58C242E2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4174-EBF5-4F8C-82AA-4D5B56E6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C3B-DABB-4052-B660-0335D2F1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1ED7-7710-4B51-B487-807D9FF1E47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B8E3-9D41-4450-B90D-D766F3F14C7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38280" y="1600200"/>
            <a:ext cx="6248520" cy="3124080"/>
          </a:xfrm>
          <a:prstGeom prst="borderCallout1">
            <a:avLst>
              <a:gd name="adj1" fmla="val -988"/>
              <a:gd name="adj2" fmla="val -6849"/>
              <a:gd name="adj3" fmla="val 21205"/>
              <a:gd name="adj4" fmla="val -6849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dd414"/>
                </a:solidFill>
                <a:latin typeface="Times New Roman"/>
              </a:rPr>
              <a:t>Yorleny Quesa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dd414"/>
                </a:solidFill>
                <a:latin typeface="Times New Roman"/>
              </a:rPr>
              <a:t>     </a:t>
            </a:r>
            <a:r>
              <a:rPr b="1" i="1" lang="en-US" sz="4400" spc="-1" strike="noStrike">
                <a:solidFill>
                  <a:srgbClr val="1dd414"/>
                </a:solidFill>
                <a:latin typeface="Times New Roman"/>
              </a:rPr>
              <a:t>Juan Carlos Jiméne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dd414"/>
                </a:solidFill>
                <a:latin typeface="Times New Roman"/>
              </a:rPr>
              <a:t>Melvin Gome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dd414"/>
                </a:solidFill>
                <a:latin typeface="Times New Roman"/>
              </a:rPr>
              <a:t>Jorge Cha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5562720"/>
            <a:ext cx="1371600" cy="83808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1dd414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924680" y="5486400"/>
            <a:ext cx="914400" cy="990720"/>
          </a:xfrm>
          <a:custGeom>
            <a:avLst/>
            <a:gdLst>
              <a:gd name="textAreaLeft" fmla="*/ 122400 w 914400"/>
              <a:gd name="textAreaRight" fmla="*/ 792000 w 914400"/>
              <a:gd name="textAreaTop" fmla="*/ 165960 h 990720"/>
              <a:gd name="textAreaBottom" fmla="*/ 7549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242" stAng="-5400000" swAng="5400000"/>
                <a:lnTo>
                  <a:pt x="21600" y="12836"/>
                </a:lnTo>
                <a:arcTo wR="21600" hR="7242" stAng="0" swAng="2608695"/>
                <a:lnTo>
                  <a:pt x="7200" y="21186"/>
                </a:lnTo>
                <a:lnTo>
                  <a:pt x="0" y="17280"/>
                </a:lnTo>
                <a:lnTo>
                  <a:pt x="7200" y="12546"/>
                </a:lnTo>
                <a:lnTo>
                  <a:pt x="7200" y="14069"/>
                </a:lnTo>
                <a:arcTo wR="21600" hR="7242" stAng="2608695" swAng="-2129219"/>
                <a:lnTo>
                  <a:pt x="19924" y="10039"/>
                </a:lnTo>
                <a:arcTo wR="21600" hR="7242" stAng="-479475" swAng="-4920525"/>
                <a:close/>
              </a:path>
              <a:path fill="darkenLess" w="21600" h="21600">
                <a:moveTo>
                  <a:pt x="0" y="0"/>
                </a:moveTo>
                <a:arcTo wR="21600" hR="7242" stAng="-5400000" swAng="5400000"/>
                <a:lnTo>
                  <a:pt x="21600" y="12836"/>
                </a:lnTo>
                <a:arcTo wR="21600" hR="7242" stAng="0" swAng="-479475"/>
                <a:lnTo>
                  <a:pt x="19924" y="10039"/>
                </a:lnTo>
                <a:arcTo wR="21600" hR="7242" stAng="-479475" swAng="-4920525"/>
                <a:close/>
              </a:path>
            </a:pathLst>
          </a:custGeom>
          <a:solidFill>
            <a:srgbClr val="1dd414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5486400"/>
            <a:ext cx="4572000" cy="1008720"/>
          </a:xfrm>
          <a:prstGeom prst="rect">
            <a:avLst/>
          </a:prstGeom>
          <a:solidFill>
            <a:srgbClr val="1dd414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CAPITULO 2: PLANEACION ESTRATEGICA DE LA VENTAJA COMPETIT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0574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0200" y="228600"/>
            <a:ext cx="6324480" cy="3886200"/>
          </a:xfrm>
          <a:prstGeom prst="rect">
            <a:avLst/>
          </a:prstGeom>
          <a:gradFill rotWithShape="0">
            <a:gsLst>
              <a:gs pos="0">
                <a:srgbClr val="1dd414"/>
              </a:gs>
              <a:gs pos="100000">
                <a:srgbClr val="0d6109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0000"/>
                </a:solidFill>
                <a:latin typeface="Times New Roman"/>
              </a:rPr>
              <a:t>GRACIAS POR SU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0000"/>
                </a:solidFill>
                <a:latin typeface="Times New Roman"/>
              </a:rPr>
              <a:t>ATENC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2773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380880"/>
            <a:ext cx="7238880" cy="685800"/>
          </a:xfrm>
          <a:prstGeom prst="wedgeRoundRectCallout">
            <a:avLst>
              <a:gd name="adj1" fmla="val -39384"/>
              <a:gd name="adj2" fmla="val 114351"/>
              <a:gd name="adj3" fmla="val 16667"/>
            </a:avLst>
          </a:prstGeom>
          <a:solidFill>
            <a:srgbClr val="99ff33"/>
          </a:solidFill>
          <a:ln cap="sq" w="1260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SCRIPCION DE LA ESTRATEGIA DE MARKE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4495680"/>
            <a:ext cx="8458200" cy="14479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ividad de seleccionar y describir uno o más mercados me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 de crear o mantener la mezcla de marketing que produz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ercambios mutuamente satisfac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373392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1676520"/>
            <a:ext cx="7543800" cy="99036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dentificar en qué segmento(s) hay que enfoca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3581280"/>
            <a:ext cx="3962520" cy="12956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álisis de oportun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 el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1500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191120" y="3809880"/>
            <a:ext cx="761760" cy="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3048120"/>
            <a:ext cx="3962520" cy="167616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traer a todo 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mercado con u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mezcla de mark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5181480"/>
            <a:ext cx="3962520" cy="167652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Concentrarse en 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solo seg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4876920"/>
            <a:ext cx="914400" cy="45720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638680"/>
            <a:ext cx="4419720" cy="121932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traer a varios seg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Con múltiples mezc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4876920"/>
            <a:ext cx="0" cy="60948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04920"/>
            <a:ext cx="6172200" cy="685800"/>
          </a:xfrm>
          <a:prstGeom prst="wedgeRoundRectCallout">
            <a:avLst>
              <a:gd name="adj1" fmla="val -39351"/>
              <a:gd name="adj2" fmla="val 93981"/>
              <a:gd name="adj3" fmla="val 16667"/>
            </a:avLst>
          </a:prstGeom>
          <a:solidFill>
            <a:srgbClr val="99ff33"/>
          </a:solidFill>
          <a:ln cap="sq" w="1260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STRATEGIA DEL MERCADO M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1905120"/>
            <a:ext cx="8458200" cy="121896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Mezcla distintiva de estrategias de producto, distribución (4 p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promoción y pre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638680" y="304920"/>
            <a:ext cx="3505320" cy="1398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880" y="3429000"/>
            <a:ext cx="2743200" cy="14479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TRATEGI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5181480"/>
            <a:ext cx="2743200" cy="14479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TRATEGI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ISTRIB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3429000"/>
            <a:ext cx="2743200" cy="14479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TRATEGI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ROMO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5105520"/>
            <a:ext cx="2743200" cy="14475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TRATEGI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304920"/>
            <a:ext cx="4419360" cy="685800"/>
          </a:xfrm>
          <a:prstGeom prst="wedgeRoundRectCallout">
            <a:avLst>
              <a:gd name="adj1" fmla="val -51259"/>
              <a:gd name="adj2" fmla="val 101851"/>
              <a:gd name="adj3" fmla="val 16667"/>
            </a:avLst>
          </a:prstGeom>
          <a:solidFill>
            <a:srgbClr val="99ff33"/>
          </a:solidFill>
          <a:ln cap="sq" w="1260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EZCLA DE MARK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2057400"/>
            <a:ext cx="8534160" cy="1066680"/>
          </a:xfrm>
          <a:prstGeom prst="rect">
            <a:avLst/>
          </a:prstGeom>
          <a:solidFill>
            <a:srgbClr val="a57527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MPLEMENTACION: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Ejecución de tareas específicas p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lcanzar  los obje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48520" y="0"/>
            <a:ext cx="2514600" cy="1781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3581280"/>
            <a:ext cx="8534160" cy="1067040"/>
          </a:xfrm>
          <a:prstGeom prst="rect">
            <a:avLst/>
          </a:prstGeom>
          <a:solidFill>
            <a:srgbClr val="a57527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VALUACION: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Medir el grado en que se alcanzan los obje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105520"/>
            <a:ext cx="8534160" cy="1066680"/>
          </a:xfrm>
          <a:prstGeom prst="rect">
            <a:avLst/>
          </a:prstGeom>
          <a:solidFill>
            <a:srgbClr val="a57527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NTROL: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Mecanismos para evaluar los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304920"/>
            <a:ext cx="4419360" cy="914400"/>
          </a:xfrm>
          <a:prstGeom prst="wedgeRoundRectCallout">
            <a:avLst>
              <a:gd name="adj1" fmla="val -46981"/>
              <a:gd name="adj2" fmla="val 109027"/>
              <a:gd name="adj3" fmla="val 16667"/>
            </a:avLst>
          </a:prstGeom>
          <a:solidFill>
            <a:srgbClr val="99ff33"/>
          </a:solidFill>
          <a:ln cap="sq" w="1260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GUIMIENTO DEL PLAN DE MARK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2057400"/>
            <a:ext cx="7543800" cy="1066680"/>
          </a:xfrm>
          <a:prstGeom prst="rect">
            <a:avLst/>
          </a:prstGeom>
          <a:solidFill>
            <a:srgbClr val="a57527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UDITORIA DE MARKETING: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Evaluación completa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sistemática y periód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1905120" cy="1781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5800" y="3657600"/>
            <a:ext cx="2438280" cy="129528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MPL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3657600"/>
            <a:ext cx="2438280" cy="129528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SISTEMA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334120"/>
            <a:ext cx="2895840" cy="129528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INDEPEND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181480"/>
            <a:ext cx="2438640" cy="1295640"/>
          </a:xfrm>
          <a:prstGeom prst="ellipse">
            <a:avLst/>
          </a:prstGeom>
          <a:solidFill>
            <a:srgbClr val="00cccc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PERIOD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304920"/>
            <a:ext cx="5562360" cy="609480"/>
          </a:xfrm>
          <a:prstGeom prst="wedgeRoundRectCallout">
            <a:avLst>
              <a:gd name="adj1" fmla="val -39953"/>
              <a:gd name="adj2" fmla="val 132291"/>
              <a:gd name="adj3" fmla="val 16667"/>
            </a:avLst>
          </a:prstGeom>
          <a:solidFill>
            <a:srgbClr val="99ff33"/>
          </a:solidFill>
          <a:ln cap="sq" w="1260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LANEACION ESTRATEGICA EFECT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057400"/>
            <a:ext cx="3124080" cy="1143000"/>
          </a:xfrm>
          <a:prstGeom prst="rect">
            <a:avLst/>
          </a:prstGeom>
          <a:solidFill>
            <a:srgbClr val="fcdefe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BE SER UN PROC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S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1817640" cy="1795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76720" y="3505320"/>
            <a:ext cx="3124080" cy="1143000"/>
          </a:xfrm>
          <a:prstGeom prst="rect">
            <a:avLst/>
          </a:prstGeom>
          <a:solidFill>
            <a:srgbClr val="fcdefe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 BASA EN 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REATIV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5105520"/>
            <a:ext cx="4419720" cy="1295280"/>
          </a:xfrm>
          <a:prstGeom prst="rect">
            <a:avLst/>
          </a:prstGeom>
          <a:solidFill>
            <a:srgbClr val="fcdefe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AY APOYO Y PARTICIPAC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 LA ALTA DIREC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04920"/>
            <a:ext cx="5562360" cy="609480"/>
          </a:xfrm>
          <a:prstGeom prst="wedgeRoundRectCallout">
            <a:avLst>
              <a:gd name="adj1" fmla="val -42208"/>
              <a:gd name="adj2" fmla="val 113023"/>
              <a:gd name="adj3" fmla="val 16667"/>
            </a:avLst>
          </a:prstGeom>
          <a:solidFill>
            <a:srgbClr val="99ff33"/>
          </a:solidFill>
          <a:ln cap="sq" w="1260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CASO FORD: CARRERA DE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676520"/>
            <a:ext cx="7543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Cómo utilizó Ford la fijación de metas en líneas para atraer a nuevos client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Siguió esa empresa una estrategia de desarrollo de mercado, penetración, desarrollo de producto, diversificación o una estrategia combinad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entajas diferenciales de Ford. ¿Le permiten obtener una ventaja competitiva sostenib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10280" y="4363920"/>
            <a:ext cx="21337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304920"/>
            <a:ext cx="7848360" cy="914400"/>
          </a:xfrm>
          <a:prstGeom prst="wedgeRoundRectCallout">
            <a:avLst>
              <a:gd name="adj1" fmla="val -37805"/>
              <a:gd name="adj2" fmla="val 92013"/>
              <a:gd name="adj3" fmla="val 16667"/>
            </a:avLst>
          </a:prstGeom>
          <a:solidFill>
            <a:srgbClr val="99ff33"/>
          </a:solidFill>
          <a:ln cap="sq" w="1260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CASO COMERCIALIZACION DE LA RECUPERACION POR LA VIA DE LA COME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676520"/>
            <a:ext cx="7543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Cuál es la misión de Lundhol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Cuál es la ventaja diferencial de este comedia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Quiénes componen su segmento de mercado meta? ¿Qué beneficios se recib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zcla de mark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rcado m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010280" y="4363920"/>
            <a:ext cx="21337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23:21:24Z</dcterms:created>
  <dc:creator>lanzoategui</dc:creator>
  <dc:description/>
  <dc:language>en-US</dc:language>
  <cp:lastModifiedBy>Oscar Vindas</cp:lastModifiedBy>
  <dcterms:modified xsi:type="dcterms:W3CDTF">2004-01-22T14:18:50Z</dcterms:modified>
  <cp:revision>561</cp:revision>
  <dc:subject/>
  <dc:title>ASUMIR RIESGOS</dc:title>
</cp:coreProperties>
</file>