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406-AD94-4728-8051-E557F907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9EA-9195-436D-B155-F8E4BC9E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748-DE68-4C59-9030-6156505B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AAF-B117-405A-AE6F-22A2751F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25C-BCCD-479B-9B79-CDD743FF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AA2-37C2-420D-B10A-8D591081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5A7-AB5C-4733-92C6-FC3ECEBC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6F0-7035-4501-9D0B-66E93AD6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C7C-CD5C-4B98-98DB-C782D69B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DCA-659F-4601-83B7-ABE6D197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C43-25BE-46EF-BDC1-707C43B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BC8-8807-4FAB-9F94-3FF708A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49F2-EF7A-4BFA-A93D-B17827A2160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0574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Sun Tzu y el arte de los nego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3733920"/>
            <a:ext cx="25905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iza Gutier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hristian Naran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rancina Oca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Juan Vicente V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400800" y="228600"/>
          <a:ext cx="251460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228600"/>
                    <a:ext cx="25146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193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Comparación del la estrategia militar escrita por el general chino Sun Tzu en su libro “El arte de la guerra” con el arte de hacer neg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8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Sun Tzu y el arte de los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27672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Ganar sin combatir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dominar un mercado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ecnología superior, liderazgo en marcas, precios y otros.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 debe conocer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os riesgos y participación del entorno en que se desarrolla la empresa y su produ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s-CR" sz="2000" spc="-1" strike="noStrike">
                <a:solidFill>
                  <a:srgbClr val="000000"/>
                </a:solidFill>
                <a:latin typeface="Tahoma"/>
              </a:rPr>
              <a:t>Eludir las fortalezas y atacar las debilidades del enemigo: </a:t>
            </a: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por cada debilidad de su competidor busque dos o más estrategias de ataque, preferiblemente por donde menos lo imagin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3623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ahoma"/>
              </a:rPr>
              <a:t>Principios a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licados a las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04920"/>
            <a:ext cx="86868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3.  E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ngañar y acopiar información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maximizar la información que se tiene del mercad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de vital importancia no solo conocer la competencia sino la propia organización; además tratar de ocultar información de mi propia organización ante los compet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er veloz y estar preparad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sto para superara a los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5.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dapte a su competidor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se debe moldear el pensamiento, decisiones y acciones de la competencia, alianzas estratégicas, relación con el consumidor, etc.  esto para llegar a una zona de confort, relajamiento y poder adelantars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6. 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jercer un liderazgo con carácter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os líderes deben fortalecer su carácter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permitir que el negocio conduzca la estrategia, sino que la estrategia conduzca 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914400"/>
            <a:ext cx="792504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eis reglas para realizar alianzas estratég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                     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vitar que los competidores unan fuerza con u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                     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la competencia tiene alianzas poderosos no los at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                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el ataque es necesario separe la competencia de sus ali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                     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ce sus propios aliados de forma háb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                     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coja los aliados cor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                   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para cuando comenzar y cuando terminar una alia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18:19:41Z</dcterms:created>
  <dc:creator>Microsoft</dc:creator>
  <dc:description/>
  <dc:language>en-US</dc:language>
  <cp:lastModifiedBy>aquiross</cp:lastModifiedBy>
  <dcterms:modified xsi:type="dcterms:W3CDTF">2004-01-26T13:34:36Z</dcterms:modified>
  <cp:revision>20</cp:revision>
  <dc:subject/>
  <dc:title>Presentación de PowerPoint</dc:title>
</cp:coreProperties>
</file>