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CDA9-9815-4BE1-A230-C01032265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1377-397A-4C6C-9A95-645C2122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37D0-77BE-4CD8-8694-1A2B74CBA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672F-06BB-4626-88C9-255CF8E4E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AAFD-B4FE-49BB-A5BA-137FEA605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0DF9-A266-4383-AE0F-69ED9913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9A55-E006-448E-AC98-4C4A08B5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E70D-EAD2-4728-903F-FCED85CB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F564-BD6C-4E40-AF3F-4D18B6D4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8BE8-A7F8-4D8D-ABC2-8ECC1D32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69BD-8617-4C2B-BC27-985A3272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F882-2D14-4100-8E07-A7600959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557C-186B-468F-91A6-D012BC63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8A7D3-2B5B-4BFD-8D1A-DB5633ED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D60E4-F188-4C23-A92F-74306162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2957-09EA-4C82-AD97-24F908A7C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6866E-5DD0-4577-AB92-CD527DB99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1F78-550A-4DC2-82B2-F0A1C5EC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F948-EFB0-4917-A12B-C4EB7E17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2D28-FF4A-4907-A57B-863A979D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249F-0866-4D83-B5F6-CA48DBA7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C106-A841-4C41-9DB0-03FAB453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256C-C865-4CB5-BBFD-E8ECC01E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3FB5-8E74-4BE2-9C04-3DC0FE72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" name="CITBANND" descr="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59C9-4C23-457D-869F-F9460921717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53" name="CITBANND" descr="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B880-D1B0-4C5D-8ED5-FC68C13273B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Capítulo 8:</a:t>
            </a:r>
            <a:br>
              <a:rPr sz="3200"/>
            </a:b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Sistemas de apoyo a las decisiones </a:t>
            </a:r>
            <a:br>
              <a:rPr sz="3200"/>
            </a:b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de marke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Grupo No.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Alejandra Avi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abel Kezember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aría Paz Ramíre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ablo Sa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Información de marke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Información diaria sobre avances en el campo del market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Se utiliza para tomar decisiones y generalmente es usada por los administrado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e01561_" descr=""/>
          <p:cNvPicPr/>
          <p:nvPr/>
        </p:nvPicPr>
        <p:blipFill>
          <a:blip r:embed="rId1"/>
          <a:stretch/>
        </p:blipFill>
        <p:spPr>
          <a:xfrm>
            <a:off x="5334120" y="4495680"/>
            <a:ext cx="3047760" cy="2024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Sistema de apoyo para la toma 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de decis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s un sistema que contiene información computariza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Interactivo y flexi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Accesi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Orienta al descubrimien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ermite obtener y manejar información para la toma de decis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Investigación de marke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roceso de planeación, captura y análisis de datos para la toma de decisiones en market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s una fuente importante de datos para los sistemas de inform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Tiene tres funciones:  descriptiva, de diagnóstico y de predi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Usos de la investigación de marke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ejora la calidad en la toma de decis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Se pueden detectar problemas a tiemp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Ayuda a comprender mejor los mercados y los alterta ante nuevas tendenci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ide la percepción de valor de sus bienes y servi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ide la satisfacción del cl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Pasos para elaborar una 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investigación de m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601"/>
              </a:spcBef>
              <a:buClr>
                <a:srgbClr val="ff63b1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Definición del problema u oportun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601"/>
              </a:spcBef>
              <a:buClr>
                <a:srgbClr val="ff63b1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laneación del diseño de investigación y obtención de datos prim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601"/>
              </a:spcBef>
              <a:buClr>
                <a:srgbClr val="ff63b1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specificación  de los procedimientos de muestre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601"/>
              </a:spcBef>
              <a:buClr>
                <a:srgbClr val="ff63b1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Recolección de da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601"/>
              </a:spcBef>
              <a:buClr>
                <a:srgbClr val="ff63b1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Análisis de da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601"/>
              </a:spcBef>
              <a:buClr>
                <a:srgbClr val="ff63b1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reparación del informe de result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601"/>
              </a:spcBef>
              <a:buClr>
                <a:srgbClr val="ff63b1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Seguimien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Planeación para el diseño de investigación y recopilación de datos primar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n este proceso se determina que preguntas se deben formular y responder, cómo  y cuando reunir esos datos y como analizarl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Los datos primarios son aquellos que han sido recopilados por primera vez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stos datos son actuales y se conoce su fu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Investigación por encuest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s la técnica más popular para captar datos prim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xisten varios tipos de encuesta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1. Entrevistas en ca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2. En centros comerci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3. Por teléfo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4. Por corr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5. Ejecutiv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6. Focu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00:32:14Z</dcterms:created>
  <dc:creator>Uso personal</dc:creator>
  <dc:description/>
  <dc:language>en-US</dc:language>
  <cp:lastModifiedBy>mramirez</cp:lastModifiedBy>
  <dcterms:modified xsi:type="dcterms:W3CDTF">2004-01-28T14:50:52Z</dcterms:modified>
  <cp:revision>10</cp:revision>
  <dc:subject/>
  <dc:title>Capítulo 8: Sistemas de apoyo a las decisiones  de marketing</dc:title>
</cp:coreProperties>
</file>