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9A0-104A-4FCB-BC41-0C20A8D7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DA7-7555-4AED-AD0C-5DDA2679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0AA-3AF9-4086-ADD0-AEE19571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E9A-8F9B-4897-8AAA-9FF3756D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C68-B753-4370-B5A7-946A8351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076-B73B-4DDF-8D71-CC7227D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091-1189-4F18-9DD1-BD8ABDF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742-3DAD-41AF-991B-1BA4404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075-7C6F-4761-8C7F-A0CFB2B5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523-F2B1-41C6-870B-E4B466A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665-C82F-4C83-AF3D-137C629C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DCC-8111-4B31-82DE-64B9BCE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72D7-FE8A-4D47-BA76-588D88CBC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981080"/>
            <a:ext cx="5867640" cy="2514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743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Tahoma"/>
              </a:rPr>
              <a:t>GRUPO #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1752480"/>
            <a:ext cx="7925040" cy="426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3049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ternet ha puesto de cabeza el mundo de la investigación de mark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1472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ite una mejor y mas rápida decisión a la inteligencia de nego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jora la capacidad a satisfacer las necesidades del cliente y cambios d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acilita la realización de los estudios de seguimiento y de investigación longutud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duce las actividades laboriosas y prolong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Ventajas de las Encuestas por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352680"/>
            <a:ext cx="22860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o Probabi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066680"/>
            <a:ext cx="44197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057400"/>
            <a:ext cx="441972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200400"/>
            <a:ext cx="441972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343400"/>
            <a:ext cx="44197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143000"/>
            <a:ext cx="4038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ahoma"/>
              </a:rPr>
              <a:t>Informe de rápido desarrollo en tiempo re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2209680"/>
            <a:ext cx="4038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Costos reducidos radicalm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352680"/>
            <a:ext cx="4038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Preguntas y datos personal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449600"/>
            <a:ext cx="4267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Mejor participacion del encuesta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3200" y="259092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19520" y="3352320"/>
            <a:ext cx="9903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809880"/>
            <a:ext cx="10666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3962520"/>
            <a:ext cx="99072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5181480"/>
            <a:ext cx="441972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5334120"/>
            <a:ext cx="4038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Contacto con los dificiles de alcanz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43200" y="1599840"/>
            <a:ext cx="99072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914400"/>
            <a:ext cx="7925040" cy="1981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stigación a base de 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219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 un sistema para reunir información de un solo grupo de entrevistados mediante la vigilancia de anuncios, promociones, precios a que están sujetos y las cosas que comp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114800"/>
            <a:ext cx="7925040" cy="1981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419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 la creación de un sistema que ayuda a los gerentes a evaluar a sus competidores y proveedores para volverse a su vez un competidor mas efe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3526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teligencia Compet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Tipos de Respue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1981080"/>
            <a:ext cx="5867640" cy="83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581280"/>
            <a:ext cx="586764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5105520"/>
            <a:ext cx="5867640" cy="99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0574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ahoma"/>
              </a:rPr>
              <a:t>Repuesta Abierta: Estimula una respuesta elaborada con las palabras del entrevi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65760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ahoma"/>
              </a:rPr>
              <a:t>Repuesta Cerrada: Entevista que pide al entrevistado seleccionar una lista limitada de respue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518148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ahoma"/>
              </a:rPr>
              <a:t>Repuesta Graduada: Es una repuesta cerrada diseñada para medir la intensidad de reacción del entrevi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Investigación por Observ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362320"/>
            <a:ext cx="5867640" cy="1904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666880"/>
            <a:ext cx="533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ahoma"/>
              </a:rPr>
              <a:t>Método de investigación que se apoya en tres  tipos de observación: personas observando a otras personas, personas observando actividades y maquinas observando a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Investigación por Experi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5867640" cy="1904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6668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ahoma"/>
              </a:rPr>
              <a:t>Otro método de investigación que se utiliza para apoyarse en la recolección de datos primarios. Se pueden utilizar diversas variables mientras se observan los efec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Mues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828800"/>
            <a:ext cx="586764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648320"/>
            <a:ext cx="586728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90512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ahoma"/>
              </a:rPr>
              <a:t>Probabilistica: todos los elementos de la población tienen la misma posibilidad de ser seleccion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Tahoma"/>
              </a:rPr>
              <a:t>No Probabilistica: Cualquier muestra en donde no se haga ningún esfuerzo para obtener una sección representativa de la pob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Errores Muest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600200"/>
            <a:ext cx="586764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2743200"/>
            <a:ext cx="5867640" cy="914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962520"/>
            <a:ext cx="586764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181480"/>
            <a:ext cx="5867640" cy="914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6002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 u="sng">
                <a:solidFill>
                  <a:srgbClr val="000000"/>
                </a:solidFill>
                <a:uFillTx/>
                <a:latin typeface="Tahoma"/>
              </a:rPr>
              <a:t>Medición</a:t>
            </a:r>
            <a:r>
              <a:rPr b="1" lang="es-CR" sz="1600" spc="-1" strike="noStrike">
                <a:solidFill>
                  <a:srgbClr val="000000"/>
                </a:solidFill>
                <a:latin typeface="Tahoma"/>
              </a:rPr>
              <a:t>: existe cuando hay una diferencia entre la información deseada y la información suministrada en el proceso de medi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819520"/>
            <a:ext cx="5410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Muestreo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es cuando la muestra no representa de alguna manera a la población objetiv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4038480"/>
            <a:ext cx="5410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Marco muestral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existe cuando la muestra difiere de la población objetiv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181480"/>
            <a:ext cx="5410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Aleatorio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se da porque la muestra es una representación imperfecta de la población glob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Tipos de Muest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352680"/>
            <a:ext cx="22860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05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ahoma"/>
              </a:rPr>
              <a:t>Probabili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371600"/>
            <a:ext cx="44197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1371600"/>
            <a:ext cx="4038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Aleatorio Simple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todos los miembros de la población tienen la misma posibilidad de ser seleccion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743200"/>
            <a:ext cx="44197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038480"/>
            <a:ext cx="44197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410080"/>
            <a:ext cx="44197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2743200"/>
            <a:ext cx="4038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Estratificado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se divide en grupos mutuamente excluyentes y se toman muestras aleatorias de cada grup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038480"/>
            <a:ext cx="4038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Racimos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se divide en grupos mutuamente excluyentes y se toman muestras aleatorias de racim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541008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Sistemático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se obtiene una lista de la población y luego se obtiene un intervalo de sal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19520" y="2057400"/>
            <a:ext cx="83808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19520" y="335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6576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733920"/>
            <a:ext cx="914400" cy="21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ahoma"/>
              </a:rPr>
              <a:t>Tipos de Muest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352680"/>
            <a:ext cx="22860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505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Tahoma"/>
              </a:rPr>
              <a:t>No Probabili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371600"/>
            <a:ext cx="44197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44197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4114800"/>
            <a:ext cx="44197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410080"/>
            <a:ext cx="441972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1371600"/>
            <a:ext cx="4038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Conveniencia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Selecciona los miembros de la población de los que es más fácil obtener informació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281952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Criterio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se basa en juicio personal de que los elementos escogidos  proporcionan información precis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411480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700" spc="-1" strike="noStrike" u="sng">
                <a:solidFill>
                  <a:srgbClr val="000000"/>
                </a:solidFill>
                <a:uFillTx/>
                <a:latin typeface="Tahoma"/>
              </a:rPr>
              <a:t>Cuotas</a:t>
            </a:r>
            <a:r>
              <a:rPr b="1" lang="es-CR" sz="1700" spc="-1" strike="noStrike">
                <a:solidFill>
                  <a:srgbClr val="000000"/>
                </a:solidFill>
                <a:latin typeface="Tahoma"/>
              </a:rPr>
              <a:t>: se selecciona un número prescrito de personas en diferentes categori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410080"/>
            <a:ext cx="4038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500" spc="-1" strike="noStrike" u="sng">
                <a:solidFill>
                  <a:srgbClr val="000000"/>
                </a:solidFill>
                <a:uFillTx/>
                <a:latin typeface="Tahoma"/>
              </a:rPr>
              <a:t>Bola de nieve</a:t>
            </a:r>
            <a:r>
              <a:rPr b="1" lang="es-CR" sz="1500" spc="-1" strike="noStrike">
                <a:solidFill>
                  <a:srgbClr val="000000"/>
                </a:solidFill>
                <a:latin typeface="Tahoma"/>
              </a:rPr>
              <a:t>: selección de entrevistados adicionales con base en referencias de los entevistados iniciales. Es necesario cuando es díficil de encontrar entevistados desead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43200" y="21337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819520" y="3352320"/>
            <a:ext cx="9903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809880"/>
            <a:ext cx="10666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962520"/>
            <a:ext cx="99072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295280"/>
            <a:ext cx="8382240" cy="5334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spués de reunir datos, seguimos con el análisis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37160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bulació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 de análisis de datos que permite que el analista observe las respuestas a una pregunta en relación con las respuestas a una o mas pregunta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2408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paración y presentación del i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Despues de concluir el analisis de los datos, el investigador preparara el informe y comunicara las concluciones y recomendaciones a la administr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876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s el paso final de una investigacion, donde se determinara porque la administracion cumplio o “no” con las recomendaciones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4:48:37Z</dcterms:created>
  <dc:creator>Arnoldo</dc:creator>
  <dc:description/>
  <dc:language>en-US</dc:language>
  <cp:lastModifiedBy>Heinz</cp:lastModifiedBy>
  <dcterms:modified xsi:type="dcterms:W3CDTF">2004-01-29T23:29:31Z</dcterms:modified>
  <cp:revision>12</cp:revision>
  <dc:subject/>
  <dc:title>Tipos de Respuestas</dc:title>
</cp:coreProperties>
</file>