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4F5-E5B0-45DF-800C-B376C4A2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7BC-BB33-4D54-A0BE-FEB35B1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067-D9AA-4B3A-9867-D3C3BB85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CC3-03F9-48E8-8AB1-FF37798A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E11C-5935-44B7-A3A0-DD9D170E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CF5F-B4D2-4329-B0AF-2D537463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1F32-63E2-4DFC-B605-F4EF19AB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1672-25E1-47B9-BF51-1F0F2F5B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B60F-C7AC-4D60-BF46-0D70B63B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ECD5-A145-411B-8AB9-653F63A2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29D3-274C-43DA-A26C-BBB426D3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E05-94DF-46A2-B72F-275B485A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2A9C-394D-4DED-AC4B-A202120E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0646-5D02-4AD8-BE1D-1D83EC97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1FF6-5BED-449F-8D1D-EFB77D26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11D9-DC39-4DF4-B09F-0116872E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ADE8-3742-488D-B29D-2697DD17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991-53A9-4CA3-895D-0F70B865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134-88B0-465E-AB24-95BCEF26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BDD-0065-4CF4-94AE-0EA8724E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E6F-9D37-408B-8400-DC3F6F57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DDF-DD60-4B93-B456-2739013A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876-6310-4B5D-980A-B62E00EF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199-F317-4292-8BDB-A47F2860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9A1A-C15A-41FD-AB76-1CC9427ADFF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5295-1CE7-4B88-8B7E-B8C415A5066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6094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58c"/>
                </a:solidFill>
                <a:latin typeface="Times New Roman"/>
              </a:rPr>
              <a:t>El radar corporativo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18288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El escáner corporativ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590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orporate Radar”, Albrecht Kar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42670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3886200"/>
            <a:ext cx="5181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Grupo #3: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 Jorge Le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 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Laura Orti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 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Ronald Porr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 </a:t>
            </a:r>
            <a:r>
              <a:rPr b="0" lang="es-CR" sz="2400" spc="-1" strike="noStrike">
                <a:solidFill>
                  <a:srgbClr val="b7c1eb"/>
                </a:solidFill>
                <a:latin typeface="Verdana"/>
              </a:rPr>
              <a:t>Luis Ura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38080" y="762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Tecnológic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1600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yuda a comprender los efectos que las innovaciones tecnológicas pueden o no tener en la empresas. Ej. Interne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2520"/>
            <a:ext cx="701064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microprocesadores económ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es univers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umento de la productividad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pendencias de inform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3048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onentes claves de este rada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38080" y="762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Social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16765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objetivo es comprender los factores sociales y culturales de cada mercado y cómo afectan la demanda de sus productos o servici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5320" y="312408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motores sociales tienen tres componente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3809880"/>
            <a:ext cx="78487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ores : principios primarios interiorizados. Ej. movilidad personal en U.S.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ndencias :  basadas en los valores. Ej. expresiones sexuales públic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flictos : los asuntos de valores que no se pueden resolver. Ej. “derecho a la vida” contra el “derecho a escoger”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38080" y="762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Polític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175248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naliza los efectos de la política, la legislación, así como los grupos de poder que influyen sobre la empresa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ceptos clave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373392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luencia y contr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incipio organizador del gobier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838080" y="762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Legal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676520"/>
            <a:ext cx="76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plora los patrones de las leyes, la actividad legal y los litigios que puedan afectar el éxito de la empres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05400" y="281952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ideracione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3581280"/>
            <a:ext cx="754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durez legal de la sociedad (organización nuev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sivos operativ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tección propiedad intelectu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gulaciones de industri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38080" y="7621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Geofísic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plora el entorno físico de las instalaciones y operaciones de la empres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2971800"/>
            <a:ext cx="784872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85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cosistem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5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ursos natur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5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ponibilidad de materia prim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5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ciones de transpor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5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rcanía a los centros de mayor población y fuentes de talento calific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5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sceptibilidad a desastres natur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5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fectos de criminalidad en ambiente cerca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62840" y="533520"/>
            <a:ext cx="426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Escáner corporativ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16765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tención contínua de 8 sub-ambientes extern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2362320"/>
            <a:ext cx="312408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 clien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 competido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conóm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cnológ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cia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g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ofís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38080" y="762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De Client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16765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tender a los clientes, tanto en aspectos demográficos  y de comportamiento, así como en los factores psicológicos que los motiva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048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ntidad: quiénes son nuestros clientes actuales-potenci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886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cesidades: conocimiento y satisfacción con nuestros produ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4724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ductas: entorno físico y social. Ej. compra cervez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5562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ores: principios rectores de la vida diari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8080" y="762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De Client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16765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valor  del cliente debe analizarse en 5 nivele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2514600"/>
            <a:ext cx="6095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du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ac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lu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l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Éxito comparti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38080" y="762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Competidor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752480"/>
            <a:ext cx="7620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alúa nuestra empresa frente a los competidores primarios y secundarios, y utiliza las ventajas para diferenciars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plora de la competenci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3657600"/>
            <a:ext cx="6096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ntid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tiv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talez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bilida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ductas actuales y potenci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3808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emás, analiza las siguientes variable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2438280"/>
            <a:ext cx="70102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pital circulante y flujo de caja lib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stos operativos baj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uerza de la 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tencial de crecimiento del merc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ceso a los clien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idad y capacidad competitiv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ntajas competitivas y oportunidades únic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762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Competidor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38080" y="762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Competidor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76240" y="182880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emás este radar explor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590920"/>
            <a:ext cx="70106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: habilidad que tiene una empresa de lograr la preferencia del cliente hacia sus productos y servici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ferenciación: habilidad de la empresa para crear espacio entre ella y sus competido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8080" y="762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Económic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alúa cómo los diversos indicadores económicos pueden crear o frustrar oportunidad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2590920"/>
            <a:ext cx="701064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P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aluación / Infl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po de camb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ado de la economía nacio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ado del comercio internacio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pita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38080" y="762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Económic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057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das estas variables afectan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2971800"/>
            <a:ext cx="70102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patrones de compra del consumi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conducta de la competenci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oportunidades que tenga la empre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18:14:49Z</dcterms:created>
  <dc:creator>djimenez</dc:creator>
  <dc:description/>
  <dc:language>en-US</dc:language>
  <cp:lastModifiedBy> </cp:lastModifiedBy>
  <dcterms:modified xsi:type="dcterms:W3CDTF">2004-01-29T10:09:54Z</dcterms:modified>
  <cp:revision>28</cp:revision>
  <dc:subject/>
  <dc:title>Presentación de PowerPoint</dc:title>
</cp:coreProperties>
</file>