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8.wmf" ContentType="image/x-wmf"/>
  <Override PartName="/ppt/media/image6.gif" ContentType="image/gif"/>
  <Override PartName="/ppt/media/image9.wmf" ContentType="image/x-wmf"/>
  <Override PartName="/ppt/media/image7.gif" ContentType="image/gi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7DBC-50F3-4F78-96A4-370D2F67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433-9B2C-4A09-8080-0027E396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5F9-7DBD-4648-8903-261A6E01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D489-9AAA-40A3-894F-82DB7639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4DB2-840F-41E5-B34E-6F00EC60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8008-9A32-4968-9A12-EFA206A8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B895-98B5-4510-A45E-70CFAEC2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3C1F-7611-4248-BBB7-352629FE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A8E6-F348-4DD2-89A0-A29DEE73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F72C-91A9-4DC6-8074-30FDFFD9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ACEB-3E79-4696-8B65-ADC3A50A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6BB-985D-4F6B-8ABA-B3749C39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9DC2-8297-492B-846F-66EFA0E5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D6D9-9FF7-4384-97E4-21AEAF4F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43EE-BC49-4CEE-89B0-15D237E8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9C1B-3482-40A5-A405-8520D16F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CE7A-8C83-4668-8C6A-94128D2C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CA23-DC7D-4703-A1E2-5C96618A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72D-BA36-481C-AADA-EC9706BE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51C-451C-4C66-A2C8-5C8C754C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5B38-0CD0-4811-8C97-2C6CC231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E34C-D1CF-457A-838A-D493E1B0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DC6-6DC6-452B-BD08-0A4ADFAC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330B-5F85-4227-9219-AAE7284B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1A07-2A07-4FA2-A777-96F5ECEFEC1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8B36-9602-4C8E-B838-F3FB1327ED1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590544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260280"/>
            <a:ext cx="8748720" cy="703440"/>
          </a:xfrm>
          <a:prstGeom prst="rect">
            <a:avLst/>
          </a:prstGeom>
          <a:solidFill>
            <a:srgbClr val="0000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ahoma"/>
              </a:rPr>
              <a:t>EL RADAR CORPORATIVO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341360"/>
            <a:ext cx="1727280" cy="4599720"/>
          </a:xfrm>
          <a:prstGeom prst="rect">
            <a:avLst/>
          </a:prstGeom>
          <a:solidFill>
            <a:srgbClr val="fca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Jorge Chav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Melvin Gómez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Juan Carlos jimenez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ahoma"/>
              </a:rPr>
              <a:t>Yorleny Ques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4360" y="1844640"/>
            <a:ext cx="4608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cab40"/>
                </a:solidFill>
                <a:latin typeface="Arial"/>
              </a:rPr>
              <a:t>MUCHAS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cab40"/>
                </a:solidFill>
                <a:latin typeface="Arial"/>
              </a:rPr>
              <a:t>GRACIAS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3880" y="304920"/>
            <a:ext cx="6400800" cy="1312920"/>
          </a:xfrm>
          <a:prstGeom prst="rect">
            <a:avLst/>
          </a:prstGeom>
          <a:solidFill>
            <a:srgbClr val="0000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b40"/>
                </a:solidFill>
                <a:latin typeface="Tahoma"/>
              </a:rPr>
              <a:t>QUE ES EL RADAR CORPORATIVO 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1844640"/>
            <a:ext cx="8172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ahoma"/>
              </a:rPr>
              <a:t>Es un sistema que permite pensar en forma integral el proceso estratégic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ahoma"/>
              </a:rPr>
              <a:t>Ayuda a los ejecutivos 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ahoma"/>
              </a:rPr>
              <a:t>Investig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ahoma"/>
              </a:rPr>
              <a:t>Estudiar y analiz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ahoma"/>
              </a:rPr>
              <a:t>Las multiples dimensiones del ambiente de negocio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84880" y="5013360"/>
            <a:ext cx="28591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484360" y="1676520"/>
            <a:ext cx="395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Permite recopilar información, en forma continua y exhaustiva-visión de futu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Tener presentes los ocho sub-ambien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3049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b40"/>
                </a:solidFill>
                <a:latin typeface="Tahoma"/>
              </a:rPr>
              <a:t>EL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cab40"/>
                </a:solidFill>
                <a:latin typeface="Tahoma"/>
              </a:rPr>
              <a:t>RADAR CORPORATIVO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>
            <a:lum contrast="38000"/>
          </a:blip>
          <a:stretch/>
        </p:blipFill>
        <p:spPr>
          <a:xfrm>
            <a:off x="7056360" y="3645000"/>
            <a:ext cx="208764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El pasado- crecimiento- hiper –crecimie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Década  de los años 8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se da un enfoque de gerencia industri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Década de los 9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Se da un enfoque de gran compete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cab40"/>
                </a:solidFill>
                <a:latin typeface="Tahoma"/>
              </a:rPr>
              <a:t>BASES DEL RADAR CORPORATIV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46000"/>
          </a:blip>
          <a:stretch/>
        </p:blipFill>
        <p:spPr>
          <a:xfrm>
            <a:off x="3276720" y="4941720"/>
            <a:ext cx="586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3049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Tahoma"/>
              </a:rPr>
              <a:t>GERENCIA DE SERVICIO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1413000"/>
            <a:ext cx="43927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SURGEN 3 GRANDES TENDENCI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GLOBALIZAC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INFORMACION BARA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DE CONSTRUCC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303960" y="2421000"/>
            <a:ext cx="2840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304920"/>
            <a:ext cx="6781680" cy="703440"/>
          </a:xfrm>
          <a:prstGeom prst="rect">
            <a:avLst/>
          </a:prstGeom>
          <a:solidFill>
            <a:srgbClr val="fca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54"/>
                </a:solidFill>
                <a:latin typeface="Tahoma"/>
              </a:rPr>
              <a:t>LA TERCERA OL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371600"/>
            <a:ext cx="7772400" cy="4952880"/>
          </a:xfrm>
          <a:prstGeom prst="rect">
            <a:avLst/>
          </a:prstGeom>
          <a:solidFill>
            <a:srgbClr val="fca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ahoma"/>
              </a:rPr>
              <a:t>LA PRIMERA O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ahoma"/>
              </a:rPr>
              <a:t>LA SEGUNDA O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ahoma"/>
              </a:rPr>
              <a:t>LA TERCERA O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ahoma"/>
              </a:rPr>
              <a:t>PRODUCTIVID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ahoma"/>
              </a:rPr>
              <a:t>VI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ahoma"/>
              </a:rPr>
              <a:t>TELECOMUNICACIO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ahoma"/>
              </a:rPr>
              <a:t>COMPUTACION OMNIPRESEN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2997360"/>
            <a:ext cx="1944720" cy="28728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24480" y="7650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39560" y="1974960"/>
            <a:ext cx="649296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003640" y="1125360"/>
          <a:ext cx="4140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125360"/>
                    <a:ext cx="4140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486400" y="1844640"/>
            <a:ext cx="24382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54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54"/>
                </a:solidFill>
                <a:latin typeface="Times New Roman"/>
              </a:rPr>
              <a:t>Formule preguntas con respuest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4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54"/>
                </a:solidFill>
                <a:latin typeface="Times New Roman"/>
              </a:rPr>
              <a:t>Contradiga las creencia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4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54"/>
                </a:solidFill>
                <a:latin typeface="Times New Roman"/>
              </a:rPr>
              <a:t>Vea todas las perspectivas posib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4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54"/>
                </a:solidFill>
                <a:latin typeface="Times New Roman"/>
              </a:rPr>
              <a:t>Sientase cómodo ante la incertidumbre y ambigüe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380880"/>
            <a:ext cx="748836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700" spc="-1" strike="noStrike">
                <a:solidFill>
                  <a:srgbClr val="ff3300"/>
                </a:solidFill>
                <a:latin typeface="Arial"/>
              </a:rPr>
              <a:t>Las  ocho reglas que dan forma al pensamiento estratégico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8120" y="1969920"/>
            <a:ext cx="649296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43000" y="1066680"/>
          <a:ext cx="3962520" cy="579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066680"/>
                    <a:ext cx="39625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1295280" y="1828800"/>
            <a:ext cx="259416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54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54"/>
                </a:solidFill>
                <a:latin typeface="Times New Roman"/>
              </a:rPr>
              <a:t>Invierta en la pregunta correct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4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54"/>
                </a:solidFill>
                <a:latin typeface="Times New Roman"/>
              </a:rPr>
              <a:t>Desconfié de los prejuici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4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54"/>
                </a:solidFill>
                <a:latin typeface="Times New Roman"/>
              </a:rPr>
              <a:t>Reales fuentes de informació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4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54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54"/>
                </a:solidFill>
                <a:latin typeface="Times New Roman"/>
              </a:rPr>
              <a:t>Vaya mas allá  de las generalidades y los promedi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982800" y="1130400"/>
          <a:ext cx="8161200" cy="57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1130400"/>
                    <a:ext cx="8161200" cy="57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738360" y="592200"/>
            <a:ext cx="1403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33336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Arial"/>
              </a:rPr>
              <a:t>LA CURVA EN “ S 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2133720"/>
            <a:ext cx="381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4"/>
                </a:solidFill>
                <a:latin typeface="Arial"/>
              </a:rPr>
              <a:t>Comprende de tres element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4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54"/>
                </a:solidFill>
                <a:uFillTx/>
                <a:latin typeface="Arial"/>
              </a:rPr>
              <a:t>Génesi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4"/>
                </a:solidFill>
                <a:latin typeface="Arial"/>
              </a:rPr>
              <a:t>Cuando la tendencia comienz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54"/>
                </a:solidFill>
                <a:uFillTx/>
                <a:latin typeface="Arial"/>
              </a:rPr>
              <a:t>Aceleració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4"/>
                </a:solidFill>
                <a:latin typeface="Arial"/>
              </a:rPr>
              <a:t>Movimiento creciente de la curv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54"/>
                </a:solidFill>
                <a:uFillTx/>
                <a:latin typeface="Arial"/>
              </a:rPr>
              <a:t>Plateau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54"/>
                </a:solidFill>
                <a:latin typeface="Arial"/>
              </a:rPr>
              <a:t>Nivelación y estabilización de la curv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19280" y="30492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Establecer un Reconocimiento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Motor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actores que influyen en el negoci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ominó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uerzas que pueden crear efecto cascada-caso moneda debilita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omod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posibilidades impredecibles pero reconocibles 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La muerte de un miembro de alta gerenc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14:58:21Z</dcterms:created>
  <dc:creator>Profecional</dc:creator>
  <dc:description/>
  <dc:language>en-US</dc:language>
  <cp:lastModifiedBy>Profecional</cp:lastModifiedBy>
  <dcterms:modified xsi:type="dcterms:W3CDTF">2004-01-29T17:40:50Z</dcterms:modified>
  <cp:revision>26</cp:revision>
  <dc:subject/>
  <dc:title>Diapositiva 1</dc:title>
</cp:coreProperties>
</file>