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46A-CB52-4AE3-88A8-11FDE26B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B22-DBE0-4612-8D41-ECD0AD84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8CC-CB70-4063-8928-8C943C77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EB1-7A2E-4E93-9FF4-1FB263BE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13E-8304-45A5-9E8C-B4664727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BC8-030D-4608-8B72-73B008B9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F8C-864B-47A0-9996-38E7149B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D23-B34E-470A-82D6-32890570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52A-DA1B-492D-83E9-A8864C33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C63-F62B-42F0-8BC9-ADB29231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052-3B28-4C17-88CC-31883BA0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157-FEE4-4B6D-BC31-899DAFC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6B78-FB2D-4BC1-8FFC-57DEE1AB1C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Unicode MS"/>
              </a:rPr>
              <a:t>Ferrel - CAPITULO 2</a:t>
            </a: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 Unicode MS"/>
              </a:rPr>
              <a:t>ANALISIS SITUACIONAL Y DEL ENTORNO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4120" y="4343400"/>
            <a:ext cx="3581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Unicode MS"/>
              </a:rPr>
              <a:t>Liza Gutiér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Unicode MS"/>
              </a:rPr>
              <a:t>Christian Naran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Unicode MS"/>
              </a:rPr>
              <a:t>Francina O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Unicode MS"/>
              </a:rPr>
              <a:t>Juan Vicente Var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Unicode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Influencia del Análisis Situa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sobre las estratégi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Información + Análisis                   Toma de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nálisis Situ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Debe ser un esfuerzo Contínuo (no eventu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Permite hacer un FODA efectivo en cualquier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Diversidad de F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Abundancia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Recursos para procesa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2438280"/>
            <a:ext cx="1524240" cy="838440"/>
          </a:xfrm>
          <a:prstGeom prst="rightArrow">
            <a:avLst>
              <a:gd name="adj1" fmla="val 50000"/>
              <a:gd name="adj2" fmla="val 45449"/>
            </a:avLst>
          </a:prstGeom>
          <a:solidFill>
            <a:srgbClr val="80808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Relación entre entornos en un análisis situacion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5120" y="1676520"/>
            <a:ext cx="5105160" cy="44956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56300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cnología   Cultura  Competencia  Economía  Política  Aspectos Lega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1981080"/>
            <a:ext cx="4267080" cy="38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295280"/>
            <a:ext cx="5943600" cy="525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666880"/>
            <a:ext cx="281952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2680" y="2438280"/>
            <a:ext cx="2362320" cy="9907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torno del clien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898080" y="350532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to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Recomendaciones importantes para realizar un análisis situ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El análisis no es una panac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Hay m</a:t>
            </a:r>
            <a:r>
              <a:rPr b="0" lang="es-ES_tradnl" sz="1800" spc="-1" strike="noStrike">
                <a:solidFill>
                  <a:srgbClr val="000000"/>
                </a:solidFill>
                <a:latin typeface="Arial Unicode MS"/>
              </a:rPr>
              <a:t>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Los datos y la información no son lo m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‘ 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Entra Basura, Sale Basur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Los beneficios deben ser mayores que los co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Unicode MS"/>
              </a:rPr>
              <a:t>Evaluar costo de obtener los datos vs. beneficio de la información resul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2514600"/>
            <a:ext cx="7619760" cy="6858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laneacion Estrategica  = Análisis + Intuición + Juicio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</a:t>
            </a: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ficaz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057400"/>
            <a:ext cx="533520" cy="106668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3962520"/>
            <a:ext cx="3048120" cy="3045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lidad de los Datos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86400" y="3886200"/>
            <a:ext cx="3048120" cy="3049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formación Adecuada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98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80808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Componentes del análisis situacional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Entorno interno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Revisión de objetivos, estrategia y desempeño act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Congruencia con la 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Desempeño respecto al entorno y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Disponibilidad de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Humanos y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Proyección a 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Cultura y Estructura Organiz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Involucramiento de todo el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Relación de apoyo entre departa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Componentes del análisis situacional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Entorno del Client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Quienes son nuestros clientes actuales y potencia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Genero, Edad, Ocupacion, Nivel academ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Que hacen con nuestr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Proposito de compra, Tasa de uso, forma de desech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Donde compran nuestr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Canales de Distrib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Donde compran nuestr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Canales de Distrib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Cuando compran nuestr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Patrones de 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Por que (y como) eligen nuestr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Identificacion de necesidades satisfechas e insatisfe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Por qué los clientes potenciales no adquieren nuestros product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 Unicode MS"/>
              </a:rPr>
              <a:t>Los clientes tienen una necesidad básica que el producto no satisface.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 Unicode MS"/>
              </a:rPr>
              <a:t>El producto no corresponde al estilo de vida o la imagen de los compradore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 Unicode MS"/>
              </a:rPr>
              <a:t>Los productos de la competencia cuentan con mejores características o benefici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 Unicode MS"/>
              </a:rPr>
              <a:t>A quienes no son clientes tal vez les cueste mucho cambiar de mar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 Unicode MS"/>
              </a:rPr>
              <a:t>Quienes no son clientes desconocen la existencia de los produc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 Unicode MS"/>
              </a:rPr>
              <a:t>Quienes no son clientes tienen ideas falsas (mala imagen) del product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 Unicode MS"/>
              </a:rPr>
              <a:t>La mala distribución dificulta hallar el product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47920" y="5257800"/>
            <a:ext cx="6553080" cy="5335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vertir en clientes a quienes no compran el producto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4419720"/>
            <a:ext cx="1905120" cy="38088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lave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72428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Presiones compet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Quienes son nuestros competidores actuales y futu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 Unicode MS"/>
              </a:rPr>
              <a:t>Modalidades de 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Competidores de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Productos similares en características, beneficios y precio para los mismos cli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Competidores de 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Rivalizan en la misma clase de producto, pero con productos distintos en cuanto a características, beneficios y pre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Competidores gené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Productos muy distintos que resuelven el mismo problema o satisfacen la misma necesidad básica del consumid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Competidores de presupuesto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Compiten por los recursos financieros limitados de los mismos cli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</a:rPr>
              <a:t>COMPONENTES DEL ANÁLISIS SITUACIONAL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</a:rPr>
              <a:t>ENTORNO 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Crecimiento y estabilidad 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Inflación - Impuestos - Nivel de Ingreso  - Nivel de Empleo - Tasa de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Tendencias polí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Importancia de los nexos con los funcionarios públicos e instituciones gubernam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Aspectos legales y regla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Influecia de la legislación sobre las actividades de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Cambios de Tecn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Progresos en informática y aparatos electrónicos dig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Nuevas oportunidades de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Tendencias Cul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Influencias que generan cambios en 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7:38:43Z</dcterms:created>
  <dc:creator>cnaranjo1</dc:creator>
  <dc:description/>
  <dc:language>en-US</dc:language>
  <cp:lastModifiedBy>Ronald Alvarez G.</cp:lastModifiedBy>
  <dcterms:modified xsi:type="dcterms:W3CDTF">2004-02-04T04:37:40Z</dcterms:modified>
  <cp:revision>31</cp:revision>
  <dc:subject/>
  <dc:title>CAPITULO 2 ANALISIS SITUACIONAL Y DEL ENTORNO</dc:title>
</cp:coreProperties>
</file>