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2D1E3-4B40-4AE9-834F-2BE4ED712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C893-3085-4B6B-86CC-2952200F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36D7B-F495-41D4-860B-D55EFAC87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B6059-31F8-4BBB-B0FF-000C09137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4C6A8F-04B6-4E14-B35B-A3BC41C95C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2B979E-6CBE-4410-BA1F-626392FE6A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C521E-FA4D-4925-A40F-8A50D65DEC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E0EF0-4A3D-45D5-B202-E0B9F3F734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A85A2-7788-48CB-8C4A-59B1E36396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753C6-9E71-438B-BCEE-005F73DCB9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865BE-19A5-4835-A6C7-348E81D2F8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5588-3C20-4B46-BB53-DE2552FB0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ADA26-C42B-4AAF-A555-C5F787B960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9867A-EB41-416B-B220-BA19C41E6C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05E0E-9D9C-422A-8B98-A036DC1E17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06053A-D4C4-4077-B41B-1A09E6E4B2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24B67B-8C5E-46E9-984F-0CE3D7711D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E5B9-E8DA-405A-89C9-31FFC7E7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EBD7-F2C0-405D-8284-D88FA56C1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5A2FD-596D-4B6D-A439-633F3C3E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BBF95-1BBD-4EAF-824F-00012AC7E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7318-A448-4533-875C-EBDC46FA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9B8D4-BEF3-46BA-86B2-B2F2836CB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25692-BEF5-4839-A594-4F052D4C5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7E43-1E5B-4C43-A881-F1643B6874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C411-3AB4-4560-98D4-2B4B657D74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4716360" y="542880"/>
            <a:ext cx="442764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ahoma"/>
              </a:rPr>
              <a:t>Realizado p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ahoma"/>
              </a:rPr>
              <a:t>Allan Quiró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ahoma"/>
              </a:rPr>
              <a:t>Álvaro Quesad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ahoma"/>
              </a:rPr>
              <a:t>Marco Chinchill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ahoma"/>
              </a:rPr>
              <a:t>Javier Vargas</a:t>
            </a:r>
            <a:endParaRPr b="0" lang="en-US" sz="1800" spc="-1" strike="noStrike">
              <a:solidFill>
                <a:srgbClr val="ffffff"/>
              </a:solidFill>
              <a:latin typeface="Arial"/>
            </a:endParaRPr>
          </a:p>
        </p:txBody>
      </p:sp>
      <p:sp>
        <p:nvSpPr>
          <p:cNvPr id="84" name=""/>
          <p:cNvSpPr/>
          <p:nvPr/>
        </p:nvSpPr>
        <p:spPr>
          <a:xfrm>
            <a:off x="4716360" y="5516640"/>
            <a:ext cx="44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0066ff"/>
                </a:solidFill>
                <a:latin typeface="Tahoma"/>
              </a:rPr>
              <a:t>Relación entre entornos en un análisis situ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Tendencias culturales</a:t>
            </a:r>
            <a:br>
              <a:rPr sz="4000"/>
            </a:b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factores socio culturales son las influencias sociales y culturales que generan cambios y actitudes, opiniones, normas, costumbres y estilos de vida. Tales fuerzas influyen profundamente en la vida de la gente y ayudan a determinar qué, dónde, cómo y cuando compran los clientes los productos de una empre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Tendencias en el entorno socio cultural</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04" name="PlaceHolder 2"/>
          <p:cNvSpPr>
            <a:spLocks noGrp="1"/>
          </p:cNvSpPr>
          <p:nvPr>
            <p:ph/>
          </p:nvPr>
        </p:nvSpPr>
        <p:spPr>
          <a:xfrm>
            <a:off x="1763280" y="2491920"/>
            <a:ext cx="6923160" cy="35276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ndencias demográfic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ambios en los valores cultura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ndencias de estilo de vi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76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Fuentes de datos del entorno</a:t>
            </a:r>
            <a:endParaRPr b="0" lang="en-US" sz="4400" spc="-1" strike="noStrike">
              <a:solidFill>
                <a:srgbClr val="ffffff"/>
              </a:solidFill>
              <a:latin typeface="Tahoma"/>
            </a:endParaRPr>
          </a:p>
        </p:txBody>
      </p:sp>
      <p:sp>
        <p:nvSpPr>
          <p:cNvPr id="106" name="PlaceHolder 2"/>
          <p:cNvSpPr>
            <a:spLocks noGrp="1"/>
          </p:cNvSpPr>
          <p:nvPr>
            <p:ph/>
          </p:nvPr>
        </p:nvSpPr>
        <p:spPr>
          <a:xfrm>
            <a:off x="1042560" y="2060640"/>
            <a:ext cx="7643880" cy="3959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uentes de datos internas (intrane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uentes gubernamental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uentes de publicaciones periódicas o libr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uentes comerciales (basadas en tarifas o cuota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mbinación de recurs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Cómo superar los problemas de recopilación de datos</a:t>
            </a:r>
            <a:endParaRPr b="0" lang="en-US" sz="4400" spc="-1" strike="noStrike">
              <a:solidFill>
                <a:srgbClr val="ffffff"/>
              </a:solidFill>
              <a:latin typeface="Tahoma"/>
            </a:endParaRPr>
          </a:p>
        </p:txBody>
      </p:sp>
      <p:sp>
        <p:nvSpPr>
          <p:cNvPr id="108" name="PlaceHolder 2"/>
          <p:cNvSpPr>
            <a:spLocks noGrp="1"/>
          </p:cNvSpPr>
          <p:nvPr>
            <p:ph/>
          </p:nvPr>
        </p:nvSpPr>
        <p:spPr>
          <a:xfrm>
            <a:off x="468360" y="21337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a forma de organizar la enorme cantidad de datos e información recaba durante el análisis situacional.</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Definir con claridad el problema de marketing y combinar distintas fuentes de datos son los primeros pasos que hay que dar para encontrar todas las piezas del rompecabeza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Cómo superar los problemas de recopilación de datos</a:t>
            </a:r>
            <a:endParaRPr b="0" lang="en-US" sz="4400" spc="-1" strike="noStrike">
              <a:solidFill>
                <a:srgbClr val="ffffff"/>
              </a:solidFill>
              <a:latin typeface="Tahoma"/>
            </a:endParaRPr>
          </a:p>
        </p:txBody>
      </p:sp>
      <p:sp>
        <p:nvSpPr>
          <p:cNvPr id="110" name="PlaceHolder 2"/>
          <p:cNvSpPr>
            <a:spLocks noGrp="1"/>
          </p:cNvSpPr>
          <p:nvPr>
            <p:ph/>
          </p:nvPr>
        </p:nvSpPr>
        <p:spPr>
          <a:xfrm>
            <a:off x="468360" y="220500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siguiente es dar forma a los datos y la información que facilite el desarrollo de la estrategia.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método para organizar esta información como catalizador de la formulación de la estrategia es el desarrollo de un análisis SWOT, que consiste en clasificar datos e información por categorías clasificadas como fortalezas, debilidades, oportunidades y amenaz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ff"/>
                </a:solidFill>
                <a:latin typeface="Tahoma"/>
              </a:rPr>
              <a:t>MUCHAS GRACIA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Presiones Competitivas </a:t>
            </a:r>
            <a:br>
              <a:rPr sz="4000"/>
            </a:br>
            <a:endParaRPr b="0" lang="en-US" sz="4000" spc="-1" strike="noStrike">
              <a:solidFill>
                <a:srgbClr val="ffffff"/>
              </a:solidFill>
              <a:latin typeface="Tahoma"/>
            </a:endParaRPr>
          </a:p>
        </p:txBody>
      </p:sp>
      <p:sp>
        <p:nvSpPr>
          <p:cNvPr id="8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2800" spc="-1" strike="noStrike">
                <a:solidFill>
                  <a:srgbClr val="ffffff"/>
                </a:solidFill>
                <a:latin typeface="Tahoma"/>
              </a:rPr>
              <a:t>Cuatro modalidades fundamentales de competencia:</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mpetidores de marca, cuyos productos en el mercado son similares en características, benéficos y precio para los mismos clientes.</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mpetidores de producto, que rivalizan en la misma clase de producto, pero con productos distintos en cuanto a características, benéficos y precio.</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ahoma"/>
              </a:rPr>
              <a:t>Presiones Competitivas </a:t>
            </a:r>
            <a:br>
              <a:rPr sz="4000"/>
            </a:br>
            <a:endParaRPr b="0" lang="en-US" sz="4000" spc="-1" strike="noStrike">
              <a:solidFill>
                <a:srgbClr val="ffffff"/>
              </a:solidFill>
              <a:latin typeface="Tahoma"/>
            </a:endParaRPr>
          </a:p>
        </p:txBody>
      </p:sp>
      <p:sp>
        <p:nvSpPr>
          <p:cNvPr id="88"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uatro modalidades fundamentales de competencia:</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mpetidores genéricos, que comercializan productos muy distintos que resuelven el mismo problema o satisfacen la misma necesidad básica del consumidor.</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mpetidores de presupuesto total, que compitan por los recursos financieros limitados de los mismos client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Análisis de la competencia</a:t>
            </a:r>
            <a:endParaRPr b="0" lang="en-US" sz="4400" spc="-1" strike="noStrike">
              <a:solidFill>
                <a:srgbClr val="ffffff"/>
              </a:solidFill>
              <a:latin typeface="Tahoma"/>
            </a:endParaRPr>
          </a:p>
        </p:txBody>
      </p:sp>
      <p:sp>
        <p:nvSpPr>
          <p:cNvPr id="90"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ntificar todos los competidores actuales y potenciales de marca, producto, genéricos y de presupuesto tot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valuar a cada competidor clave determinando su tamaño, crecimiento, rentabilidad, objetivos, estrategias y mercados met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Análisis de la competencia</a:t>
            </a:r>
            <a:endParaRPr b="0" lang="en-US" sz="4400" spc="-1" strike="noStrike">
              <a:solidFill>
                <a:srgbClr val="ffffff"/>
              </a:solidFill>
              <a:latin typeface="Tahoma"/>
            </a:endParaRPr>
          </a:p>
        </p:txBody>
      </p:sp>
      <p:sp>
        <p:nvSpPr>
          <p:cNvPr id="92" name="PlaceHolder 2"/>
          <p:cNvSpPr>
            <a:spLocks noGrp="1"/>
          </p:cNvSpPr>
          <p:nvPr>
            <p:ph/>
          </p:nvPr>
        </p:nvSpPr>
        <p:spPr>
          <a:xfrm>
            <a:off x="457200" y="1915920"/>
            <a:ext cx="8229600" cy="410364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valuar las fortalezas y debilidades de cada competidor, sobre todo las capacidades principales que posee en sus áreas funcionales (markenting, investigación y desarrollo, producción, recursos humanos, etc.)</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focar el análisis en las capitaciones de markenting de cada competidor en términos de sus productos, distribución, promoción y fijación de prec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Análisis de la competencia</a:t>
            </a:r>
            <a:endParaRPr b="0" lang="en-US" sz="4400" spc="-1" strike="noStrike">
              <a:solidFill>
                <a:srgbClr val="ffffff"/>
              </a:solidFill>
              <a:latin typeface="Tahoma"/>
            </a:endParaRPr>
          </a:p>
        </p:txBody>
      </p:sp>
      <p:sp>
        <p:nvSpPr>
          <p:cNvPr id="94" name="PlaceHolder 2"/>
          <p:cNvSpPr>
            <a:spLocks noGrp="1"/>
          </p:cNvSpPr>
          <p:nvPr>
            <p:ph/>
          </p:nvPr>
        </p:nvSpPr>
        <p:spPr>
          <a:xfrm>
            <a:off x="468360" y="2565360"/>
            <a:ext cx="8229600" cy="323856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lcular las estrategias y respuestas más probables década competidor en distintas situaciones del entorno, así como sus restricciones a los esfuerzos de markenting propios de la empres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Crecimiento económico y estabilidad</a:t>
            </a:r>
            <a:endParaRPr b="0" lang="en-US" sz="4400" spc="-1" strike="noStrike">
              <a:solidFill>
                <a:srgbClr val="ffffff"/>
              </a:solidFill>
              <a:latin typeface="Tahoma"/>
            </a:endParaRPr>
          </a:p>
        </p:txBody>
      </p:sp>
      <p:sp>
        <p:nvSpPr>
          <p:cNvPr id="96" name="PlaceHolder 2"/>
          <p:cNvSpPr>
            <a:spLocks noGrp="1"/>
          </p:cNvSpPr>
          <p:nvPr>
            <p:ph/>
          </p:nvPr>
        </p:nvSpPr>
        <p:spPr>
          <a:xfrm>
            <a:off x="457200" y="2565000"/>
            <a:ext cx="8229600" cy="30956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Un factor importante son las pautas de gastos actuales y proyectadas de los consumidores en el mercado meta de la empresa. Si estos consumen menos (o más) de los productos de la compañía esto podría representar importantes razones económicas para el intercamb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Tendencias políticas  </a:t>
            </a:r>
            <a:br>
              <a:rPr sz="4400"/>
            </a:br>
            <a:endParaRPr b="0" lang="en-US" sz="4400" spc="-1" strike="noStrike">
              <a:solidFill>
                <a:srgbClr val="ffffff"/>
              </a:solidFill>
              <a:latin typeface="Tahoma"/>
            </a:endParaRPr>
          </a:p>
        </p:txBody>
      </p:sp>
      <p:sp>
        <p:nvSpPr>
          <p:cNvPr id="98" name="PlaceHolder 2"/>
          <p:cNvSpPr>
            <a:spLocks noGrp="1"/>
          </p:cNvSpPr>
          <p:nvPr>
            <p:ph/>
          </p:nvPr>
        </p:nvSpPr>
        <p:spPr>
          <a:xfrm>
            <a:off x="457200" y="2491920"/>
            <a:ext cx="8229600" cy="35276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importante para toda organización las relaciones con los entes gubernamentales, debido a que algunos funcionarios o organizaciones gubernamentales pueden estar predispuestos contra la empresa o un sector de clientes a interponer disposiciones reglamentarias desfavorables para la compañí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620280"/>
            <a:ext cx="821844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Asuntos legales y reglamentarios </a:t>
            </a:r>
            <a:br>
              <a:rPr sz="4400"/>
            </a:br>
            <a:endParaRPr b="0" lang="en-US" sz="4400" spc="-1" strike="noStrike">
              <a:solidFill>
                <a:srgbClr val="ffffff"/>
              </a:solidFill>
              <a:latin typeface="Tahoma"/>
            </a:endParaRPr>
          </a:p>
        </p:txBody>
      </p:sp>
      <p:sp>
        <p:nvSpPr>
          <p:cNvPr id="100" name="PlaceHolder 2"/>
          <p:cNvSpPr>
            <a:spLocks noGrp="1"/>
          </p:cNvSpPr>
          <p:nvPr>
            <p:ph/>
          </p:nvPr>
        </p:nvSpPr>
        <p:spPr>
          <a:xfrm>
            <a:off x="457200" y="2204640"/>
            <a:ext cx="8229600" cy="381492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tecnología alude en la forma en que llevamos a cabo determinadas tareas o al proceso de que nos valemos para crear las “cosas” que consideramos nuevas; de todas las tecnologías creadas en los últimos 30 años, ninguna ha ejercido un efecto mayor en el markenting que los procesos en informática y los aparatos electrónicos digit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1:56:12Z</dcterms:created>
  <dc:creator>aquiross</dc:creator>
  <dc:description/>
  <dc:language>en-US</dc:language>
  <cp:lastModifiedBy>Ronald Alvarez G.</cp:lastModifiedBy>
  <dcterms:modified xsi:type="dcterms:W3CDTF">2004-02-01T04:09:29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7062867</vt:r8>
  </property>
  <property fmtid="{D5CDD505-2E9C-101B-9397-08002B2CF9AE}" pid="3" name="_AuthorEmail">
    <vt:lpwstr>alvaro.quesada@emct.com</vt:lpwstr>
  </property>
  <property fmtid="{D5CDD505-2E9C-101B-9397-08002B2CF9AE}" pid="4" name="_AuthorEmailDisplayName">
    <vt:lpwstr>Quesada, Alvaro (IEMC)</vt:lpwstr>
  </property>
  <property fmtid="{D5CDD505-2E9C-101B-9397-08002B2CF9AE}" pid="5" name="_EmailSubject">
    <vt:lpwstr>Presentaciones del Jueves 29</vt:lpwstr>
  </property>
</Properties>
</file>