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F89-AAAE-4D91-B5D6-1313B586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6B2-FAF8-415E-B979-C5377115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FD7-757B-4D30-9448-E9BC4EE2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B31-6189-4EED-B5C0-BC7D8765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945F-D539-4265-B202-F64BB21A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051F-33B5-48C2-A2F5-31B838E6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1623-3FF0-42BE-9D06-87509436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8A2B-1E43-46A5-A14E-327F0F14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A96F-0E71-48A8-8126-2BCBC77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36C3-2D5C-4D2C-B665-218A666C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E2E3-CF5A-4F49-9D31-004CE2AE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45B-D651-4C1B-8FE6-5D0C365D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1B0F-D5CF-406A-888A-2D0D5B96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A71D-4946-457E-AB06-08ABE576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1C55-434E-46F3-91F5-916B7C10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7AF3-ABCC-43A3-AF74-66286172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9037-67B7-460E-B8AB-B537AB7B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781-C170-4E93-A9A3-E7BADA0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7C3-C214-41B4-8B9F-E6DC386B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D5F-9775-41BA-B861-CB8A5D0E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7FB-0F22-4431-82DD-E617FEB3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670-7B9A-4078-9571-C5FA58F2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7DC-0EA6-4702-96C4-73673EB4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DEF-5090-4C12-B427-B4A7DB8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642B-5D3B-4905-9854-2C9691F5E22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FB60-D98C-4B0E-87B7-389AB39F02E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¿Qué haría Maquiavelo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209680"/>
            <a:ext cx="4647960" cy="5814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a7f32"/>
                </a:solidFill>
                <a:latin typeface="Times New Roman"/>
              </a:rPr>
              <a:t>El fin justifica los medi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19112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Alejandra Avil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María Paz Ramíre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Mabel Kerzember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Pablo Sal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incipios maquivélicos para el éxito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La comida es un arma leta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Nunca se retir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Diviértase much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6" name="niccolo4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11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¿Qué no haría Maquiavelo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a7f32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9a7f32"/>
                </a:solidFill>
                <a:latin typeface="Times New Roman"/>
              </a:rPr>
              <a:t>Tenga moderación.  El mal tiene limitaciones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¿Quien fue Maquiavelo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Vivió durante el renacimiento en Flo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Trabajó en dependencias del príncipe de Flo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Fue puesto en prisión donde escribió sobre como escalar posiciones y  las funciones del nuevo príncip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00760" y="1828800"/>
            <a:ext cx="191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incipios de Maquiavelo para el mundo empresarial de hoy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a7f32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9a7f32"/>
                </a:solidFill>
                <a:latin typeface="Times New Roman"/>
              </a:rPr>
              <a:t>Un mínimo de sentimientos y un máximo de egoísmo y brutalidad son elementos esenciales para ayudarle a convertirse en una persona poderosa y rica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a7f32"/>
                </a:solidFill>
                <a:latin typeface="Times New Roman"/>
              </a:rPr>
              <a:t>Jugar para gana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incipios maquivélicos para el éxito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Los verdaderos príncipes no duerme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Ser impredecibl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Estar enamorado de su destin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Ser parano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Estar siempre en pié de guer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Cultivar unos pocos y muy queridos enemig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52880" y="1952640"/>
            <a:ext cx="3810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incipios maquivélicos para el éxito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Tener un par de buenos amig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Comprar a los vecin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Pensar en grand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Como el tiburón comerse todo lo que vea a su pas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Matar pero solo si después se sentirá bien consigo mism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Despedir hasta la propia madr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1" name="niccolo4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11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incipios maquivélicos para el éxito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Ser detestable es una virtu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Sentirse siempre optimis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No estar satisfecho con nadi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Tratarse bien uno mism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De ser mujer, utilizar las ventajas de su sex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Aceptar su locu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Hacer lo que le da la gan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niccolo4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11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incipios maquivélicos para el éxito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Diga lo que tiene ganas de deci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Delegue las tareas rui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No deje de lado los brochas ni las chicas fácil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No reaccione bien ante las crítica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Conserve el rencor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Mentir cuando sea necesari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niccolo4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11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incipios maquivélicos para el éxito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Ser malo y estar orgulloso de serl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Patear traseros y tomar represalia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Torturar a los que lo rodea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Haga que los demás se vuelvan enemigos entre si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Sea leal con la gente que lo maltrat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niccolo4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11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incipios maquivélicos para el éxito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No tenga paci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Arruínele los planes a los demá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Dígales las cosas a la ca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No pida perdó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No tenga conci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Grítele mucho a la gent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Establezca y mantenga un nivel de control psicót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a7f32"/>
                </a:solidFill>
                <a:latin typeface="Times New Roman"/>
              </a:rPr>
              <a:t>El dinero es un tema seri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niccolo4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11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05:01:13Z</dcterms:created>
  <dc:creator>a</dc:creator>
  <dc:description/>
  <dc:language>en-US</dc:language>
  <cp:lastModifiedBy>Ronald Alvarez G.</cp:lastModifiedBy>
  <dcterms:modified xsi:type="dcterms:W3CDTF">2004-02-07T20:00:18Z</dcterms:modified>
  <cp:revision>13</cp:revision>
  <dc:subject/>
  <dc:title>¿Qué haría Maquiavelo?</dc:title>
</cp:coreProperties>
</file>