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320-4300-4C8E-9625-ED8A15C8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FA1-7D58-467A-BA8B-BCD10E92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55E-E695-4429-95A3-887566D4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DF8-38F3-4CAE-8DCD-B0218DF5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38BC-23C2-4E99-AD5F-DB7D21F3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4E51-66ED-4167-A084-8C8EDE47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DB2A-C891-4942-B47F-C4F38D28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CBCF-342E-4351-B840-D4B4E3B7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2AA0-F496-4328-86BB-22A444F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96F8-223F-473D-9919-1130B3F8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0F46-E23C-4F90-9C57-A9A053C9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742-914A-4C18-A1C7-100C887D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73D8-3389-46B2-91BB-CB8BC11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59A4-61A3-4CF1-BF81-35D42B0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382B-E059-4F4E-8E80-7D6DD867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3205-D17E-4CA4-8E62-03928176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6C5D-FB09-4601-9567-BEB4C2FC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1A4-1366-4291-8881-30F9215F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EA4-EC92-4858-A311-371B0701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98A-E4BC-4630-ADEB-9D8AFE71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B2E-56A9-4FD1-8DEC-C8EB4BD6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3FE-1557-48A6-A391-1EC27EF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5A3-2E22-47CA-B2F0-278FE4E6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410-4CD2-48EA-BDA6-4C856DE4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5B3E-C614-4668-B348-64219FBB6D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9680-A07C-4E10-9E58-7C1FDA010F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3400" y="1567440"/>
            <a:ext cx="7624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900" spc="-1" strike="noStrike">
                <a:solidFill>
                  <a:srgbClr val="000000"/>
                </a:solidFill>
                <a:latin typeface="Comic Sans MS"/>
              </a:rPr>
              <a:t>Análisis SWOT</a:t>
            </a:r>
            <a:br>
              <a:rPr sz="3900"/>
            </a:br>
            <a:r>
              <a:rPr b="0" lang="es-CR" sz="3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R" sz="3300" spc="-1" strike="noStrike">
                <a:solidFill>
                  <a:srgbClr val="000000"/>
                </a:solidFill>
                <a:latin typeface="Comic Sans MS"/>
              </a:rPr>
              <a:t>Esquema para el desarrollo</a:t>
            </a:r>
            <a:br>
              <a:rPr sz="3300"/>
            </a:br>
            <a:r>
              <a:rPr b="0" lang="es-CR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R" sz="3300" spc="-1" strike="noStrike">
                <a:solidFill>
                  <a:srgbClr val="000000"/>
                </a:solidFill>
                <a:latin typeface="Comic Sans MS"/>
              </a:rPr>
              <a:t>de la estrategia del Marketing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920" y="3932280"/>
            <a:ext cx="6324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Marketing”. Ferrel, Hartline &amp; Lucas. Cap 3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060880"/>
            <a:ext cx="4132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2d5b"/>
                </a:solidFill>
                <a:latin typeface="Verdana"/>
              </a:rPr>
              <a:t>Grupo #3:</a:t>
            </a:r>
            <a:r>
              <a:rPr b="0" lang="es-CR" sz="2000" spc="-1" strike="noStrike">
                <a:solidFill>
                  <a:srgbClr val="892d5b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892d5b"/>
                </a:solidFill>
                <a:latin typeface="Verdana"/>
              </a:rPr>
              <a:t>Jorge Le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2d5b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892d5b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892d5b"/>
                </a:solidFill>
                <a:latin typeface="Verdana"/>
              </a:rPr>
              <a:t>Laura Ort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2d5b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892d5b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892d5b"/>
                </a:solidFill>
                <a:latin typeface="Verdana"/>
              </a:rPr>
              <a:t>Ronald Por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7680" y="325440"/>
            <a:ext cx="859608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400" spc="-1" strike="noStrike">
                <a:solidFill>
                  <a:srgbClr val="000000"/>
                </a:solidFill>
                <a:latin typeface="Comic Sans MS"/>
              </a:rPr>
              <a:t>Identificación y conservación de una ventaja competitiva sostenibl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Se deben manejar las tres ár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Elegir un área en la que podamos destac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Luego manejar en forma efectiva las percepciones de los clientes de modo que se den cuenta de que sobresalimos en esa áre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7680" y="388440"/>
            <a:ext cx="85960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Comic Sans MS"/>
              </a:rPr>
              <a:t>Formulación de metas y objetivos de marketing para ir más allá del SWO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No se puede hacer todo al mismo ti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Una vez que la empresa sepa su misión, este clara de lo que ES, lo que significa y lo que hece por lo demás, puede empezar a idear LO QUE ESPER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Comic Sans MS"/>
              </a:rPr>
              <a:t>Metas: </a:t>
            </a: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Logros generales dese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Comic Sans MS"/>
              </a:rPr>
              <a:t>Objetivos:</a:t>
            </a: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 Puntos de referencia concretos y cuantita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Se usan para medir el avance consegu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7680" y="388440"/>
            <a:ext cx="85960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Comic Sans MS"/>
              </a:rPr>
              <a:t>Formulación de metas y objetivos de marketing para ir más allá del SWO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Formulación de m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Se expresan en términos ámpl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No contienen información concre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Ej: contar con los precios más bajos en todos los produc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Indican el rumbo que trata de seguir la empre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El conjunto de prioridades para evaluar y decidi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7680" y="388440"/>
            <a:ext cx="85960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Comic Sans MS"/>
              </a:rPr>
              <a:t>Formulación de metas y objetivos de marketing para ir más allá del SWO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mic Sans MS"/>
              </a:rPr>
              <a:t>Formulación de met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Metas alcanz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Percibirlas como algo razon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Para eso hay que evaluar los entor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Las metas poco realistas desmotiv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Metas congru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Las metas deben concordar entre el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La mano izquierda no debe desconocer lo que hace la ot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Compartir la información durante el proceso de formulación de met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7680" y="388440"/>
            <a:ext cx="85960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Comic Sans MS"/>
              </a:rPr>
              <a:t>Formulación de metas y objetivos de marketing para ir más allá del SWO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mic Sans MS"/>
              </a:rPr>
              <a:t>Formulación de met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Metas Integr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Cada área funcional ha de estar en posibilidad de plantear sus metas en relación con las metas de la organiz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Las metas deben ayudar a esclarecer las funciones de todas las partes en la organiz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Metas Intangi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Cierto grado de intangibi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No confundir: estratégias, tácti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7680" y="2059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300" spc="-1" strike="noStrike">
                <a:solidFill>
                  <a:srgbClr val="000000"/>
                </a:solidFill>
                <a:latin typeface="Comic Sans MS"/>
              </a:rPr>
              <a:t>Planteamientos de OBJETIVOS de marketing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Concretos, específicos y cuantita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Las metas sin objetivos carecen de sentido, pues es difícil medir el progre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Ej: que el dep. ventas reduzca los pedidos no satisfechos de los clientes de 3 a 2% entre enero y jul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Buscan resultados mensurables y cuantita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Debe de haber una responsabilidad asig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Debe haber un período defin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7680" y="2059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300" spc="-1" strike="noStrike">
                <a:solidFill>
                  <a:srgbClr val="000000"/>
                </a:solidFill>
                <a:latin typeface="Comic Sans MS"/>
              </a:rPr>
              <a:t>Planteamientos de OBJETIVOS de marketing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mic Sans MS"/>
              </a:rPr>
              <a:t>Características de los objetiv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000000"/>
                </a:solidFill>
                <a:uFillTx/>
                <a:latin typeface="Comic Sans MS"/>
              </a:rPr>
              <a:t>Alcanzables:</a:t>
            </a: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Resulta alcanzable con una cantidad razonable de esfuerz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000000"/>
                </a:solidFill>
                <a:uFillTx/>
                <a:latin typeface="Comic Sans MS"/>
              </a:rPr>
              <a:t>Análisis de Continuid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Comic Sans MS"/>
              </a:rPr>
              <a:t>Objetivos continuos:</a:t>
            </a: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Cuando los objetivos actuales son similares a los establecidos en el periodo anter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Los objetivos deben hacer que las personas se desempeñen a niveles superi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Una vez cumplido el objetivo el grado de creatividad y esfuerzo suelen deca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2059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300" spc="-1" strike="noStrike">
                <a:solidFill>
                  <a:srgbClr val="000000"/>
                </a:solidFill>
                <a:latin typeface="Comic Sans MS"/>
              </a:rPr>
              <a:t>Planteamientos de OBJETIVOS de marketing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mic Sans MS"/>
              </a:rPr>
              <a:t>Características de los objetiv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000000"/>
                </a:solidFill>
                <a:uFillTx/>
                <a:latin typeface="Comic Sans MS"/>
              </a:rPr>
              <a:t>Análisis de Continuid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Comic Sans MS"/>
              </a:rPr>
              <a:t>Objetivos discontinuos</a:t>
            </a: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Elevan el nivel de desempeño de manera significati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Exigen nuevas estrategi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Exigen un grado de análisis y vinculación mayor que los continu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Demostrar competencias en cada áre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SzPct val="11428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Puntos de referencia niveles de desempeño de líde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SzPct val="11428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Objetivos: Mejorar el desempeño en cada áre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7680" y="2059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300" spc="-1" strike="noStrike">
                <a:solidFill>
                  <a:srgbClr val="000000"/>
                </a:solidFill>
                <a:latin typeface="Comic Sans MS"/>
              </a:rPr>
              <a:t>Planteamientos de OBJETIVOS de marketing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Comic Sans MS"/>
              </a:rPr>
              <a:t>Características de los objetiv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000000"/>
                </a:solidFill>
                <a:uFillTx/>
                <a:latin typeface="Comic Sans MS"/>
              </a:rPr>
              <a:t>Marco Temporal de los Objetivo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Los Planes de Mkt son por lo general anu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Los objetivos pueden diferir de este plaz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Marco temporal adecuado para cada obje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Objetivos de marco temporal prolongado 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7680" y="2059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300" spc="-1" strike="noStrike">
                <a:solidFill>
                  <a:srgbClr val="000000"/>
                </a:solidFill>
                <a:latin typeface="Comic Sans MS"/>
              </a:rPr>
              <a:t>Planteamientos de OBJETIVOS de marketing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Comic Sans MS"/>
              </a:rPr>
              <a:t>Características de los objetiv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mic Sans MS"/>
              </a:rPr>
              <a:t>Asignación de responsabilida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Eso distingue a los objetivos de las me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Se identifica a la persona, grupo, unidad de negocios responsables de la consecu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Para los correspondientes méritos o explicac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06960"/>
            <a:ext cx="609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300" spc="-1" strike="noStrike">
                <a:solidFill>
                  <a:srgbClr val="000000"/>
                </a:solidFill>
                <a:latin typeface="Comic Sans MS"/>
              </a:rPr>
              <a:t>Matriz SWO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1752480"/>
          <a:ext cx="7619760" cy="419076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21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83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83bd"/>
                    </a:solidFill>
                  </a:tcPr>
                </a:tc>
              </a:tr>
              <a:tr h="20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f83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f83bd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924560" y="23814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6560" y="47386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1120" y="24526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49560" y="4738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3800" y="53481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Reducidas al mínimo o evi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2670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92760" y="53481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Reducidas al mínimo o evi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4114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092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90920" y="2819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3244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24480" y="2895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520" y="3276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3276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276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rrespon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rrespon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114800" y="5943600"/>
            <a:ext cx="472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cias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15328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400" spc="-1" strike="noStrike">
                <a:solidFill>
                  <a:srgbClr val="000000"/>
                </a:solidFill>
                <a:latin typeface="Comic Sans MS"/>
              </a:rPr>
              <a:t>Evaluación cuantitativa de elementos en una matriz SWOT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1295280"/>
          <a:ext cx="8076960" cy="419076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21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83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83bd"/>
                    </a:solidFill>
                  </a:tcPr>
                </a:tc>
              </a:tr>
              <a:tr h="20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f83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f83bd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830960" y="14479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3920" y="3672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06200" y="14479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9560" y="3595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4724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905120"/>
            <a:ext cx="35049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M   I  =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Tamaño y capacidad</a:t>
            </a: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  3    3     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Experiencia                       3   3     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Beneficios individuales    2    2    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438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1676520"/>
            <a:ext cx="350496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M   I  =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Mercado sin explorar en la  actualidad  3    3  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Crecimiento y popularidad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Disciplina del marketing                          3   2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Innovación en el campo                            2   2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Mayor competencia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                    2    2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733920"/>
            <a:ext cx="38862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M   I  =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Desviación de los valores centrales  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    -3    3     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Valor agregado al cliente                                 -3    3     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Mantenimiento de un enfoque                          2    2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De largo plazo                                                   -3    2    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Conciencia y valor del programa de cert.      -2    2    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733920"/>
            <a:ext cx="35053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M   I  = 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Negocios de Universidades          -3    3    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A los negocios tal vez no les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Interese el programa                   -3    3    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0000"/>
                </a:solidFill>
                <a:latin typeface="Times New Roman"/>
              </a:rPr>
              <a:t>Otros programas de cert.            -3    2    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638680"/>
            <a:ext cx="8153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 = magnitud de elemento, 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= Importancia del elemento, 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 = clasificación final del ele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Escala de magnitud: intervalos de +3 (más favorable) a –3 (más desfavor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Times New Roman"/>
              </a:rPr>
              <a:t>Escala de importancia: intervalos de 3 (mayor importancia) a 1 (menor importanci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7680" y="325440"/>
            <a:ext cx="859608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400" spc="-1" strike="noStrike">
                <a:solidFill>
                  <a:srgbClr val="000000"/>
                </a:solidFill>
                <a:latin typeface="Comic Sans MS"/>
              </a:rPr>
              <a:t>Evaluación cuantitativa de elementos en una matriz SWO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No obligatorio evaluar cuantitativo, pero es muy ilustrativ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Los elementos cuya clasificación sea la más elevada (+ o -) son los que deben ejercer la mayor influencia en el desarrollo estratégico del marke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680" y="325440"/>
            <a:ext cx="859608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400" spc="-1" strike="noStrike">
                <a:solidFill>
                  <a:srgbClr val="000000"/>
                </a:solidFill>
                <a:latin typeface="Comic Sans MS"/>
              </a:rPr>
              <a:t>Evaluación cuantitativa de elmentos en una matriz SWO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Una fortaleza considerable en un área importante debe de destacarse para convertirla en una capacidad o ventaja competitiv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Una oportunidad reducida e insignificante no debe desempeñar un función importante en el proceso de plane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7680" y="325440"/>
            <a:ext cx="859608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400" spc="-1" strike="noStrike">
                <a:solidFill>
                  <a:srgbClr val="000000"/>
                </a:solidFill>
                <a:latin typeface="Comic Sans MS"/>
              </a:rPr>
              <a:t>Evaluación cuantitativa de elmentos en una matriz SWO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La magnitud y la importancia de las oportunidades y amenazas, dependen del producto o mercado de que se tr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Una vez que se ha evaluado la magnitud y la importancia se debe enfocar en descubrir las ventajas competitiv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Y hacer que las fortalezas correspondan con las oportunidad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7680" y="325440"/>
            <a:ext cx="859608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400" spc="-1" strike="noStrike">
                <a:solidFill>
                  <a:srgbClr val="000000"/>
                </a:solidFill>
                <a:latin typeface="Comic Sans MS"/>
              </a:rPr>
              <a:t>Identificación y conservación de una ventaja competitiva sostenibl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Ventajas competitivas = diferencias re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Más en la percepción que en la real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Clientes decisiones = percep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Manejar con eficacia las percepciones de los cli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Solución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Desarrollar y mantener V.C. que los clientes </a:t>
            </a:r>
            <a:r>
              <a:rPr b="0" lang="es-CR" sz="2400" spc="-1" strike="noStrike" u="sng">
                <a:solidFill>
                  <a:srgbClr val="000000"/>
                </a:solidFill>
                <a:uFillTx/>
                <a:latin typeface="Comic Sans MS"/>
              </a:rPr>
              <a:t>entiendan con facilidad </a:t>
            </a:r>
            <a:r>
              <a:rPr b="0" lang="es-CR" sz="2400" spc="-1" strike="noStrike">
                <a:solidFill>
                  <a:srgbClr val="000000"/>
                </a:solidFill>
                <a:latin typeface="Comic Sans MS"/>
              </a:rPr>
              <a:t>y que es resuelvan necesidades específic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7680" y="325440"/>
            <a:ext cx="859608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400" spc="-1" strike="noStrike">
                <a:solidFill>
                  <a:srgbClr val="000000"/>
                </a:solidFill>
                <a:latin typeface="Comic Sans MS"/>
              </a:rPr>
              <a:t>Identificación y conservación de una ventaja competitiva sostenibl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Las V.C. que no se traduzcan en beneficios concretos, son de poca util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Tres Estrategia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Excelencia operat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Liderazgo de produc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Intimidad con el cl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71600"/>
            <a:ext cx="777240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400" spc="-1" strike="noStrike">
                <a:solidFill>
                  <a:srgbClr val="000000"/>
                </a:solidFill>
                <a:latin typeface="Comic Sans MS"/>
              </a:rPr>
              <a:t>Identificación y conservación de una ventaja competitiva sostenible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Excelencia operat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Centrarse eficiencia de las operaciones y proce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Operan con costos más baj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Liderazgo en produc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Desarrollo tecnológico de produc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Ofrecen lo más avanzado y de mayor ca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omic Sans MS"/>
              </a:rPr>
              <a:t>Intimidad con el cl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Buscan conocer mejor a sus clientes, entender sus necesidades mejor que la compete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Resuelven problemas concretos del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Relación de largo plazo</a:t>
            </a: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mic Sans MS"/>
              </a:rPr>
              <a:t>Soluciones que los competidores no pueden igua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07:38:40Z</dcterms:created>
  <dc:creator>Lic. Jorge León Vargas.</dc:creator>
  <dc:description/>
  <dc:language>en-US</dc:language>
  <cp:lastModifiedBy>Lic. Jorge León Vargas.</cp:lastModifiedBy>
  <dcterms:modified xsi:type="dcterms:W3CDTF">2004-02-05T18:14:07Z</dcterms:modified>
  <cp:revision>14</cp:revision>
  <dc:subject/>
  <dc:title>Análisis SWOT  Esquema para el desarrollo  de la estrategia del Marketing.</dc:title>
</cp:coreProperties>
</file>