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016C-5CE0-4E2E-A8CD-C9E14FA69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3AB1-F7A0-4B7E-BD5D-23D55C82A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0D3C-CCC3-4C4D-8EC5-EB960FC04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BA4B-C62D-4C55-8F18-A4769780E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31AE-97A6-4FAE-9DFE-1112DC278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C115-E296-4572-B4AB-C05F2675E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D4AF-E85C-48F1-8E31-826DBE379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D169-D8FF-41AA-9257-03DD64B36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EE1C-7EA4-4B33-ABCE-966664B3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0142-3BA8-43E9-82F1-E921B0E4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7286-A3C1-4CE0-AF74-493EBD6C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B981-8469-4532-9DB4-6F85EC8C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98BF6-7E6F-48AA-B7D1-9E2C843B43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304920"/>
            <a:ext cx="7086600" cy="703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cc99"/>
                </a:solidFill>
                <a:latin typeface="Tahoma"/>
              </a:rPr>
              <a:t>QUE ES ANALISIS SW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90720" y="1143000"/>
            <a:ext cx="60195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Es el análisis interno y externo, que se hace previo al montaje de un plan de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nfocarse en los que se desea obte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ocer a nuestr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ocer con quién estamos compitie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Quienes intervienen en suministrar el Bien o el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Separar los problemas internos de los exter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752480" y="2057400"/>
            <a:ext cx="60962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ahoma"/>
              </a:rPr>
              <a:t>Presencia de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ahoma"/>
              </a:rPr>
              <a:t>Tamaño de la empres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ahoma"/>
              </a:rPr>
              <a:t>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ahoma"/>
              </a:rPr>
              <a:t>Diversidad de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ahoma"/>
              </a:rPr>
              <a:t>Distribui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ahoma"/>
              </a:rPr>
              <a:t>Recursos Financie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304920"/>
            <a:ext cx="6477120" cy="1312920"/>
          </a:xfrm>
          <a:prstGeom prst="rect">
            <a:avLst/>
          </a:prstGeom>
          <a:solidFill>
            <a:srgbClr val="2804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cc99"/>
                </a:solidFill>
                <a:latin typeface="Tahoma"/>
              </a:rPr>
              <a:t>FORTALEZAS Y DEBILIDA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71600" y="304920"/>
            <a:ext cx="6477120" cy="1312920"/>
          </a:xfrm>
          <a:prstGeom prst="rect">
            <a:avLst/>
          </a:prstGeom>
          <a:solidFill>
            <a:srgbClr val="2804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cc99"/>
                </a:solidFill>
                <a:latin typeface="Tahoma"/>
              </a:rPr>
              <a:t>FORTALEZAS Y DEBILIDA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2133720"/>
            <a:ext cx="6019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Recurso Hum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Motiv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Capaci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Acceso a Tecnolog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Capacidad de inov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Capacidad de adapta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90720" y="2286000"/>
            <a:ext cx="65530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Situaciones del Ento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Poli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Clima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Demográf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Cultu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Tecnológ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457200"/>
            <a:ext cx="7162920" cy="1312920"/>
          </a:xfrm>
          <a:prstGeom prst="rect">
            <a:avLst/>
          </a:prstGeom>
          <a:solidFill>
            <a:srgbClr val="2804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cc99"/>
                </a:solidFill>
                <a:latin typeface="Tahoma"/>
              </a:rPr>
              <a:t>OPORTUNIDADES Y AMENAZ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14400" y="533520"/>
            <a:ext cx="6858000" cy="703440"/>
          </a:xfrm>
          <a:prstGeom prst="rect">
            <a:avLst/>
          </a:prstGeom>
          <a:solidFill>
            <a:srgbClr val="2804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cc99"/>
                </a:solidFill>
                <a:latin typeface="Tahoma"/>
              </a:rPr>
              <a:t>IMPORTANCIA  FO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828800"/>
            <a:ext cx="7543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Conocer los Probl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Definir Metas y 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Convertir Debilidades en Fortalez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Las Amenazas en Oportun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Minimizar las Debilidades y Amenaz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1143000"/>
            <a:ext cx="571644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0" spc="-1" strike="noStrike">
                <a:solidFill>
                  <a:srgbClr val="cf2807"/>
                </a:solidFill>
                <a:latin typeface="Arial"/>
              </a:rPr>
              <a:t>MUCHA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0" spc="-1" strike="noStrike">
                <a:solidFill>
                  <a:srgbClr val="cf2807"/>
                </a:solidFill>
                <a:latin typeface="Arial"/>
              </a:rPr>
              <a:t>GRACIA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5T22:45:25Z</dcterms:created>
  <dc:creator>kativo CR</dc:creator>
  <dc:description/>
  <dc:language>en-US</dc:language>
  <cp:lastModifiedBy>kativo CR</cp:lastModifiedBy>
  <dcterms:modified xsi:type="dcterms:W3CDTF">2004-02-05T23:04:17Z</dcterms:modified>
  <cp:revision>1</cp:revision>
  <dc:subject/>
  <dc:title>PowerPoint Presentation</dc:title>
</cp:coreProperties>
</file>