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200-AB2F-4863-9943-65A8E3DF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299-2B72-4D4E-85B2-07BDC2B4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FC9-C1F9-414A-AF0E-B45A5482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228-2EAD-41E5-AE34-6FEEFEEA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50A-989F-4B50-BE8B-AD13DD9A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27F-4EB5-4AD0-9E1A-6A0B0B9B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6F7-AE15-4A8D-8B18-C268F174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5F37-379B-4A8C-BE27-B3508D64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DD4-20C6-49CB-B285-D1BF9268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7FC-2F25-464F-BA1B-2890FC12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57D-7EA4-417C-BD6D-AC622925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470A-53FC-4DEB-871D-F9AEBFE0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0B48-8B89-4302-BEF7-3D8A7C33D96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Unicode MS"/>
              </a:rPr>
              <a:t>CAPITULO 5 LAMB</a:t>
            </a:r>
            <a:br>
              <a:rPr sz="4400"/>
            </a:b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 Unicode MS"/>
              </a:rPr>
              <a:t>COMPORTAMIENTO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9568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Liza Gutier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Christian Naran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Francina Oca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Juan Vicente V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Unicode MS"/>
              </a:rPr>
              <a:t>Importancia de comprender el comportamiento del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 Unicode MS"/>
              </a:rPr>
              <a:t>Las preferencias de los consumidores hacia los productos y servicios esta en constante cambio. Para enfocar este flujo y crear una mezcla de marketing adecuada para un mercado bien definido</a:t>
            </a: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 Unicode MS"/>
              </a:rPr>
              <a:t>los gerentes de marketing deben mostrar un conocimiento profundo del comportamiento del consumid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 Unicode MS"/>
              </a:rPr>
              <a:t>comportamiento del consumidor</a:t>
            </a: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 Unicode MS"/>
              </a:rPr>
              <a:t>describe la forma en que los consumidores toman sus decisiones de compra y utilizan y se deshacen de los bienes o servicios adquiridos. El estudio del comportamiento del consumidor también abarca el análisis de los factores que influyen en las decisiones de compra y uso del product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838080" y="3029040"/>
            <a:ext cx="2363760" cy="2106360"/>
            <a:chOff x="838080" y="3029040"/>
            <a:chExt cx="2363760" cy="2106360"/>
          </a:xfrm>
        </p:grpSpPr>
        <p:sp>
          <p:nvSpPr>
            <p:cNvPr id="46" name=""/>
            <p:cNvSpPr/>
            <p:nvPr/>
          </p:nvSpPr>
          <p:spPr>
            <a:xfrm>
              <a:off x="838080" y="3029040"/>
              <a:ext cx="2363760" cy="21063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80080" y="3587400"/>
              <a:ext cx="174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Unicode MS"/>
                </a:rPr>
                <a:t>El proceso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Unicode MS"/>
                </a:rPr>
                <a:t>toma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Unicode MS"/>
                </a:rPr>
                <a:t>decision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Unicode MS"/>
                </a:rPr>
                <a:t>del consumi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4317840" y="1752480"/>
            <a:ext cx="3442320" cy="574920"/>
            <a:chOff x="4317840" y="1752480"/>
            <a:chExt cx="3442320" cy="574920"/>
          </a:xfrm>
        </p:grpSpPr>
        <p:sp>
          <p:nvSpPr>
            <p:cNvPr id="49" name=""/>
            <p:cNvSpPr/>
            <p:nvPr/>
          </p:nvSpPr>
          <p:spPr>
            <a:xfrm>
              <a:off x="4317840" y="1752480"/>
              <a:ext cx="3413160" cy="57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33320" y="1926360"/>
              <a:ext cx="342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Unicode MS"/>
                </a:rPr>
                <a:t>Reconocimiento de la neces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317840" y="2838600"/>
            <a:ext cx="3413160" cy="574560"/>
            <a:chOff x="4317840" y="2838600"/>
            <a:chExt cx="3413160" cy="574560"/>
          </a:xfrm>
        </p:grpSpPr>
        <p:sp>
          <p:nvSpPr>
            <p:cNvPr id="52" name=""/>
            <p:cNvSpPr/>
            <p:nvPr/>
          </p:nvSpPr>
          <p:spPr>
            <a:xfrm>
              <a:off x="4317840" y="2838600"/>
              <a:ext cx="3413160" cy="574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57240" y="3013920"/>
              <a:ext cx="300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Unicode MS"/>
                </a:rPr>
                <a:t>Búsqueda de la 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317840" y="3795840"/>
            <a:ext cx="3413160" cy="574560"/>
            <a:chOff x="4317840" y="3795840"/>
            <a:chExt cx="3413160" cy="574560"/>
          </a:xfrm>
        </p:grpSpPr>
        <p:sp>
          <p:nvSpPr>
            <p:cNvPr id="55" name=""/>
            <p:cNvSpPr/>
            <p:nvPr/>
          </p:nvSpPr>
          <p:spPr>
            <a:xfrm>
              <a:off x="4317840" y="3795840"/>
              <a:ext cx="3413160" cy="574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32120" y="3969720"/>
              <a:ext cx="285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Unicode MS"/>
                </a:rPr>
                <a:t>Evaluación de alternativ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317840" y="4881600"/>
            <a:ext cx="3413160" cy="574560"/>
            <a:chOff x="4317840" y="4881600"/>
            <a:chExt cx="3413160" cy="574560"/>
          </a:xfrm>
        </p:grpSpPr>
        <p:sp>
          <p:nvSpPr>
            <p:cNvPr id="58" name=""/>
            <p:cNvSpPr/>
            <p:nvPr/>
          </p:nvSpPr>
          <p:spPr>
            <a:xfrm>
              <a:off x="4317840" y="4881600"/>
              <a:ext cx="3413160" cy="574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62000" y="5058000"/>
              <a:ext cx="9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Unicode MS"/>
                </a:rPr>
                <a:t>Comp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317840" y="5902200"/>
            <a:ext cx="3413160" cy="574920"/>
            <a:chOff x="4317840" y="5902200"/>
            <a:chExt cx="3413160" cy="574920"/>
          </a:xfrm>
        </p:grpSpPr>
        <p:sp>
          <p:nvSpPr>
            <p:cNvPr id="61" name=""/>
            <p:cNvSpPr/>
            <p:nvPr/>
          </p:nvSpPr>
          <p:spPr>
            <a:xfrm>
              <a:off x="4317840" y="5902200"/>
              <a:ext cx="3413160" cy="574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14040" y="6076080"/>
              <a:ext cx="309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Unicode MS"/>
                </a:rPr>
                <a:t>Comportamiento poscomp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" name=""/>
          <p:cNvCxnSpPr>
            <a:stCxn id="46" idx="6"/>
            <a:endCxn id="49" idx="1"/>
          </p:cNvCxnSpPr>
          <p:nvPr/>
        </p:nvCxnSpPr>
        <p:spPr>
          <a:xfrm flipV="1">
            <a:off x="3212640" y="2039400"/>
            <a:ext cx="1094760" cy="20440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6" idx="6"/>
            <a:endCxn id="52" idx="1"/>
          </p:cNvCxnSpPr>
          <p:nvPr/>
        </p:nvCxnSpPr>
        <p:spPr>
          <a:xfrm flipV="1">
            <a:off x="3212640" y="3125160"/>
            <a:ext cx="1094760" cy="9579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46" idx="6"/>
            <a:endCxn id="55" idx="1"/>
          </p:cNvCxnSpPr>
          <p:nvPr/>
        </p:nvCxnSpPr>
        <p:spPr>
          <a:xfrm>
            <a:off x="3212640" y="4082760"/>
            <a:ext cx="109476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46" idx="6"/>
            <a:endCxn id="58" idx="1"/>
          </p:cNvCxnSpPr>
          <p:nvPr/>
        </p:nvCxnSpPr>
        <p:spPr>
          <a:xfrm>
            <a:off x="3212640" y="4083120"/>
            <a:ext cx="1094760" cy="10864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7" name=""/>
          <p:cNvCxnSpPr>
            <a:stCxn id="46" idx="6"/>
            <a:endCxn id="61" idx="1"/>
          </p:cNvCxnSpPr>
          <p:nvPr/>
        </p:nvCxnSpPr>
        <p:spPr>
          <a:xfrm>
            <a:off x="3212640" y="4083120"/>
            <a:ext cx="1094760" cy="21074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46" idx="0"/>
          </p:cNvCxnSpPr>
          <p:nvPr/>
        </p:nvCxnSpPr>
        <p:spPr>
          <a:xfrm flipH="1" flipV="1" rot="5400000">
            <a:off x="1368720" y="1489320"/>
            <a:ext cx="2178720" cy="875160"/>
          </a:xfrm>
          <a:prstGeom prst="bentConnector3">
            <a:avLst>
              <a:gd name="adj1" fmla="val 98463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2588040" y="534960"/>
            <a:ext cx="65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Proceso paso a paso empleado por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consumidores cuando compran bienes o servicio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Unicode MS"/>
              </a:rPr>
              <a:t>Tipos de decisiones de compra y niveles de participación de los consum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80880" y="1523880"/>
          <a:ext cx="8382240" cy="48704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56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RESPUE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RUTI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IMIT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XTEN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articip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a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aja a moder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iem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o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oco a moder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uc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aj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ajo a mode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lev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úsqueda de inform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ólo in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terna en su mayor pa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terna y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úmero de alternativ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o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uch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762120" y="2286000"/>
            <a:ext cx="7391160" cy="533520"/>
          </a:xfrm>
          <a:prstGeom prst="leftRightArrow">
            <a:avLst>
              <a:gd name="adj1" fmla="val 50000"/>
              <a:gd name="adj2" fmla="val 275788"/>
            </a:avLst>
          </a:prstGeom>
          <a:gradFill rotWithShape="0">
            <a:gsLst>
              <a:gs pos="0">
                <a:srgbClr val="6699ff"/>
              </a:gs>
              <a:gs pos="50000">
                <a:srgbClr val="3366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Unicode MS"/>
              </a:rPr>
              <a:t>Tipos de decisiones de compra y niveles de participación de los consum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Unicode MS"/>
              </a:rPr>
              <a:t>Participación:</a:t>
            </a: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 Tiempo y esfuerzo que un comprador invierte en los procesos de búsqueda, evaluación y decisión del comportamiento del consumi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Unicode MS"/>
              </a:rPr>
              <a:t>Comportamiento de respuesta rutinaria:</a:t>
            </a: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 Tipo de toma de decisiones que muestran los consumidores que adquieren con frecuencia bienes y servicios de bajo costo, y que exige poca búsqueda y tipo de decis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Unicode MS"/>
              </a:rPr>
              <a:t>Toma de decisiones limitada:</a:t>
            </a: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 Tipo de toma de decisiones que requiere cierto tiempo para reunir información y deliberar acerca de una marca nada familiar en una categoría familiar de produ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Unicode MS"/>
              </a:rPr>
              <a:t>Toma de decisiones extensa:</a:t>
            </a: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 Tipo de toma de decisiones mas complejo de los consumidores que compran productos con los que no están familiarizados, son caros o se adquieren rara vez; exige la utilización de varios criterios para evaluar las opciones y mucho tiempo para la búsqueda de inform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43200" y="1447920"/>
            <a:ext cx="3657600" cy="2133360"/>
          </a:xfrm>
          <a:prstGeom prst="downArrowCallout">
            <a:avLst>
              <a:gd name="adj1" fmla="val 42866"/>
              <a:gd name="adj2" fmla="val 42862"/>
              <a:gd name="adj3" fmla="val 16667"/>
              <a:gd name="adj4" fmla="val 6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Unicode MS"/>
              </a:rPr>
              <a:t>Tipos de decisiones de compra y niveles de participación de los consum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1600200"/>
            <a:ext cx="335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Factores que determi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el nivel de particip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del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09480" y="3048120"/>
            <a:ext cx="2590920" cy="1523880"/>
            <a:chOff x="609480" y="3048120"/>
            <a:chExt cx="2590920" cy="1523880"/>
          </a:xfrm>
        </p:grpSpPr>
        <p:sp>
          <p:nvSpPr>
            <p:cNvPr id="79" name=""/>
            <p:cNvSpPr/>
            <p:nvPr/>
          </p:nvSpPr>
          <p:spPr>
            <a:xfrm>
              <a:off x="609480" y="3048120"/>
              <a:ext cx="2590920" cy="1523880"/>
            </a:xfrm>
            <a:prstGeom prst="irregularSeal1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89640" y="3551760"/>
              <a:ext cx="183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Unicode MS"/>
                </a:rPr>
                <a:t>Experie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971800" y="4114800"/>
            <a:ext cx="2590920" cy="1523880"/>
            <a:chOff x="2971800" y="4114800"/>
            <a:chExt cx="2590920" cy="1523880"/>
          </a:xfrm>
        </p:grpSpPr>
        <p:sp>
          <p:nvSpPr>
            <p:cNvPr id="82" name=""/>
            <p:cNvSpPr/>
            <p:nvPr/>
          </p:nvSpPr>
          <p:spPr>
            <a:xfrm>
              <a:off x="2971800" y="4114800"/>
              <a:ext cx="2590920" cy="1523880"/>
            </a:xfrm>
            <a:prstGeom prst="irregularSeal1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72720" y="4618440"/>
              <a:ext cx="120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Unicode MS"/>
                </a:rPr>
                <a:t>Interé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066680" y="5334120"/>
            <a:ext cx="2592360" cy="1523880"/>
          </a:xfrm>
          <a:prstGeom prst="irregularSeal1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7560" y="563868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Percep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consecuencias neg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791320" y="3429000"/>
            <a:ext cx="2590560" cy="1523880"/>
            <a:chOff x="5791320" y="3429000"/>
            <a:chExt cx="2590560" cy="1523880"/>
          </a:xfrm>
        </p:grpSpPr>
        <p:sp>
          <p:nvSpPr>
            <p:cNvPr id="87" name=""/>
            <p:cNvSpPr/>
            <p:nvPr/>
          </p:nvSpPr>
          <p:spPr>
            <a:xfrm>
              <a:off x="5791320" y="3429000"/>
              <a:ext cx="2590560" cy="1523880"/>
            </a:xfrm>
            <a:prstGeom prst="irregularSeal1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36680" y="3932640"/>
              <a:ext cx="25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Unicode MS"/>
                </a:rPr>
                <a:t>Visibilidad so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638680" y="5105520"/>
            <a:ext cx="2590920" cy="1523880"/>
            <a:chOff x="5638680" y="5105520"/>
            <a:chExt cx="2590920" cy="1523880"/>
          </a:xfrm>
        </p:grpSpPr>
        <p:sp>
          <p:nvSpPr>
            <p:cNvPr id="90" name=""/>
            <p:cNvSpPr/>
            <p:nvPr/>
          </p:nvSpPr>
          <p:spPr>
            <a:xfrm>
              <a:off x="5638680" y="5105520"/>
              <a:ext cx="2590920" cy="1523880"/>
            </a:xfrm>
            <a:prstGeom prst="irregularSeal1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93080" y="5609160"/>
              <a:ext cx="149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Unicode MS"/>
                </a:rPr>
                <a:t>Situ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Unicode MS"/>
              </a:rPr>
              <a:t>Factores que influyen en las decisiones de compra del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D00028_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609840" cy="596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30880" y="1525680"/>
            <a:ext cx="30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Comprar o no comp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47720" y="2895480"/>
            <a:ext cx="2360520" cy="2930760"/>
            <a:chOff x="747720" y="2895480"/>
            <a:chExt cx="2360520" cy="2930760"/>
          </a:xfrm>
        </p:grpSpPr>
        <p:pic>
          <p:nvPicPr>
            <p:cNvPr id="96" name="BD04912_" descr=""/>
            <p:cNvPicPr/>
            <p:nvPr/>
          </p:nvPicPr>
          <p:blipFill>
            <a:blip r:embed="rId3"/>
            <a:stretch/>
          </p:blipFill>
          <p:spPr>
            <a:xfrm>
              <a:off x="762120" y="2895480"/>
              <a:ext cx="2346120" cy="29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7720" y="3048120"/>
              <a:ext cx="235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Unicode MS"/>
                </a:rPr>
                <a:t>Proceso de tom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Unicode MS"/>
                </a:rPr>
                <a:t>de decis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905120" y="1981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324480" y="2209680"/>
            <a:ext cx="2696400" cy="1295280"/>
            <a:chOff x="6324480" y="2209680"/>
            <a:chExt cx="2696400" cy="1295280"/>
          </a:xfrm>
        </p:grpSpPr>
        <p:sp>
          <p:nvSpPr>
            <p:cNvPr id="100" name=""/>
            <p:cNvSpPr/>
            <p:nvPr/>
          </p:nvSpPr>
          <p:spPr>
            <a:xfrm>
              <a:off x="6324480" y="2209680"/>
              <a:ext cx="2590920" cy="1295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37800" y="2279520"/>
              <a:ext cx="2683080" cy="1128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Unicode MS"/>
                </a:rPr>
                <a:t>Factores cultural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Cultura y val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Subcul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Clase so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581280" y="2209680"/>
            <a:ext cx="2590920" cy="1295280"/>
            <a:chOff x="3581280" y="2209680"/>
            <a:chExt cx="2590920" cy="1295280"/>
          </a:xfrm>
        </p:grpSpPr>
        <p:sp>
          <p:nvSpPr>
            <p:cNvPr id="103" name=""/>
            <p:cNvSpPr/>
            <p:nvPr/>
          </p:nvSpPr>
          <p:spPr>
            <a:xfrm>
              <a:off x="3581280" y="2209680"/>
              <a:ext cx="2590920" cy="12952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48240" y="2279520"/>
              <a:ext cx="2405880" cy="11289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Unicode MS"/>
                </a:rPr>
                <a:t>Factores social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Grupos de refere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Líderes de opin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Famil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581280" y="3733920"/>
            <a:ext cx="4572000" cy="942840"/>
            <a:chOff x="3581280" y="3733920"/>
            <a:chExt cx="4572000" cy="942840"/>
          </a:xfrm>
        </p:grpSpPr>
        <p:sp>
          <p:nvSpPr>
            <p:cNvPr id="106" name=""/>
            <p:cNvSpPr/>
            <p:nvPr/>
          </p:nvSpPr>
          <p:spPr>
            <a:xfrm>
              <a:off x="3581280" y="3733920"/>
              <a:ext cx="4572000" cy="9144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2480" y="3791160"/>
              <a:ext cx="4437000" cy="885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Unicode MS"/>
                </a:rPr>
                <a:t>Factores individual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Edad y etapa del ciclo de vida famili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Personalidad, auto concepto y estilo de v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535200" y="5105520"/>
            <a:ext cx="2946960" cy="1523880"/>
            <a:chOff x="3535200" y="5105520"/>
            <a:chExt cx="2946960" cy="1523880"/>
          </a:xfrm>
        </p:grpSpPr>
        <p:sp>
          <p:nvSpPr>
            <p:cNvPr id="109" name=""/>
            <p:cNvSpPr/>
            <p:nvPr/>
          </p:nvSpPr>
          <p:spPr>
            <a:xfrm>
              <a:off x="3581280" y="5105520"/>
              <a:ext cx="2895840" cy="15238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35200" y="5181480"/>
              <a:ext cx="2946960" cy="13723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Unicode MS"/>
                </a:rPr>
                <a:t>Factores psicológico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Percep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Motiv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Aprendiza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Creencias y actitu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1" name=""/>
          <p:cNvCxnSpPr>
            <a:stCxn id="107" idx="0"/>
            <a:endCxn id="100" idx="2"/>
          </p:cNvCxnSpPr>
          <p:nvPr/>
        </p:nvCxnSpPr>
        <p:spPr>
          <a:xfrm flipH="1" flipV="1" rot="5400000">
            <a:off x="6597720" y="2768040"/>
            <a:ext cx="286200" cy="17596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7" idx="0"/>
            <a:endCxn id="103" idx="2"/>
          </p:cNvCxnSpPr>
          <p:nvPr/>
        </p:nvCxnSpPr>
        <p:spPr>
          <a:xfrm flipV="1" rot="16200000">
            <a:off x="5225760" y="3155040"/>
            <a:ext cx="286200" cy="984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7" idx="2"/>
            <a:endCxn id="109" idx="0"/>
          </p:cNvCxnSpPr>
          <p:nvPr/>
        </p:nvCxnSpPr>
        <p:spPr>
          <a:xfrm rot="5400000">
            <a:off x="5230080" y="4474800"/>
            <a:ext cx="429480" cy="8326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6" idx="1"/>
            <a:endCxn id="96" idx="3"/>
          </p:cNvCxnSpPr>
          <p:nvPr/>
        </p:nvCxnSpPr>
        <p:spPr>
          <a:xfrm flipV="1" rot="10800000">
            <a:off x="3107520" y="4190760"/>
            <a:ext cx="473760" cy="170640"/>
          </a:xfrm>
          <a:prstGeom prst="bentConnector3">
            <a:avLst>
              <a:gd name="adj1" fmla="val 49961"/>
            </a:avLst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Unicode MS"/>
              </a:rPr>
              <a:t>Influencias culturales en las decisiones de compra del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 Unicode MS"/>
              </a:rPr>
              <a:t>Cultura: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carácter esencial de una sociedad que la distingue de otros grupos cultur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1640" indent="-47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Es domin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1640" indent="-47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Es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1640" indent="-47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Se apr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1640" indent="-47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Es diná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El elemento más definitivo de una cultura lo constituyen sus valores, las creencias perdurables, compartidas por una sociedad, de que un modo específico de conducta es preferible a otro en el aspecto personal o en el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1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1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Unicode MS"/>
              </a:rPr>
              <a:t>Influencias culturales en las decisiones de compra del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 Unicode MS"/>
              </a:rPr>
              <a:t>Subcultura: </a:t>
            </a: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grupo homogéneo de personas que comparten elementos de la cultura total, así como los elementos únicos de su propio grup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 Unicode MS"/>
              </a:rPr>
              <a:t>Clase social:</a:t>
            </a: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 Grupo de personas de una sociedad a las que se considera casi iguales en estatus o estima de la comunidad, que regularmente tienen trato social formal e informal entre sí y que comparten normas de comport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17:38:43Z</dcterms:created>
  <dc:creator>cnaranjo1</dc:creator>
  <dc:description/>
  <dc:language>en-US</dc:language>
  <cp:lastModifiedBy>LIZAG</cp:lastModifiedBy>
  <dcterms:modified xsi:type="dcterms:W3CDTF">2004-02-06T13:48:17Z</dcterms:modified>
  <cp:revision>22</cp:revision>
  <dc:subject/>
  <dc:title>CAPITULO 2 ANALISIS SITUACIONAL Y DEL ENTORNO</dc:title>
</cp:coreProperties>
</file>