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12E-6A5E-4DE8-AC44-59FBF1E5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EDB-2279-4C77-816C-161BD28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4A6-0B44-4BAB-90ED-C9758038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9BC-3EE3-4307-8E5D-57D73BF5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0697-2C49-4B6D-9172-E80E486D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C8B-165E-4795-9903-010DF53A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388-3915-42F3-8FB0-E7725645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FD5C-FADA-47C9-9436-27E8B8A6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21A3-C889-4FF8-B1AD-B451F102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EBDA-E1A5-470F-B270-701C1BAA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C754-C244-4418-A35B-AC27056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4DE-CAD4-4242-AB24-A671CAE9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25C0-27BA-42D3-9343-BE85F1A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A4C4-A914-4A41-BC21-68E38B8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218-87FD-49A6-A1DA-69DA53D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AC3-4219-4695-BC29-4A00B899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3332-1464-47A2-B355-D50364FD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A08-C20F-41BD-ABC1-7A8E5F20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E7D-FE46-4033-8F6F-C8480B4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358-0E6C-4252-BD26-BC273379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D70-0A72-4AD3-BB0F-25932ED7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A88-1802-4B5D-A623-8537C5D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D60-ECA4-4969-AA75-535B99E3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071-79C1-4DC3-9F75-965CA81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BCE-E440-4C8F-9D30-024F256B132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7AB-9C5A-4D4C-BCB0-AFCCBC569D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actores sociales que influyen las decisiones de compra del consumid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Verdana"/>
              </a:rPr>
              <a:t>Elaborado p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Marco Chinchil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llan Qui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lvaro Ques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oy So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Javier Varg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Grupo de referencia direct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3640" y="2276640"/>
            <a:ext cx="828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Grupo de participación pri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Grupo de participacion secund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rupo de referencia indirecto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po de referencia deseados o aspiraci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po de referencia no dese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actores que influyen en la decision de compra del consumido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ad ciclo de vida famili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idad, auto concepto y estilo de v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Factores psicologicos que influyen  en la decision de compra del consumido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ercepc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xposicion selecti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torcion selecti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tencion selecti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tivac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Factores psicologicos que influyen  en la decision de compra del consumido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tiv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Jerarquia de las necesidades de Maslow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prendisaj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reenc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titu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66720" y="2276640"/>
            <a:ext cx="781056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02:04:54Z</dcterms:created>
  <dc:creator>Javier</dc:creator>
  <dc:description/>
  <dc:language>en-US</dc:language>
  <cp:lastModifiedBy>Javier</cp:lastModifiedBy>
  <dcterms:modified xsi:type="dcterms:W3CDTF">2004-02-05T02:26:36Z</dcterms:modified>
  <cp:revision>2</cp:revision>
  <dc:subject/>
  <dc:title>Factores sociales que influyen las decisiones de compra del consumidor</dc:title>
</cp:coreProperties>
</file>