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350-4BDD-4203-9C33-2DBC5E19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895-8243-49B4-80ED-A80698D3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B67-92D9-4ED5-BEFF-5F2F4AEB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A8F-0E46-4774-8929-57014408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93F5-B669-473C-8EB1-4AA043CC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B723-713B-4CDB-B057-DEE8156C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6E9-6B1B-40E4-90B1-F8C59567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6D3B-BD42-4777-A899-3FC5B0E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C5D3-0991-4074-9AD6-89D0D548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98FA-B6C0-4ED2-8EEB-4F5B1DC3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6F98-7DFE-43D4-9417-59AC067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063-C734-4E8A-89F5-9C44D36A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9479-C428-4931-8D13-35C9C558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39F9-D4CF-45A9-A441-8E94E02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951-2A2F-424B-AE43-3ED75A9D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1F82-FFCB-4BD9-B626-000F1459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2BB-D931-4EB1-B532-851C2F35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177-3770-44A4-AAB0-90F7D2F8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622-891E-4652-8F0F-E41BB789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95E-A3B9-4098-81B8-3FC599E6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5F7-B011-45BF-AEF2-0926C254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C03-0749-49C6-AB9B-27EABB1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009-D4E3-47D5-90F9-9A7B556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59A-9DD5-43FD-ACBA-2B4B55B6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vantGarde Md B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antGarde Md BT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antGarde Md BT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antGarde Md BT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antGarde Md BT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antGarde Md BT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antGarde Md BT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antGarde Md BT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862-3C28-41C0-A1D5-595F64FA6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vantGarde Md B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05C1-A770-46A3-8CDA-C3CF0094C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 Md BT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vantGarde Md B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vantGarde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vantGarde Md BT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vantGarde Md B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vantGarde Md BT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vantGarde Md BT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vantGarde Md BT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vantGarde Md BT"/>
              </a:rPr>
              <a:t>Segmentaci</a:t>
            </a:r>
            <a:r>
              <a:rPr b="0" lang="es-CR" sz="4800" spc="-1" strike="noStrike">
                <a:solidFill>
                  <a:srgbClr val="ffff00"/>
                </a:solidFill>
                <a:latin typeface="AvantGarde Md BT"/>
              </a:rPr>
              <a:t>ón de mercado, marketing meta y posicionamiento</a:t>
            </a:r>
            <a:br>
              <a:rPr sz="4800"/>
            </a:br>
            <a:r>
              <a:rPr b="0" lang="es-CR" sz="3600" spc="-1" strike="noStrike">
                <a:solidFill>
                  <a:srgbClr val="ffff00"/>
                </a:solidFill>
                <a:latin typeface="AvantGarde Md BT"/>
              </a:rPr>
              <a:t>Capítulo 4, Ferrell</a:t>
            </a:r>
            <a:endParaRPr b="0" lang="en-US" sz="36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24280" y="41148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Grupo 1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Alejandra Avila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Mabel Kerzemberg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María Paz Ramírez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Pablo Sala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vantGarde Md BT"/>
              </a:rPr>
              <a:t>Manejo de relaciones de negocio a negocio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vantGarde Md BT"/>
              </a:rPr>
              <a:t>Estrategia de ganancia o p</a:t>
            </a: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érdida vs estrategia de ganancia doble (crezca el tamaño del pastel)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Cambio en las funciones de compradores y vendedores 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Especialistas en comunicacione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Aumento en el suministro exclusivo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Sistema de proveedore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vantGarde Md BT"/>
              </a:rPr>
              <a:t>Manejo de relaciones de negocio a negocio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Aumento en el suministro globa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Se busca a los mejores socios posible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Aumento en las decisiones de compra tomadas en equipo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Equipos que pertenenen tanto al lado del suministro como al lado de adquisición de las empresa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vantGarde Md BT"/>
              </a:rPr>
              <a:t>Manejo de relaciones de negocio a negocio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Capacidad de rentabilidad económica pero con mejoras en la productividad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Alinear operaciones de compra y venta para identificar y eliminar deficiencias en el proceso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Las empresas dispuestas a realizar modificaciones estratégicas y NO cosméticas en la forma de abordar a los clientes y proveedores son las que tienen probabilidades de prosperar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229600" cy="41148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Diferenciación y posicionamient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vantGarde Md BT"/>
              </a:rPr>
              <a:t>Diferenciar el producto de los productos que ofrece la competencia y posicionarlo de  manera que parezca que cuenta con las características que más desea el mercado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209680"/>
            <a:ext cx="7467480" cy="358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Estrategias de diferenciación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Descriptores de producto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aracterísticas del producto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Ventaja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Beneficio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Servicios de atención al cliente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Imagen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Impresión positiva o negativa del cliente ante el producto o la empresa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Estrategias de posicionamient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Fortalecimiento de la posición actual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Supervisar constantemente lo que los clientes desean y evaluar en qué grado satisface el producto o la empresa esas necesidades según la percepción de los cliente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5334120"/>
            <a:ext cx="5035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“</a:t>
            </a: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Levantar continuamente la imagen”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5181480"/>
            <a:ext cx="6019560" cy="1143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Estrategias de posicionamient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Pasar a una nueva posición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ambio en cualquiera de los elementos de la mezcla de marketing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Reposicionamiento de la competencia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Ataque directo a una de las fortalezas de un competidor puede poner sus productos bajo una luz menos favorable y/o oligarlo a modificar su estrategia de posicionamiento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vantGarde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5400" spc="-1" strike="noStrike">
                <a:solidFill>
                  <a:srgbClr val="ffff00"/>
                </a:solidFill>
                <a:latin typeface="AvantGarde Md BT"/>
              </a:rPr>
              <a:t>Identificación de las características y necesidades del mercado meta</a:t>
            </a:r>
            <a:endParaRPr b="1" lang="en-US" sz="5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vantGarde Md BT"/>
              </a:rPr>
              <a:t>Mercados de consum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vantGarde Md BT"/>
              </a:rPr>
              <a:t>Necesidades o deseos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505320"/>
            <a:ext cx="289548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6" name=""/>
          <p:cNvSpPr/>
          <p:nvPr/>
        </p:nvSpPr>
        <p:spPr>
          <a:xfrm>
            <a:off x="496080" y="3276720"/>
            <a:ext cx="290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vantGarde Md BT"/>
              </a:rPr>
              <a:t>Necesidades</a:t>
            </a:r>
            <a:endParaRPr b="0" lang="en-US" sz="36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7" name=""/>
          <p:cNvSpPr/>
          <p:nvPr/>
        </p:nvSpPr>
        <p:spPr>
          <a:xfrm>
            <a:off x="669960" y="2830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590920"/>
            <a:ext cx="30686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Alimento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Agua 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Vestido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Refugio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Salud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9" name=""/>
          <p:cNvSpPr/>
          <p:nvPr/>
        </p:nvSpPr>
        <p:spPr>
          <a:xfrm>
            <a:off x="124200" y="5867280"/>
            <a:ext cx="57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 Md BT"/>
              </a:rPr>
              <a:t>Ejemplo: La necesidad de un auto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438280"/>
            <a:ext cx="3581280" cy="3429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657600"/>
            <a:ext cx="1096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Mercados de consum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vantGarde Md BT"/>
              </a:rPr>
              <a:t>Necesidad</a:t>
            </a:r>
            <a:endParaRPr b="1" lang="en-US" sz="4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4" name=""/>
          <p:cNvSpPr/>
          <p:nvPr/>
        </p:nvSpPr>
        <p:spPr>
          <a:xfrm>
            <a:off x="386280" y="3581280"/>
            <a:ext cx="334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vantGarde Md BT"/>
              </a:rPr>
              <a:t>Nivel actual </a:t>
            </a:r>
            <a:endParaRPr b="0" lang="en-US" sz="36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vantGarde Md BT"/>
              </a:rPr>
              <a:t>de satisfacci</a:t>
            </a:r>
            <a:r>
              <a:rPr b="0" lang="es-CR" sz="3600" spc="-1" strike="noStrike">
                <a:solidFill>
                  <a:srgbClr val="ffff00"/>
                </a:solidFill>
                <a:latin typeface="AvantGarde Md BT"/>
              </a:rPr>
              <a:t>ón</a:t>
            </a:r>
            <a:endParaRPr b="0" lang="en-US" sz="36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5" name=""/>
          <p:cNvSpPr/>
          <p:nvPr/>
        </p:nvSpPr>
        <p:spPr>
          <a:xfrm>
            <a:off x="5491800" y="3581280"/>
            <a:ext cx="334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ff00"/>
                </a:solidFill>
                <a:latin typeface="AvantGarde Md BT"/>
              </a:rPr>
              <a:t>Nivel deseado </a:t>
            </a:r>
            <a:endParaRPr b="0" lang="en-US" sz="36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ff00"/>
                </a:solidFill>
                <a:latin typeface="AvantGarde Md BT"/>
              </a:rPr>
              <a:t>de satisfacción</a:t>
            </a:r>
            <a:endParaRPr b="0" lang="en-US" sz="36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429000"/>
            <a:ext cx="373392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429000"/>
            <a:ext cx="3581280" cy="1676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429000"/>
            <a:ext cx="3809880" cy="1600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03848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434340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038480" y="3657240"/>
            <a:ext cx="99072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Mercados de consum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00"/>
                </a:solidFill>
                <a:latin typeface="AvantGarde Md BT"/>
              </a:rPr>
              <a:t>Deseo</a:t>
            </a:r>
            <a:endParaRPr b="1" lang="en-US" sz="4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743200"/>
            <a:ext cx="694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onsumidor quiere un producto 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específico que satisfaga una necesidad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876920"/>
            <a:ext cx="84582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La idea es constituir la necesidad 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b</a:t>
            </a: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á</a:t>
            </a: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sica </a:t>
            </a: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 y convencer a los clientes 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de que deseen su producto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943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572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257800"/>
            <a:ext cx="2286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648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419720"/>
            <a:ext cx="75960" cy="1752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495680"/>
            <a:ext cx="822960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Mercados de consum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Bases de la segmentación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90920"/>
            <a:ext cx="259092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vantGarde Md BT"/>
              </a:rPr>
              <a:t>Bienestar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Género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Edad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Ingreso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Educación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666880"/>
            <a:ext cx="40384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vantGarde Md BT"/>
              </a:rPr>
              <a:t>Mentalidad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Cómo piensan y 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como opinan, 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ej, “los verdaderos ecologistas”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00600"/>
            <a:ext cx="502920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vantGarde Md BT"/>
              </a:rPr>
              <a:t>Beneficios buscados</a:t>
            </a:r>
            <a:endParaRPr b="0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2" marL="91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Razón de compra 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lvl="2" marL="91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00"/>
                </a:solidFill>
                <a:latin typeface="AvantGarde Md BT"/>
              </a:rPr>
              <a:t>ej, jóvenes desean carros deportivos</a:t>
            </a: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590920"/>
            <a:ext cx="2133720" cy="1828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800600"/>
            <a:ext cx="4114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2666880"/>
            <a:ext cx="2590560" cy="1828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Mercados de negocio a negoci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Características únicas de los mercados de negocio a negocio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Centro de compra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Productos de consumo</a:t>
            </a:r>
            <a:r>
              <a:rPr b="0" lang="en-US" sz="2800" spc="-1" strike="noStrike">
                <a:solidFill>
                  <a:srgbClr val="ffff00"/>
                </a:solidFill>
                <a:latin typeface="AvantGarde Md BT"/>
              </a:rPr>
              <a:t>:</a:t>
            </a: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 la cabeza de la familia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ompradores económicos, técnicos y usuarios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Mercados de negocio a negoci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Costos fuertes y ligeros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ostos fuertes: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00"/>
                </a:solidFill>
                <a:latin typeface="AvantGarde Md BT"/>
              </a:rPr>
              <a:t>Precio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00"/>
                </a:solidFill>
                <a:latin typeface="AvantGarde Md BT"/>
              </a:rPr>
              <a:t>Costos asociados como envío e instalación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ostos ligeros: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00"/>
                </a:solidFill>
                <a:latin typeface="AvantGarde Md BT"/>
              </a:rPr>
              <a:t>Períodos de inactividad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00"/>
                </a:solidFill>
                <a:latin typeface="AvantGarde Md BT"/>
              </a:rPr>
              <a:t>Costos de oportunidad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00"/>
                </a:solidFill>
                <a:latin typeface="AvantGarde Md BT"/>
              </a:rPr>
              <a:t>Recursos humanos asociados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AvantGarde Md BT"/>
              </a:rPr>
              <a:t>Mercados de negocio a negocio</a:t>
            </a:r>
            <a:endParaRPr b="0" lang="en-US" sz="4400" spc="-1" strike="noStrike">
              <a:solidFill>
                <a:srgbClr val="cbcbcb"/>
              </a:solidFill>
              <a:latin typeface="AvantGarde Md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Reciprocidad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ompras de consumo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00"/>
                </a:solidFill>
                <a:latin typeface="AvantGarde Md BT"/>
              </a:rPr>
              <a:t>Oportunidad de adquirir y vender es en una sola vía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Marketing de negocio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vantGarde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00"/>
                </a:solidFill>
                <a:latin typeface="AvantGarde Md BT"/>
              </a:rPr>
              <a:t>Dos direcciones</a:t>
            </a:r>
            <a:endParaRPr b="1" lang="en-US" sz="2400" spc="-1" strike="noStrike">
              <a:solidFill>
                <a:srgbClr val="ffffff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vantGarde Md BT"/>
              </a:rPr>
              <a:t>Dependencia mutua</a:t>
            </a:r>
            <a:endParaRPr b="1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AvantGarde Md BT"/>
              </a:rPr>
              <a:t>Comprador y vendedor dependen uno del otro</a:t>
            </a:r>
            <a:endParaRPr b="1" lang="en-US" sz="28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9:18:52Z</dcterms:created>
  <dc:creator>Lic. Mabel Kerzemberg</dc:creator>
  <dc:description/>
  <dc:language>en-US</dc:language>
  <cp:lastModifiedBy>Kerzem</cp:lastModifiedBy>
  <dcterms:modified xsi:type="dcterms:W3CDTF">2004-02-12T15:32:08Z</dcterms:modified>
  <cp:revision>189</cp:revision>
  <dc:subject>Nutrición</dc:subject>
  <dc:title>Alimentación para la prevención de enfermedades crónicas</dc:title>
</cp:coreProperties>
</file>