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7F3-CF21-478F-8A63-EB8C58D4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B4C-8932-4DFA-B85C-A676B168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7AF-1B2C-483D-B61D-2EDFACB4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012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012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859-D2AD-44B4-914C-B6F39E31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6094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6C8-1757-4119-B7F0-5E3F895D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0416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012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20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0416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012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6AC-8A1B-4DF7-9720-3BDD8802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5CD-4F2C-48D6-A74D-E21E0326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90E-B4DF-483F-AB25-00E3B6FC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6094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3BE-3481-484F-8BF5-7E0B8C6F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CE9-8508-460B-8F15-E919CF4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45C-1256-40DB-BFE2-25BD3CB0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32F-4F3A-40C7-B828-02F4A86A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ea978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ea978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ea978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ea978e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431E-BF46-487E-90B6-C61E91A5C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5334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rebuchet MS"/>
              </a:rPr>
              <a:t>Click to edit the outline text format</a:t>
            </a: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ea978e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ea978e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ea978e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NCEPTOS DE PRODUCTO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6840" y="31237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aeaea"/>
                </a:solidFill>
                <a:latin typeface="Trebuchet MS"/>
              </a:rPr>
              <a:t>Integrantes Grupo N°3:</a:t>
            </a: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rebuchet MS"/>
              </a:rPr>
              <a:t>Jorge León</a:t>
            </a: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rebuchet MS"/>
              </a:rPr>
              <a:t>Laura Ortiz</a:t>
            </a: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rebuchet MS"/>
              </a:rPr>
              <a:t>Ronald Porras</a:t>
            </a: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rebuchet MS"/>
              </a:rPr>
              <a:t>Luis Urain</a:t>
            </a:r>
            <a:endParaRPr b="1" i="1" lang="en-US" sz="2400" spc="-1" strike="noStrike">
              <a:solidFill>
                <a:srgbClr val="eaeae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52480" y="609480"/>
            <a:ext cx="5073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SO DE MARC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839080" cy="36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l uso de marcas es la herramienta principal que utilizan los mercadólogos para diferenciar sus productos de los de la competencia.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80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8000" indent="-28800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arca: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es un nombre, título, símbolo, diseño o combinación de estos elementos que identifica los productos de un vendedor y los distingue de los de la competencia.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SO DE MARC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Nombre de Marca: </a:t>
            </a: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s aquella parte de una marca que es posible expresar de manera oral e incluye letras (GM, YMCA), palabras (Chevrolet) y números (7-Eleven). A los elementos de una marca que no se expresan verbalmente se conocen como emblema o logotipo de marca.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SO DE MARC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La mayoría de los nombre de marca eficaces tienen varias de las siguientes características: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01680" indent="-301680" algn="just">
              <a:spcBef>
                <a:spcPts val="700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ácil de pronunciar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01680" indent="-301680" algn="just">
              <a:spcBef>
                <a:spcPts val="700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ácil de reconocer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01680" indent="-301680" algn="just">
              <a:spcBef>
                <a:spcPts val="700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ácil de recordar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01680" indent="-301680" algn="just">
              <a:spcBef>
                <a:spcPts val="700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orto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01680" indent="-301680" algn="just">
              <a:spcBef>
                <a:spcPts val="700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Distintivo, singular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01680" indent="-301680" algn="just">
              <a:spcBef>
                <a:spcPts val="700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Describe el producto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SO DE MARC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Los tres propósitos principales del uso de marcas son: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80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8000" indent="-28800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Identificación del Producto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80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8000" indent="-28800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Repetición de las Venta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80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8000" indent="-28800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Venta de Nuevos Producto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SO DE MARC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alor de Marca: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se refiere al valor que tienen el nombre de la compañía y sus marcas. Una marca con un gran valor de marca es un activo valioso para la empresa.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01680" indent="-30168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arca Maestra: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se refiere a una marca que domina tanto la mente de los consumidores, que éstos de inmediato piensan en ella cuando se menciona la categoría de un producto, su uso, atributos o beneficios para el client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SO DE MARC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spcBef>
                <a:spcPts val="751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rebuchet MS"/>
              </a:rPr>
              <a:t>Muchas empresas utilizan diferentes nombres de marca para diferentes productos, a esto se le conoce como </a:t>
            </a:r>
            <a:r>
              <a:rPr b="0" lang="es-ES_tradnl" sz="3000" spc="-1" strike="noStrike">
                <a:solidFill>
                  <a:srgbClr val="ffffff"/>
                </a:solidFill>
                <a:latin typeface="Trebuchet MS"/>
              </a:rPr>
              <a:t>manejo de marcas individuales</a:t>
            </a:r>
            <a:r>
              <a:rPr b="1" lang="es-ES_tradnl" sz="3000" spc="-1" strike="noStrike">
                <a:solidFill>
                  <a:srgbClr val="ffffff"/>
                </a:solidFill>
                <a:latin typeface="Trebuchet MS"/>
              </a:rPr>
              <a:t>. Ej. Sara Le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294840" indent="-294840" algn="just">
              <a:spcBef>
                <a:spcPts val="751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rebuchet MS"/>
              </a:rPr>
              <a:t>Una compañía que vende diferentes productos con el mismo nombre de marca utiliza una </a:t>
            </a:r>
            <a:r>
              <a:rPr b="0" lang="es-ES_tradnl" sz="3000" spc="-1" strike="noStrike">
                <a:solidFill>
                  <a:srgbClr val="ffffff"/>
                </a:solidFill>
                <a:latin typeface="Trebuchet MS"/>
              </a:rPr>
              <a:t>marca de familia</a:t>
            </a:r>
            <a:r>
              <a:rPr b="1" lang="es-ES_tradnl" sz="3000" spc="-1" strike="noStrike">
                <a:solidFill>
                  <a:srgbClr val="ffffff"/>
                </a:solidFill>
                <a:latin typeface="Trebuchet MS"/>
              </a:rPr>
              <a:t>. Ej. Sony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294840" indent="-294840" algn="just">
              <a:spcBef>
                <a:spcPts val="751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rebuchet MS"/>
              </a:rPr>
              <a:t>Las marcas compartidas significan la colocación de dos o más nombres de marcas sobre un producto o empaque. Ej. Nabisco y Kraf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2948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SO DE MARC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Marca Registrada: </a:t>
            </a: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s el derecho exclusivo a utilizar una marca o parte de la misma. Partes de una marca u otra identificación del producto pueden acogerse a la protección de marcas registradas, por ejemplo: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ea978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rebuchet MS"/>
              </a:rPr>
              <a:t>Formas</a:t>
            </a:r>
            <a:endParaRPr b="1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ea978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rebuchet MS"/>
              </a:rPr>
              <a:t>Color o diseño ornamental</a:t>
            </a:r>
            <a:endParaRPr b="1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ea978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rebuchet MS"/>
              </a:rPr>
              <a:t>Slogans</a:t>
            </a:r>
            <a:endParaRPr b="1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ea978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rebuchet MS"/>
              </a:rPr>
              <a:t>Abreviaciones</a:t>
            </a:r>
            <a:endParaRPr b="1" i="1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6400" y="609480"/>
            <a:ext cx="410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MPAQU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unciones del Empaque: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ontenido y protección de los producto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La promoción de productos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acilidad de almacenamiento, uso y disposición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 algn="just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Facilidad de reciclaje y reductor del daño al ambient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3:01:49Z</dcterms:created>
  <dc:creator>LuisU</dc:creator>
  <dc:description/>
  <dc:language>en-US</dc:language>
  <cp:lastModifiedBy>LuisU</cp:lastModifiedBy>
  <dcterms:modified xsi:type="dcterms:W3CDTF">2004-02-12T16:21:17Z</dcterms:modified>
  <cp:revision>5</cp:revision>
  <dc:subject/>
  <dc:title>CONCEPTOS DE PRODUCTO</dc:title>
</cp:coreProperties>
</file>