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ED9-88F4-4D5A-9F98-B1D3F825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628-1D48-45BA-BFBC-7FBBAFB2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E8B-3908-453F-B4EA-D794C7FE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7FF-72EB-4B80-8256-A28EB38B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F42B-4296-47A8-AB71-7FF109C9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B333-FC11-42C7-A83C-E07525F3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4653-6CF2-43C8-942F-73E9C2A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0A32-7939-49BF-8D4E-6AC0B29E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CFF3-7258-43A2-B103-AF68764B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0232-5240-4000-BC07-8EF380DD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87D6-0E86-484C-A7D8-B5F07755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795-F76A-4BDA-8268-E70FD973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D5DD-2A26-4A2E-984F-AA349A54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2E1D-DB7E-48B6-BD35-B624871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4FEA-6FE5-4D44-86BC-8933234F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179C-EEE9-4617-9144-556F864A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83F3-7E34-4F47-8862-7D13FA76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B83-72BD-4FB4-B3F4-79F5F20B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BDB-FA20-4C64-BA7D-BC19D542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196-7DBD-4EAD-A82C-D202AD4E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FCA-5174-4E54-AB5D-389904C9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B14-D129-4FD4-8429-F8199D5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7E6-A86F-4900-9604-68BE5ED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D77-7A0D-4C59-8D51-4C06FC10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7891-28D4-41F0-A649-2ABDAA0A05F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6E38-12CA-4CDC-9C33-B54C15D9C2F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65440" y="2268360"/>
            <a:ext cx="56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Book Antiqua"/>
              </a:rPr>
              <a:t>Balanced Scored Car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6172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Book Antiqua"/>
              </a:rPr>
              <a:t>Liza Gutiérrez - Christian Naranjo - Francina Ocampo - Juan V. Varg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58840" y="2971800"/>
            <a:ext cx="721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‘</a:t>
            </a: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raduciendo la Estrategia de Acción’</a:t>
            </a: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por Robert S. Kaplan y David O. Norton - 199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066680"/>
            <a:ext cx="807732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¿Qué 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Herramienta gerencial que permite evaluar desempeño por medio de la combinación de indicadores financieros y no financier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e conoce como cuadro o tablero de man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¿Qué busc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Vincular el logro de las estrategias a largo plazo con las operaciones diarias de una organiz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¿Por qué se usa?</a:t>
            </a:r>
            <a:br>
              <a:rPr sz="2400"/>
            </a:b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Porque los indicadores financieros ya no son suficientes par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medir el desempeño (los activos intangibles y las relaciones 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han hecho importante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14640" y="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Balanced Scored C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79600"/>
            <a:ext cx="4038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3733920" cy="1828800"/>
          </a:xfrm>
          <a:prstGeom prst="irregularSeal1">
            <a:avLst/>
          </a:prstGeom>
          <a:solidFill>
            <a:srgbClr val="cc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52280" y="990720"/>
            <a:ext cx="929628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        </a:t>
            </a: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4 Perspectivas</a:t>
            </a: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    </a:t>
            </a: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1250"/>
              </a:spcBef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inanciera…………………………….Cómo nos ven los accionista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     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Definición de la  estrategia financiera según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spcBef>
                <a:spcPts val="675"/>
              </a:spcBef>
              <a:buClr>
                <a:srgbClr val="ffffcc"/>
              </a:buClr>
              <a:buFont typeface="Book Antiqu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La fase en la que se encuentre la empres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spcBef>
                <a:spcPts val="675"/>
              </a:spcBef>
              <a:buClr>
                <a:srgbClr val="ffffcc"/>
              </a:buClr>
              <a:buFont typeface="Book Antiqu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El tema estratégic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Conocimiento del Cliente…………..Cómo queremos que nos perciban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  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Conocimiento del segmento de mercado y el perfil del clien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 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Propuesta de Valor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Atributos del producto o servic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Relación del clien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Imagen y reput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14640" y="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Balanced Scored C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579600"/>
            <a:ext cx="4038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1295280"/>
            <a:ext cx="89917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751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Procesos Internos del Negocio……..En que proceso queremos destacar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Alineamiento de los elementos de la cadena de val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Procesos Internos creados por la cadena de valor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Inno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Operacion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Servicios Post-venta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prendizaje y Crecimiento…………Habilidad para cambiar y mejor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  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Incremento de la capacidad organizacio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Emplea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Sistem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Alineación organizacional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14640" y="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Balanced Scored C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579600"/>
            <a:ext cx="4038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3733920" cy="1981080"/>
          </a:xfrm>
          <a:prstGeom prst="irregularSeal1">
            <a:avLst/>
          </a:prstGeom>
          <a:solidFill>
            <a:srgbClr val="cc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990720"/>
            <a:ext cx="899172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Implement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51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Medidas de Result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	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¿Cómo fueron las decisiones gerenciales tomadas en el pasado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51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Medidas de Motivadores de Desempeñ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	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¿Qué tan original es una organización? ¿Cómo es su estrategia Comercial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51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Relaciones Causa-Efec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	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Relación entre el programa de mejoramiento y el desempeño financie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14640" y="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Balanced Scored C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579600"/>
            <a:ext cx="4038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43240" y="5772240"/>
            <a:ext cx="44575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 Antiqua"/>
              </a:rPr>
              <a:t>Al final       Mejora = $</a:t>
            </a:r>
            <a:endParaRPr b="0" lang="en-US" sz="24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143000"/>
            <a:ext cx="2667240" cy="1600200"/>
          </a:xfrm>
          <a:prstGeom prst="irregularSeal1">
            <a:avLst/>
          </a:prstGeom>
          <a:solidFill>
            <a:srgbClr val="cc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cc"/>
                </a:solidFill>
                <a:latin typeface="Book Antiqua"/>
              </a:rPr>
              <a:t>Indicado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371600"/>
            <a:ext cx="8991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cc"/>
                </a:solidFill>
                <a:latin typeface="Book Antiqua"/>
              </a:rPr>
              <a:t>Adaptando el Balance Scorecard a la organiz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14640" y="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Balanced Scored C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79600"/>
            <a:ext cx="4038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295200" y="2286000"/>
            <a:ext cx="950148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Corporaciones con varias unidad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Objetivos corporativos a los que debe alinerse el resto de las unidades de negoc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Alianzas y f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Valor agregado en una relación ganar - gan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Departamentos de apoyo en corporac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Evaluación individual de cada unidad de negoc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Empresas sin fines de lucro y guberna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Justificación de existencia de estas organiz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371600"/>
            <a:ext cx="899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cc"/>
                </a:solidFill>
                <a:latin typeface="Book Antiqua"/>
              </a:rPr>
              <a:t>El Balance Scorecard como Sistema de Gerencia Estratég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14640" y="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Balanced Scored C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579600"/>
            <a:ext cx="4038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6720" y="2514600"/>
            <a:ext cx="768168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Visiones y estrategias que no son proces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Dirección. Alineamiento entre la visión y los objetivos estratégic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Comunicación a todos los niveles de la organiz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Estrategias no vinculadas a las metas de equipo e individu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Comunicación eficiente conlos emplea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Estrategia traducida en me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Relación entre compensación y logro de meta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371600"/>
            <a:ext cx="899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cc"/>
                </a:solidFill>
                <a:latin typeface="Book Antiqua"/>
              </a:rPr>
              <a:t>El Balance Scorecard como Sistema de Gerencia Estratég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14640" y="0"/>
            <a:ext cx="45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Balanced Scored C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579600"/>
            <a:ext cx="4038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2209680"/>
            <a:ext cx="792216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Estrategias no vinculadas a la ubicación de recu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Integración entre presupuesto y planificación estratégica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Establecer objetivos ambicios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Identificar y justificar iniciativas estratégic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Identificar iniciativas importantes entre unidad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Dirigir el vínculo entre la ubicación de recursos y presupues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cc"/>
                </a:solidFill>
                <a:latin typeface="Book Antiqua"/>
              </a:rPr>
              <a:t>Retroalimentación táctica en lugar de estratégic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¿Cómo está siendo implementada la estrategia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  </a:t>
            </a: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Proceso de aprendizaje estratégico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Desarrollo de estructura estratégica comú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Datos de desempeño en el proceso de retroaliment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cc"/>
                </a:solidFill>
                <a:latin typeface="Book Antiqua"/>
              </a:rPr>
              <a:t>Equipo basado en los procesos de resolución de problem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133720" y="1981080"/>
            <a:ext cx="487656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acias!</a:t>
            </a:r>
            <a:endParaRPr b="0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22:41:31Z</dcterms:created>
  <dc:creator>LIZAG</dc:creator>
  <dc:description/>
  <dc:language>en-US</dc:language>
  <cp:lastModifiedBy>Ronald Alvarez G.</cp:lastModifiedBy>
  <dcterms:modified xsi:type="dcterms:W3CDTF">2004-03-03T03:10:34Z</dcterms:modified>
  <cp:revision>29</cp:revision>
  <dc:subject/>
  <dc:title>PowerPoint Presentation</dc:title>
</cp:coreProperties>
</file>