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3DA-56DD-4A99-9D0D-BE2A010A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F4C-0D97-4D34-9E33-F149FF9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70A-7C6C-4124-A801-28E722BA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C0A-D08C-4694-AB45-19FF01AF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4B8-C591-49AA-A026-A1C64104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F90-7947-4781-87F7-AB9DFF1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A56-D9FF-4897-BAF0-EEB4BC99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3E9-58B4-44E4-9074-A1C88EBD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66A-DA43-4DCB-8F5E-15975051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20F-8E1C-49D7-BAB2-35AF3E0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A89-8C46-471F-BD88-F8B3410B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5F1-3A78-4F15-899E-3DFCD7D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253B-A345-46C3-A901-4363A8EA302A}" type="slidenum"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000000"/>
                </a:solidFill>
                <a:latin typeface="Verdana"/>
              </a:rPr>
              <a:t>BALANCED SCORED  CARD</a:t>
            </a:r>
            <a:r>
              <a:rPr b="0" lang="es-EC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24480" y="4495680"/>
            <a:ext cx="4724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Verdana"/>
              </a:rPr>
              <a:t>Grupo #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Verdana"/>
              </a:rPr>
              <a:t>Roy S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Verdana"/>
              </a:rPr>
              <a:t>Allan Qui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Verdana"/>
              </a:rPr>
              <a:t>Javier V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Verdana"/>
              </a:rPr>
              <a:t>Marco Chinch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Verdana"/>
              </a:rPr>
              <a:t>Alvaro Que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57880" cy="5686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PA ESTRATE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000000"/>
                </a:solidFill>
                <a:latin typeface="Verdana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Verdana"/>
              </a:rPr>
              <a:t>El Cuadro de Mando Integral o BSC comtempla 4 perspectiv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liente o Consumido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en Servicio,productos de óptima calidad,costo adecuado, entrega a tiempo, rend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terna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os de la empresa deben estudiarse y evaluarse para conseguir la satisfacción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novación o aprendizaje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cia es feroz,empresa debe ser apta para innovar y mejorar.Productos nuevos, con capacidades mayores y atrac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nanciera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dimientos adecuados para los acc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000000"/>
                </a:solidFill>
                <a:latin typeface="Verdana"/>
              </a:rPr>
              <a:t>Ventajas del BS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Verdana"/>
              </a:rPr>
              <a:t>El cumplimiento de los 4 pilares contribuye e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Verdana"/>
              </a:rPr>
              <a:t>Motivacion empl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Verdana"/>
              </a:rPr>
              <a:t>Mejora todas las etapas cadena 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Verdana"/>
              </a:rPr>
              <a:t>Satisfacer expectativa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Verdana"/>
              </a:rPr>
              <a:t>Lealtad de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Verdana"/>
              </a:rPr>
              <a:t>Mayores rendimientos economicos a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Verdana"/>
              </a:rPr>
              <a:t>Mapas</a:t>
            </a:r>
            <a:r>
              <a:rPr b="0" lang="es-EC" sz="4400" spc="-1" strike="noStrike">
                <a:solidFill>
                  <a:srgbClr val="000000"/>
                </a:solidFill>
                <a:latin typeface="Verdana"/>
              </a:rPr>
              <a:t> Estrateg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oblemas con su estrateg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Verdana"/>
                <a:ea typeface="Arial"/>
              </a:rPr>
              <a:t>Los mapas estratégicos permiten describir e ilustrar,</a:t>
            </a:r>
            <a:r>
              <a:rPr b="0" lang="es-CR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iciativas, objetivos de mercado, medidas de desempeño y todos los lazos de unión entre las piezas de la estrategia.</a:t>
            </a:r>
            <a:r>
              <a:rPr b="0" lang="es-EC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Ventajas M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ocimiento de parte empleados cómo su trabajo se relaciona con los objetivo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ocimiento más profundo de la  estrategia  por parte de los dire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os para corregir cualquier error o desviación que se produzca durante la ejecución de la estrategia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Arial"/>
              </a:rPr>
              <a:t>Demuestran cómo convertir las iniciativas y recursos – en objetivos tang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Informacion Incluida en los M.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Arial"/>
              </a:rPr>
              <a:t>Objetivos crecimiento de </a:t>
            </a: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ercados en expa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Fidelización de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apel de la inno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xcelencia de productos,servicios y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versiones necesarias en personal y sistemas para cumplir los objetivos diseñados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Porque son necesarios los M.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Verdana"/>
                <a:ea typeface="Arial"/>
              </a:rPr>
              <a:t>La economía basada en activos tang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Verdana"/>
                <a:ea typeface="Arial"/>
              </a:rPr>
              <a:t>Empresas describian su estrategia por medio de herramientas financi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Verdana"/>
                <a:ea typeface="Arial"/>
              </a:rPr>
              <a:t>Las empresas deben crear y utilizar activos intang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Verdana"/>
                <a:ea typeface="Arial"/>
              </a:rPr>
              <a:t>Activos intangibles fuente indudable de ventaja compa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Porque son necesarios los M.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Verdana"/>
                <a:ea typeface="Arial"/>
              </a:rPr>
              <a:t>No existen herramientas para describirlos y mostrar  crean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Verdana"/>
                <a:ea typeface="Arial"/>
              </a:rPr>
              <a:t>Ningún activo intangible por sí solo puede crear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Verdana"/>
                <a:ea typeface="Arial"/>
              </a:rPr>
              <a:t>Crean valor en unión con otros activos y con una estrategia (unifique-signific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Como se dise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ña un M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Verdana"/>
                <a:ea typeface="Arial"/>
              </a:rPr>
              <a:t>Consta de cuatro apartados : finanzas, clientes, procesos internos, crecimiento –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Verdana"/>
                <a:ea typeface="Arial"/>
              </a:rPr>
              <a:t>Diseñarse de arriba abajo, empezando con el lugar de destino y describiendo los caminos que llevarán a tal p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Verdana"/>
                <a:ea typeface="Arial"/>
              </a:rPr>
              <a:t>Directivos deben revisar la misión y los valores básico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Verdana"/>
                <a:ea typeface="Arial"/>
              </a:rPr>
              <a:t>Desarrollar una visión estratégica de la empresa en e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Verdana"/>
                <a:ea typeface="Arial"/>
              </a:rPr>
              <a:t>La visión debe crear una imagen clara del objetivo general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2:27:53Z</dcterms:created>
  <dc:creator>RSosa</dc:creator>
  <dc:description/>
  <dc:language>en-US</dc:language>
  <cp:lastModifiedBy>RSosa</cp:lastModifiedBy>
  <dcterms:modified xsi:type="dcterms:W3CDTF">2004-02-12T15:58:06Z</dcterms:modified>
  <cp:revision>4</cp:revision>
  <dc:subject/>
  <dc:title>BALANCED SCORED  CARD </dc:title>
</cp:coreProperties>
</file>