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4427-A4D0-4109-B474-D8933430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7586-AC95-4FBF-9D5C-8D7B678A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C469-4A21-4EE4-A065-FAC0CDB3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62064-3790-4A36-8CB5-5E87D47E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696E-5D58-486C-97A9-FFDE4CCD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15DB-98BD-4E7A-A1A4-663BE6C0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7CA4-3E2A-4817-B607-EFFB5E56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0811-6402-4657-82E6-A5B1F61D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A818-C845-4ABC-8261-C06BF4A6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2FD4-67D7-4C0E-A657-D48A4858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DCF7-1AA1-425C-8AC2-29554518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6CC5-842C-4249-9D2D-5A8C2B31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0F75-2665-49D4-98EB-CEE7A9E3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ED82-312B-439B-8638-DAF375F3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4E70-C25A-465F-AB5C-8B6B4F1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F8B7-65CF-4E37-AD43-B8CB6E82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E8CB-D1E1-455B-A09D-2B0CD8DA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BE275-8FD2-4C95-9465-D7866D0B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3F1E-61FF-47F8-9E54-9B52010C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0B26-ED3D-48F8-8201-98078E7C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6D07-565F-4281-BFDE-5A94DA6B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EC7B-585E-4F4C-B283-A621940B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49BE-A553-40CC-8763-EFA82EC8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E18B-2E0E-4B43-A281-9433150A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BFEE-6536-4CA9-8132-633B1DF3DC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83D6-57C0-4CC4-9662-6313EE468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80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5000" spc="-1" strike="noStrike">
                <a:solidFill>
                  <a:srgbClr val="990033"/>
                </a:solidFill>
                <a:latin typeface="Arial Narrow"/>
              </a:rPr>
              <a:t>Estrategia de producto</a:t>
            </a:r>
            <a:br>
              <a:rPr sz="5000"/>
            </a:br>
            <a:r>
              <a:rPr b="0" lang="es-CR" sz="3300" spc="-1" strike="noStrike">
                <a:solidFill>
                  <a:srgbClr val="990033"/>
                </a:solidFill>
                <a:latin typeface="Arial Narrow"/>
              </a:rPr>
              <a:t>Capítulo 6:  Ferrel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2895480"/>
            <a:ext cx="3276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Arial Narrow"/>
              </a:rPr>
              <a:t>Integr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 Narrow"/>
              </a:rPr>
              <a:t>Pablo Sal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 Narrow"/>
              </a:rPr>
              <a:t>María Paz Ramír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 Narrow"/>
              </a:rPr>
              <a:t>Mabel Kerzember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000000"/>
                </a:solidFill>
                <a:latin typeface="Arial Narrow"/>
              </a:rPr>
              <a:t>Alejandra Avil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71600" y="2590920"/>
            <a:ext cx="6553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racias por su aten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796284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990033"/>
                </a:solidFill>
                <a:latin typeface="Arial Narrow"/>
              </a:rPr>
              <a:t>General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770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Producto:  centro de la estrategia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Combinación de bienes y servicios, ideas,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Valor del producto se deriva de la posibilidad que tienen de ofrecer beneficios que mejoran la situación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Factor de éxito:  desarrollo de productos, sistemas y procesos que identifican y satisfacen las necesidades de mercado meta (monitore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990033"/>
                </a:solidFill>
                <a:latin typeface="Arial Narrow"/>
              </a:rPr>
              <a:t>Desarrollo de nuevos produ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5840" y="2308320"/>
            <a:ext cx="77709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Factor de éxito:  correspondencia fortalezas de la organización y oportunidad del 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Empresa y clientes determinan si un producto es nuevo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990033"/>
                </a:solidFill>
                <a:latin typeface="Arial Narrow"/>
              </a:rPr>
              <a:t>Estretegias de Mk relacionadas con </a:t>
            </a:r>
            <a:br>
              <a:rPr sz="3600"/>
            </a:br>
            <a:r>
              <a:rPr b="1" lang="es-CR" sz="3600" spc="-1" strike="noStrike">
                <a:solidFill>
                  <a:srgbClr val="990033"/>
                </a:solidFill>
                <a:latin typeface="Arial Narrow"/>
              </a:rPr>
              <a:t>la novedad en los produ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5840" y="2133360"/>
            <a:ext cx="77709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Innovación:  opción más radical.  Esfuerzo pio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Líneas de producto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Extensiones de línea de los productos:  nuevos estilos o modelos que complementan la línea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Mejoras o cambios en producto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Reposicionamiento:  modificación de productos existentes orientados a nuevos mercados o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Reducciones de costo:  modificaciones a productos que ofrecen rendimiento similar a precio más 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143000"/>
            <a:ext cx="2667240" cy="144792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Innov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Líneas de producto nue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762120"/>
            <a:ext cx="3429000" cy="198108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Extensiones de línea de l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Mejoras o camb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Re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Reducciones de 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1980720" y="3048120"/>
            <a:ext cx="762120" cy="609480"/>
          </a:xfrm>
          <a:custGeom>
            <a:avLst/>
            <a:gdLst>
              <a:gd name="textAreaLeft" fmla="*/ 95040 w 762120"/>
              <a:gd name="textAreaRight" fmla="*/ 667080 w 762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191120"/>
            <a:ext cx="2666880" cy="14475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Cuando la empresa des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diferencia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significativ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4191120"/>
            <a:ext cx="2667240" cy="14475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Cuando hay limi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de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400440" y="3124080"/>
            <a:ext cx="761760" cy="609480"/>
          </a:xfrm>
          <a:custGeom>
            <a:avLst/>
            <a:gdLst>
              <a:gd name="textAreaLeft" fmla="*/ 95040 w 761760"/>
              <a:gd name="textAreaRight" fmla="*/ 666720 w 7617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990033"/>
                </a:solidFill>
                <a:latin typeface="Arial Narrow"/>
              </a:rPr>
              <a:t>Ciclo de vida del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1371600"/>
            <a:ext cx="6400800" cy="685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9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Etapa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3352680"/>
            <a:ext cx="3200400" cy="221004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Cre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Eval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Depuración exitosa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83800" y="26622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Compr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1280" y="259092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Aspectos 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3352680"/>
            <a:ext cx="3200400" cy="221004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Necesidades del mercado m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Beneficios y usos po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Potencial de desarrollo líneas p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Viabilidad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4395600">
            <a:off x="8000640" y="19807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6386600">
            <a:off x="875160" y="1943280"/>
            <a:ext cx="914400" cy="838080"/>
          </a:xfrm>
          <a:custGeom>
            <a:avLst/>
            <a:gdLst>
              <a:gd name="textAreaLeft" fmla="*/ 360 w 914400"/>
              <a:gd name="textAreaRight" fmla="*/ 915120 w 9144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76520" y="838080"/>
            <a:ext cx="6400800" cy="685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9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Etapa de 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7880" y="21286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Consist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6360" y="20527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Metas de la estrategia 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743200"/>
            <a:ext cx="4800600" cy="274320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Atraer 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Inducir a que prueben y comp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Fortalecer o ampliar relaciones can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Consolidar disponibilidad y visibilidad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Actividades de instrucción a clientes para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convenzan a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4395600">
            <a:off x="7848360" y="137124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6386600">
            <a:off x="875160" y="1486080"/>
            <a:ext cx="914400" cy="838080"/>
          </a:xfrm>
          <a:custGeom>
            <a:avLst/>
            <a:gdLst>
              <a:gd name="textAreaLeft" fmla="*/ 360 w 914400"/>
              <a:gd name="textAreaRight" fmla="*/ 915120 w 9144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4572000"/>
            <a:ext cx="2438640" cy="144792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Anun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Relaciones públ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Esfuerzos publici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440" y="40384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cc0000"/>
                </a:solidFill>
                <a:latin typeface="Times New Roman"/>
              </a:rPr>
              <a:t>Me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819520"/>
            <a:ext cx="2438640" cy="83808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Atraer a client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que acepten 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76520" y="838080"/>
            <a:ext cx="6400800" cy="685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9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Etapa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200400"/>
            <a:ext cx="274320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7000" y="213372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Consist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8480" y="21337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Metas de la estrategia 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743200"/>
            <a:ext cx="3504960" cy="304812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Utilizar ventajas percep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Establecer identidad de marca o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Crear posición de producto única o ni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Optimizar disponibilidad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Equilibrio ideal entre precio y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Mantener control en la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4395600">
            <a:off x="8000640" y="12949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rot="16386600">
            <a:off x="722880" y="1486080"/>
            <a:ext cx="914400" cy="838080"/>
          </a:xfrm>
          <a:custGeom>
            <a:avLst/>
            <a:gdLst>
              <a:gd name="textAreaLeft" fmla="*/ 360 w 914400"/>
              <a:gd name="textAreaRight" fmla="*/ 915120 w 9144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2680" y="39625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cc0000"/>
                </a:solidFill>
                <a:latin typeface="Arial Narrow"/>
              </a:rPr>
              <a:t>Prior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34290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62"/>
                </a:solidFill>
                <a:latin typeface="Arial Narrow"/>
              </a:rPr>
              <a:t>Generar 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62"/>
                </a:solidFill>
                <a:latin typeface="Arial Narrow"/>
              </a:rPr>
              <a:t>continuas y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62"/>
                </a:solidFill>
                <a:latin typeface="Arial Narrow"/>
              </a:rPr>
              <a:t>por la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819520"/>
            <a:ext cx="2438280" cy="83808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Posicionar producto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que se perciban 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calidad, precio o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495680"/>
            <a:ext cx="3581640" cy="175284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Establecer posición de merc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sólida y defenderla de 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Objetivos financieros para recupe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inversión y ganar suficiente para just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compromiso a largo plaz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95720" y="6095880"/>
            <a:ext cx="30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7d"/>
                </a:solidFill>
                <a:latin typeface="Arial Narrow"/>
              </a:rPr>
              <a:t>Publicidad orientada a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7d"/>
                </a:solidFill>
                <a:latin typeface="Arial Narrow"/>
              </a:rPr>
              <a:t>Ventas pers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52480" y="533520"/>
            <a:ext cx="6400800" cy="6858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9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Etapa de Madur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7000" y="213372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Consist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63560" y="16765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Metas de la estrategia M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209680"/>
            <a:ext cx="3504960" cy="175284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Generar flujo de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Conservar la participa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Aumentar participación de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4395600">
            <a:off x="8000640" y="8377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16386600">
            <a:off x="646560" y="1333440"/>
            <a:ext cx="914400" cy="838080"/>
          </a:xfrm>
          <a:custGeom>
            <a:avLst/>
            <a:gdLst>
              <a:gd name="textAreaLeft" fmla="*/ 360 w 914400"/>
              <a:gd name="textAreaRight" fmla="*/ 915120 w 9144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12760" y="39625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cc0000"/>
                </a:solidFill>
                <a:latin typeface="Arial Narrow"/>
              </a:rPr>
              <a:t>Có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819520"/>
            <a:ext cx="2438280" cy="83808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Mantener la particip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4572000"/>
            <a:ext cx="3581640" cy="198108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Crear nueva imagen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Encontrar y atraer nuev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Descubrir nuevas aplicaciones y 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 Narrow"/>
              </a:rPr>
              <a:t>Aplicar 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4114440" y="3200040"/>
            <a:ext cx="609480" cy="685800"/>
          </a:xfrm>
          <a:custGeom>
            <a:avLst/>
            <a:gdLst>
              <a:gd name="textAreaLeft" fmla="*/ 203040 w 609480"/>
              <a:gd name="textAreaRight" fmla="*/ 522000 w 60948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4:47:38Z</dcterms:created>
  <dc:creator>Quesarce S.A.</dc:creator>
  <dc:description/>
  <dc:language>en-US</dc:language>
  <cp:lastModifiedBy>aavila</cp:lastModifiedBy>
  <dcterms:modified xsi:type="dcterms:W3CDTF">2004-02-18T03:15:30Z</dcterms:modified>
  <cp:revision>75</cp:revision>
  <dc:subject/>
  <dc:title>Segmentos Prioritarios Que Debe Atraer El Inbioparque Para Aumentar Su Visit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73593709</vt:r8>
  </property>
  <property fmtid="{D5CDD505-2E9C-101B-9397-08002B2CF9AE}" pid="3" name="_AuthorEmailDisplayName">
    <vt:lpwstr>/O=INBIO/OU=INBIO/CN=RECIPIENTS/CN=AAVILA</vt:lpwstr>
  </property>
  <property fmtid="{D5CDD505-2E9C-101B-9397-08002B2CF9AE}" pid="4" name="_EmailSubject">
    <vt:lpwstr>estrategia de producto.ppt</vt:lpwstr>
  </property>
</Properties>
</file>