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E60-F0F2-4054-9140-2C6B2F80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852-87AB-4A07-8533-F463B85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161-5F8D-407C-A9DE-E45F3993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F43-8126-461A-8240-46D8F718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35FD-615E-4F89-831D-2ACF2930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7787-F314-49BA-A7C8-60B6D955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0351-0B62-4BF6-98D7-B353B666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73A3-4E4F-42A0-9301-417A6FA0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6021-097E-4A52-A209-32E08474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2CCA-D4AE-4ABA-9F96-36466D87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6CD7-6979-446B-A01E-2581768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298-A67C-478A-BC88-F8871534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5D5D-BB1C-4E68-A973-382D2FE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4938-8AAA-42DB-9E9A-41DCCC3D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046C-7089-4402-A854-0D9B1476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F177-9ABB-4D4E-9CE8-3CF5C710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C4A5-472A-4653-8711-AA35B4B8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D89-6365-4DAA-967C-D2D16575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271-600B-40BA-BA56-F0C1D176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A92-0FFF-4FBE-819F-40B683A5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8DB-C212-44D5-84EB-42AAF973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E3B-A46E-4EA8-9C63-5D7AA52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933-6B45-45BF-941C-574FC4D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A93-872C-4605-8B40-21B763AF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37EC-335A-45AD-80F4-6B86F4CDE2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447920"/>
            <a:ext cx="7391520" cy="152280"/>
            <a:chOff x="228600" y="1447920"/>
            <a:chExt cx="7391520" cy="152280"/>
          </a:xfrm>
        </p:grpSpPr>
        <p:sp>
          <p:nvSpPr>
            <p:cNvPr id="10" name=""/>
            <p:cNvSpPr/>
            <p:nvPr/>
          </p:nvSpPr>
          <p:spPr>
            <a:xfrm>
              <a:off x="609480" y="1447920"/>
              <a:ext cx="7010640" cy="151560"/>
            </a:xfrm>
            <a:prstGeom prst="roundRect">
              <a:avLst>
                <a:gd name="adj" fmla="val 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447920"/>
              <a:ext cx="393840" cy="152280"/>
            </a:xfrm>
            <a:prstGeom prst="flowChartDelay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D5F7-84EF-460A-8F5E-8D8EEE4789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18000" y="3933360"/>
            <a:ext cx="462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Estrategia de Produc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315200" y="609588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Febrero 2004.</a:t>
            </a:r>
            <a:endParaRPr b="0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8360" y="1052640"/>
            <a:ext cx="399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99"/>
                </a:solidFill>
                <a:latin typeface="Arial"/>
              </a:rPr>
              <a:t>CAPITULO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Ferr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95480" y="1047600"/>
            <a:ext cx="276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rupo 2</a:t>
            </a:r>
            <a:r>
              <a:rPr b="0" lang="es-GT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GT" sz="2000" spc="-1" strike="noStrike">
                <a:solidFill>
                  <a:srgbClr val="333399"/>
                </a:solidFill>
                <a:latin typeface="Arial"/>
              </a:rPr>
              <a:t>Fabio Chá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GT" sz="2000" spc="-1" strike="noStrike">
                <a:solidFill>
                  <a:srgbClr val="333399"/>
                </a:solidFill>
                <a:latin typeface="Arial"/>
              </a:rPr>
              <a:t>Felipe Gu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GT" sz="2000" spc="-1" strike="noStrike">
                <a:solidFill>
                  <a:srgbClr val="333399"/>
                </a:solidFill>
                <a:latin typeface="Arial"/>
              </a:rPr>
              <a:t>Jenny 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GT" sz="2000" spc="-1" strike="noStrike">
                <a:solidFill>
                  <a:srgbClr val="333399"/>
                </a:solidFill>
                <a:latin typeface="Arial"/>
              </a:rPr>
              <a:t>Arnoldo S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Ciclo de Vida del Producto.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234936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587700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2457360"/>
            <a:ext cx="4464000" cy="2411640"/>
          </a:xfrm>
          <a:custGeom>
            <a:avLst/>
            <a:gdLst/>
            <a:ahLst/>
            <a:rect l="l" t="t" r="r" b="b"/>
            <a:pathLst>
              <a:path w="2812" h="1519">
                <a:moveTo>
                  <a:pt x="0" y="1519"/>
                </a:moveTo>
                <a:cubicBezTo>
                  <a:pt x="536" y="872"/>
                  <a:pt x="1073" y="226"/>
                  <a:pt x="1542" y="113"/>
                </a:cubicBezTo>
                <a:cubicBezTo>
                  <a:pt x="2011" y="0"/>
                  <a:pt x="2411" y="419"/>
                  <a:pt x="2812" y="83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234936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227664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227664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227664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79280" y="61657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6165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0200" y="59436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1989000"/>
            <a:ext cx="1079280" cy="5032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600" spc="-1" strike="noStrike">
                <a:solidFill>
                  <a:srgbClr val="ffffff"/>
                </a:solidFill>
                <a:latin typeface="Arial"/>
              </a:rPr>
              <a:t>Etap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GT" sz="16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1989000"/>
            <a:ext cx="1152360" cy="503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600" spc="-1" strike="noStrike">
                <a:solidFill>
                  <a:srgbClr val="ffffff"/>
                </a:solidFill>
                <a:latin typeface="Arial"/>
              </a:rPr>
              <a:t>Etap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GT" sz="1400" spc="-1" strike="noStrike">
                <a:solidFill>
                  <a:srgbClr val="ffffff"/>
                </a:solidFill>
                <a:latin typeface="Arial"/>
              </a:rPr>
              <a:t>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1989000"/>
            <a:ext cx="108108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600" spc="-1" strike="noStrike">
                <a:solidFill>
                  <a:srgbClr val="ffffff"/>
                </a:solidFill>
                <a:latin typeface="Arial"/>
              </a:rPr>
              <a:t>Etap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1989000"/>
            <a:ext cx="1224000" cy="5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600" spc="-1" strike="noStrike">
                <a:solidFill>
                  <a:srgbClr val="ffffff"/>
                </a:solidFill>
                <a:latin typeface="Arial"/>
              </a:rPr>
              <a:t>Etap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400" spc="-1" strike="noStrike">
                <a:solidFill>
                  <a:srgbClr val="ffffff"/>
                </a:solidFill>
                <a:latin typeface="Arial"/>
              </a:rPr>
              <a:t>Madu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1989000"/>
            <a:ext cx="11509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600" spc="-1" strike="noStrike">
                <a:solidFill>
                  <a:srgbClr val="ffffff"/>
                </a:solidFill>
                <a:latin typeface="Arial"/>
              </a:rPr>
              <a:t>Etap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400" spc="-1" strike="noStrike">
                <a:solidFill>
                  <a:srgbClr val="ffffff"/>
                </a:solidFill>
                <a:latin typeface="Arial"/>
              </a:rPr>
              <a:t>Dec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332000" y="2349360"/>
            <a:ext cx="144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332000" y="4508640"/>
            <a:ext cx="14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905280"/>
            <a:ext cx="11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Arial"/>
              </a:rPr>
              <a:t>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Arial"/>
              </a:rPr>
              <a:t>mone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k1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104472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k2" descr=""/>
          <p:cNvPicPr/>
          <p:nvPr/>
        </p:nvPicPr>
        <p:blipFill>
          <a:blip r:embed="rId2"/>
          <a:stretch/>
        </p:blipFill>
        <p:spPr>
          <a:xfrm>
            <a:off x="4191120" y="4267080"/>
            <a:ext cx="85860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k3" descr=""/>
          <p:cNvPicPr/>
          <p:nvPr/>
        </p:nvPicPr>
        <p:blipFill>
          <a:blip r:embed="rId3"/>
          <a:stretch/>
        </p:blipFill>
        <p:spPr>
          <a:xfrm>
            <a:off x="5181480" y="2743200"/>
            <a:ext cx="95904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k4" descr=""/>
          <p:cNvPicPr/>
          <p:nvPr/>
        </p:nvPicPr>
        <p:blipFill>
          <a:blip r:embed="rId4"/>
          <a:stretch/>
        </p:blipFill>
        <p:spPr>
          <a:xfrm>
            <a:off x="6400800" y="4191120"/>
            <a:ext cx="12254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99"/>
                </a:solidFill>
                <a:latin typeface="Arial"/>
              </a:rPr>
              <a:t>Etapa de Declive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582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Reducción persistente en las ganancias marca el inicio de esta et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Op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Posponer el declive:  Reposicionamiento, desarrollo de nuevos usos o característ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Aceptar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Enfoque de cosecha: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  reducción gradual del presupuesto de marketing para inyectarlo a otros productos (introducción, crecimiento o madure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Enfoque de desprendimiento: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  Retira todo el respaldo de mark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46" dur="1" fill="hold"/>
                                  <p:tgtEl>
                                    <p:spTgt spid="1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47" dur="1" fill="hold"/>
                                  <p:tgtEl>
                                    <p:spTgt spid="12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48" dur="1" fill="hold"/>
                                  <p:tgtEl>
                                    <p:spTgt spid="12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49" dur="1" fill="hold"/>
                                  <p:tgtEl>
                                    <p:spTgt spid="12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99"/>
                </a:solidFill>
                <a:latin typeface="Arial"/>
              </a:rPr>
              <a:t>Etapa de Declive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582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Cosecha o desprendimiento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Velocidad de deterioro del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tencial del segmento del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sicionamiento del producto en el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recio y estructura de costos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Estrategia de marketing de servicios.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Producto: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Dif</a:t>
            </a:r>
            <a:r>
              <a:rPr b="0" lang="es-GT" sz="2000" spc="-1" strike="noStrike">
                <a:solidFill>
                  <a:srgbClr val="333399"/>
                </a:solidFill>
                <a:latin typeface="Tahoma"/>
              </a:rPr>
              <a:t>ícil de evaluar el producto antes de utiliz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Dan garantías de satisfacción a los cl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Difícil de estandarizar lo que permite personalizar el servicio         muy cost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Preci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No cuentas con unidades de medición bien definidas.  Por ejemp. Peluqu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Estrategia de marketing de servicios.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Promoción: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Suele centrarse en señales tangibles que simbolizan el servicio</a:t>
            </a:r>
            <a:r>
              <a:rPr b="0" lang="es-GT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Word of Mo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Distribució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No es el tradicional porque no se tiene la posesión física del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Se desarrollan otras op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Estrategia de marca.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392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Branding: Identificación que mantiene un producto mediante un nombre, un símbolo o un dis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Nombre de Marca:  Es la marca de la marca que puede deci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Signo de marca:  Símbolos o diseños de la marca.</a:t>
            </a: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k5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2514600" cy="1058760"/>
          </a:xfrm>
          <a:prstGeom prst="rect">
            <a:avLst/>
          </a:prstGeom>
          <a:ln w="0">
            <a:noFill/>
          </a:ln>
        </p:spPr>
      </p:pic>
      <p:pic>
        <p:nvPicPr>
          <p:cNvPr id="133" name="k6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2438280" cy="988920"/>
          </a:xfrm>
          <a:prstGeom prst="rect">
            <a:avLst/>
          </a:prstGeom>
          <a:ln w="0">
            <a:noFill/>
          </a:ln>
        </p:spPr>
      </p:pic>
      <p:pic>
        <p:nvPicPr>
          <p:cNvPr id="134" name="k7" descr=""/>
          <p:cNvPicPr/>
          <p:nvPr/>
        </p:nvPicPr>
        <p:blipFill>
          <a:blip r:embed="rId3"/>
          <a:stretch/>
        </p:blipFill>
        <p:spPr>
          <a:xfrm>
            <a:off x="5486400" y="5410080"/>
            <a:ext cx="1828800" cy="9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99"/>
                </a:solidFill>
                <a:latin typeface="Arial"/>
              </a:rPr>
              <a:t>Estrategia de marca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700280"/>
            <a:ext cx="39243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Co - Branding: Empleo de dos o más marcas en un producto o conjunto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Concesiones de marca:  Acuerdo autorizado por medio del cual una empresa, por una couta, permite que otra utilice su marca en otros productos. </a:t>
            </a: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k8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158616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k9" descr=""/>
          <p:cNvPicPr/>
          <p:nvPr/>
        </p:nvPicPr>
        <p:blipFill>
          <a:blip r:embed="rId2"/>
          <a:stretch/>
        </p:blipFill>
        <p:spPr>
          <a:xfrm>
            <a:off x="6705720" y="4124160"/>
            <a:ext cx="1579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6:27:28Z</dcterms:created>
  <dc:creator>Luis</dc:creator>
  <dc:description/>
  <dc:language>en-US</dc:language>
  <cp:lastModifiedBy>Ronald Alvarez G.</cp:lastModifiedBy>
  <cp:lastPrinted>2003-08-27T18:44:08Z</cp:lastPrinted>
  <dcterms:modified xsi:type="dcterms:W3CDTF">2004-02-26T05:30:50Z</dcterms:modified>
  <cp:revision>70</cp:revision>
  <dc:subject/>
  <dc:title>Plan de Incentiv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26034495</vt:r8>
  </property>
  <property fmtid="{D5CDD505-2E9C-101B-9397-08002B2CF9AE}" pid="3" name="_AuthorEmail">
    <vt:lpwstr>jmoore@dipo.net</vt:lpwstr>
  </property>
  <property fmtid="{D5CDD505-2E9C-101B-9397-08002B2CF9AE}" pid="4" name="_AuthorEmailDisplayName">
    <vt:lpwstr>Jenny Moore</vt:lpwstr>
  </property>
  <property fmtid="{D5CDD505-2E9C-101B-9397-08002B2CF9AE}" pid="5" name="_EmailSubject">
    <vt:lpwstr>Primer contacto</vt:lpwstr>
  </property>
</Properties>
</file>