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4A8-A5D7-40FB-B2ED-247D7C3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BE2-956F-4046-8B61-23F60B3F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94D-421F-403C-AEE6-C3EAFFF2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ADE-32F9-483A-8D74-6151EED4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1AB-3D07-47FA-9CAD-4DB24B5B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7BB7-4609-4EE2-9375-FE6BAB37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CB7-877A-4641-934F-DD39F41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E179-280E-418C-B559-F001B39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357-18BF-4E74-BDE7-B79B15F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C3C-9832-4045-9C49-77B0A25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B48A-36F9-4A97-A348-5265736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858-12E6-437B-95C9-C64AFE1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59F9-C035-4E5E-B325-DEB7D1BE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A22-DE88-4C2E-8816-1EDF116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C1C5-F67B-4661-AA4E-7704564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849B-05CC-41C4-8F3D-6AB109F2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3084-544B-4095-AA0C-768FDEDB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505-ED1A-4293-9282-E4955374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45A-039C-4B52-A559-E4C877AA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175-D29C-4054-89AA-FADEAE2B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7D7-64E8-41B7-A8A7-93730FF3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154-320B-4E49-AD8C-FC1AB8A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777-D518-4AB3-A6F6-3DD50D0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909-EFA9-4033-95CF-BC44495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155-E231-4088-9388-34703BCD3A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523-7D44-4C99-88CE-260CF6BB1A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6094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imes New Roman"/>
              </a:rPr>
              <a:t>La Quinta Disciplina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7524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l arte y la práctica de las organizaciones que aprende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eter Sen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42670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191120"/>
            <a:ext cx="5181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Grupo #3: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Jorge Le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Laura Ort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Ronald Porr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Luis Ur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2057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forzar la habilidad de averiguación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 destreza gobierna la interacción con los de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1240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conocer la brecha entre las teorías expuestas y las teorías en uso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las teorías expuestas son lo que decimos y las en uso son lo que practicam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desarrollar la habilidad de trabajar con modelos mentales nuevos y originales se deb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14400" y="2286000"/>
            <a:ext cx="769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Monotype Corsiva"/>
              </a:rPr>
              <a:t>Las organizaciones inteligentes promueven la revisión y mejora constante de los modelos mentales que utilizan.  Encuentran maneras efectivas de cambiar los modelos mentales en uso, y hasta crean “bibliotecas” de nuevos mode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revista52_09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248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380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as Cinco Disciplin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1905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Disciplina 3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onstrucción de una visión comparti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743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Monotype Corsiva"/>
              </a:rPr>
              <a:t>Una visión compartida no es dictada por la alta gerencia. Es algo que surge del interés común y con lo que toda la organización está comprometida.  Debe reflejar las versiones personales de los individu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4267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construir una visión compartida poderosa se deb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9810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Alentar la visión personal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s visiones compartidas surgen de las visiones personales.  Si la persona no tiene una visión propia y se adhiere a la visión de otro, el resultado sería el acatamiento, nunca el compromis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962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Dar tiempo a que la visión compartida surja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s visiones compartidas efectivas nunca son impuestas, evolucionan a medida que las personas se van uniendo y comprometien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construir una visión compartida poderosa se deb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1911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Expresar la visión en términos positivos, no negativo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s visiones negativas guían hacia las terribles consecuencias que toda organización siempre trata de evitar.  Las visiones positivas son más poderosas; reflejan aspiraciones nobles, en lugar de mied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752480"/>
            <a:ext cx="777240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Anclar la visión a las ideas reinantes en la organización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s visiones compartidas responden estas pregunta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Qué trata de crear la organización 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 qué existe la organización 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ómo deseamos actuar mientras alcanzamos la visión 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24382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Monotype Corsiva"/>
              </a:rPr>
              <a:t>Las organizaciones inteligentes construyen Visiones Compartidas viables y poderosas. Una vez propuesta, se vuelve el centro alrededor del cual la Organización Inteligente se organiza y enfoca su energí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revista52_09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248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62120" y="380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as Cinco Disciplin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Disciplina 4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prendizaje en equip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7432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Monotype Corsiva"/>
              </a:rPr>
              <a:t>Es el proceso de alinear las acciones y capacidades de una organización en una sola dirección. Cuando esto ocurre, las ideas son traducidas en acciones, las herramientas son mejoradas y la organización progresa rapidamen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267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promover el aprendizaje en equipo hay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rear oportunidades para que se propicien diálogos y discusione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os diálogos y discusiones permiten colocar las experiencias del aprendizaje en equipo en su contexto adecu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5812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Utilizar el conflicto en forma constructiva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todo buen equipo existen ideas de cómo lograr la visión. Cuando las diferencias se analizan y discuten detalladamente, la creatividad y aprendizaje del equipo mejoran considerable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2120" y="380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as Cinco Disciplin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Disciplina 5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nsamiento sistém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74320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Monotype Corsiva"/>
              </a:rPr>
              <a:t>Es una disciplina para ver totalidades, un marco para ver interre-laciones en vez de cosas aisladas.  Es la habilidad de encontrar patrones de cambio y entender cómo las partes afectan el to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Monotype Corsiva"/>
              </a:rPr>
              <a:t>Existen cinco herramientas fundamentales para aplicar el Pensamiento Sistémic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4267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380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Ventajas competitiv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13372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s organizaciones que aprenden (organizaciones inteligentes) explotan la capacidad de cada persona involucrada para aprender a producir resultados extraordinari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657600"/>
            <a:ext cx="7772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a organización inteligente está expandiendo continuamente su capacidad de crear e impulsar un futuro brillante a través de técnicas de aprendizaje efectiv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1676520"/>
            <a:ext cx="79246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5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s empleados crean vínculos emocionales entre sus cargos actuales y sus identidades personales; esto desalienta el camb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5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culpa a los competidores externos, cuando a veces el propio sistema de la organización es el verdadero enemig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5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gente se enfoca y reacciona a los problemas, en lugar de aprender a diseñar soluciones que los evite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5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s empleados tienen fijación con los eventos externos, en lugar de prestar atención a los cambios graduales y lentos que ocurren en el sist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5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personal sabe que se aprende más de la experiencia; pero generalmente existe un lapso de tiempo entre una acción y su resultado. Las relaciones causa-efecto se tornan confu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9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chas organizaciones tienden a tener un mal aprendizaje por variedad de raz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213372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Monotype Corsiva"/>
              </a:rPr>
              <a:t>Mientras que las organizaciones que no aprenden simplemente reaccionan a los eventos, las Organizaciones Inteligentes tienen la habilidad de cambiar los sistemas internos, para crear comportamientos y eventos diferentes.  Así pueden crear su propio futur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revista52_09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248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3808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stemas &gt; Patrones de comportamiento &gt; Even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676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aracterísticas de las organizaciones inteligent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on progresivas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generan los resultados deseados cada vez mejo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33526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on dinámicas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ienen personas que trabajan unidas para mejorar el aprendizaje en el futu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3434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on altamente productiva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dos aprenden a explotar las fortalezas y compensar las limitaciones de los de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3341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on participantes activo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l diseñar el tipo de futuro que desea la organiza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380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as Cinco Disciplin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52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99"/>
                </a:solidFill>
                <a:latin typeface="Tahoma"/>
              </a:rPr>
              <a:t>Disciplina 1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Dominio Personal (Personal Master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590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Monotype Corsiva"/>
              </a:rPr>
              <a:t>Las organizaciones sólo pueden aprender a través de individuos que aprenden.  De allí que el crecimiento personal y el crecimiento continuo son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426708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Monotype Corsiva"/>
              </a:rPr>
              <a:t>La fortaleza de una organización inteligente se deriva de la fuerza combinada de sus individuos. De aquí la importancia del compromiso de una empresa con el crecimiento de sus emplead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38088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Times New Roman"/>
              </a:rPr>
              <a:t>El domininio personal está continuamente expandiéndose a través de estas práctic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828800"/>
            <a:ext cx="77724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larificar y enriquecer la visión person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la visión es la imagen del futuro des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Utilizar la tensión creativa productivamente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la tensión creativa surge de la brecha entre la visión y la realidad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Explotar el conflicto estructural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l conflicto estructural es la impotencia que sienten las personas cuando no pueden cambiar las co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Usar el subconsciente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los individuos con mayor dominio personal han desarrollado su subconsciente para que maneje muchas de las tareas cotidian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380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as Cinco Disciplinas de las Organizaciones Inteligent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752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Disciplina 2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odelos 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666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Monotype Corsiva"/>
              </a:rPr>
              <a:t>Los modelos mentales son supuestos, generalizaciones o imágenes que están muy radicadas en el subconsciente y que influyen en cómo entendemos al mundo y cómo actuamos en é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267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Monotype Corsiva"/>
              </a:rPr>
              <a:t>Las  Organizaciones Inteligentes deben manejar sus modelos mentales internos, alentando la adopción de ideas nuevas y origin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desarrollar la habilidad de trabajar con modelos mentales nuevos y originales se deb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Desarrollar sistemas para articular nuevos modelo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écnicas como la planificación por escenarios que ayudan a ver las situaciones desde ángulos distint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048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onformar “consejos directivos internos”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stos grupos pueden actuar como impulsadores de nuevos conceptos, ideas y negocios, saltando la jerarquía tradicio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495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Alentar el desarrollo de destrezas de reflexión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motivar a la gente a detener el proceso de pensamiento y volverse más concientes de los modelos mentales que están utilizando.  Al estar más conciente, la persona puede cambiar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8:14:49Z</dcterms:created>
  <dc:creator>djimenez</dc:creator>
  <dc:description/>
  <dc:language>en-US</dc:language>
  <cp:lastModifiedBy> </cp:lastModifiedBy>
  <dcterms:modified xsi:type="dcterms:W3CDTF">2004-02-21T15:58:56Z</dcterms:modified>
  <cp:revision>58</cp:revision>
  <dc:subject/>
  <dc:title>Presentación de PowerPoint</dc:title>
</cp:coreProperties>
</file>