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5304-F1A8-4201-932B-CD4FA6B0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9DF1-8895-4AF9-819C-12AA786D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AA83-8BE8-4457-B83E-E720021E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0182-5EC1-49FC-A8F2-D2818217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6E8-5653-4936-AC2E-ED76F0B2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ECA-02A4-4428-B907-2BAEFA13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A68-D26D-4B6A-82DF-A4CADC29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980-5CA8-4520-94E5-2467FC0B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86F-5AA6-4C87-BA95-A1CC493C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F99-FBB3-4AE9-B4CB-103405F0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932-0415-4508-8C4F-BBB6886F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FC1-2F8F-417D-931B-B3D25F48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077F-E059-44FD-A075-802BE731C6B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05920" cy="3429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 Unicode MS"/>
              </a:rPr>
              <a:t>CAPITULO 5 FERRELL</a:t>
            </a:r>
            <a:br>
              <a:rPr sz="3800"/>
            </a:br>
            <a:br>
              <a:rPr sz="3800"/>
            </a:br>
            <a:r>
              <a:rPr b="1" lang="es-ES_tradnl" sz="3800" spc="-1" strike="noStrike">
                <a:solidFill>
                  <a:srgbClr val="000000"/>
                </a:solidFill>
                <a:latin typeface="Arial Unicode MS"/>
              </a:rPr>
              <a:t>“ESTABLECIMIENTO DE RELACIONES CON LOS CLIENTES MEDIANTE CALIDAD, VALOR Y SATISFACCIÓN”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81120" y="4876920"/>
            <a:ext cx="3505320" cy="1752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Liza Gutier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Christian Naran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Francina Oca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Juan Vicente V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Unicode MS"/>
              </a:rPr>
              <a:t>ESTRATEGIA DE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209680"/>
            <a:ext cx="4038480" cy="2362320"/>
          </a:xfrm>
          <a:prstGeom prst="leftArrowCallout">
            <a:avLst>
              <a:gd name="adj1" fmla="val 25002"/>
              <a:gd name="adj2" fmla="val 25000"/>
              <a:gd name="adj3" fmla="val 43205"/>
              <a:gd name="adj4" fmla="val 66673"/>
            </a:avLst>
          </a:prstGeom>
          <a:solidFill>
            <a:srgbClr val="ffcc99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19200" y="129528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Unicode MS"/>
              </a:rPr>
              <a:t>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6040" y="1219320"/>
            <a:ext cx="157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Unicode MS"/>
              </a:rPr>
              <a:t>AH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05120"/>
            <a:ext cx="82296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286000"/>
            <a:ext cx="26668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Tenía que ver más con generar una gran cantidad de transacciones con los clientes – o partir de mercado- que con hallar mejores formas para resolver los problemas y satisfacer las necesidades de los cli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2133720"/>
            <a:ext cx="3048120" cy="2514600"/>
          </a:xfrm>
          <a:prstGeom prst="flowChartMagneticTape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289548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Ofrece grados de calidad, valor y satisfacción necesarios para retener a los clientes a largo plaz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905120"/>
            <a:ext cx="0" cy="2971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257800"/>
            <a:ext cx="7772400" cy="13716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334120"/>
            <a:ext cx="74865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Establecer relaciones</a:t>
            </a:r>
            <a:r>
              <a:rPr b="1" lang="es-ES_tradnl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duraderas con los clientes es probablem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la mejor forma de aislar una empresa del veloz ritm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el cambio que se vive en el entorno actu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7732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Unicode MS"/>
              </a:rPr>
              <a:t>Manejo de relaciones con el cliente (MR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1828800"/>
          <a:ext cx="8077320" cy="4816440"/>
        </p:xfrm>
        <a:graphic>
          <a:graphicData uri="http://schemas.openxmlformats.org/drawingml/2006/table">
            <a:tbl>
              <a:tblPr/>
              <a:tblGrid>
                <a:gridCol w="4038840"/>
                <a:gridCol w="4038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seguir consumi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servar cl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os consumidores son “consumidores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os consumidores son cli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rketing a gran esca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rketing uno a u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seguir nuevos consumi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strucción de relaciones con los consumidores actu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ransacciones diferenci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ransacciones continu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umento en la participación de mer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umento de la participación en el cier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iferenciación basada en grup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iferenciación basada en los clientes como individu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egmentación basada en necesidades homogén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egmentación basada en las necesidades heterogén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foque estratégico a corto pla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foque estratégico a largo pla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oductos estandariz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dividualización ma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oveedor de costos más baj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strategia de precios basada en el 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municación masiva unidirec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municación individualizada bidirec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mpet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labo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33520" y="990720"/>
            <a:ext cx="659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CAMBIO ESTRATÉGICO DE CONSEGU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CONSUMIDORES A CONSERVAR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7732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Unicode MS"/>
              </a:rPr>
              <a:t>Manejo de relaciones con el cliente (MR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371600"/>
            <a:ext cx="8001000" cy="2562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DEFINICIÓN DE MRC: el manejo de relaciones con el cliente es un proceso integral que consiste en identificar, atraer, diferenciar y conservar a los clientes; es algo más que limitarse a escucharlos u ofrecer mejores productos y servicios: significa integrar la cadena de suministro completa de una empresa a fin de generar valor para el cliente en cada etapa, ya sea aumentando los beneficios o reduciendo los costos. Esto da por resultado mayores ganancias merced a una cantidad de negocios superior de la base de clientes de una empre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086600" y="914400"/>
            <a:ext cx="8380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800100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MRC NO SE CENTRA EN LOS CLIENTES FINALES SINO QUE COMPRENDE MUCHOS GRUPOS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876920"/>
            <a:ext cx="1981080" cy="6094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5520" y="495288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257800"/>
            <a:ext cx="1752840" cy="121932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10440" y="5257800"/>
            <a:ext cx="17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Socio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la cade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sumini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08240" y="5791320"/>
            <a:ext cx="1981080" cy="6094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59960" y="586728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51800" y="4952880"/>
            <a:ext cx="1981080" cy="99072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95440" y="5029200"/>
            <a:ext cx="17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Soc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colat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7732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Unicode MS"/>
              </a:rPr>
              <a:t>Manejo de relaciones con el cliente (MR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066680"/>
            <a:ext cx="8001000" cy="1649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 u="sng">
                <a:solidFill>
                  <a:srgbClr val="000000"/>
                </a:solidFill>
                <a:uFillTx/>
                <a:latin typeface="Arial Unicode MS"/>
              </a:rPr>
              <a:t>AUMENTAR LA PARTICIPACIÓN DEL CLIENTE:</a:t>
            </a:r>
            <a:r>
              <a:rPr b="1" lang="es-ES_tradnl" sz="1700" spc="-1" strike="noStrike">
                <a:solidFill>
                  <a:srgbClr val="000000"/>
                </a:solidFill>
                <a:latin typeface="Arial Unicode MS"/>
              </a:rPr>
              <a:t> Uno de los principios fundamentales del MRC es el cambio de enfoque de una participación de mercado a la participación del cliente.  Comprende abandonar viejas nociones como conseguir nuevos consumidores y aumentar las transacciones por un enfoque más centrado en atender a cabalidad las necesidades de los clientes actuale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971800"/>
            <a:ext cx="8001000" cy="1954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 u="sng">
                <a:solidFill>
                  <a:srgbClr val="000000"/>
                </a:solidFill>
                <a:uFillTx/>
                <a:latin typeface="Arial Unicode MS"/>
              </a:rPr>
              <a:t>MARKETING UNO A UNO E INDIVIDUALIZACIÓN MASIVA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1" lang="es-ES_tradnl" sz="1700" spc="-1" strike="noStrike">
                <a:solidFill>
                  <a:srgbClr val="000000"/>
                </a:solidFill>
                <a:latin typeface="Arial Unicode MS"/>
              </a:rPr>
              <a:t>Para hacer viables las combinaciones individualizadas de marketing son fundamentales dos consideracion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700" spc="-1" strike="noStrike">
                <a:solidFill>
                  <a:srgbClr val="000000"/>
                </a:solidFill>
                <a:latin typeface="Arial Unicode MS"/>
              </a:rPr>
              <a:t>Automatizar la oferta de la mezcla de marketing (producto, fijación de precios, distribución y promoción) a tal grado que se vuelva redituable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700" spc="-1" strike="noStrike">
                <a:solidFill>
                  <a:srgbClr val="000000"/>
                </a:solidFill>
                <a:latin typeface="Arial Unicode MS"/>
              </a:rPr>
              <a:t>Noción de personalización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5257800"/>
            <a:ext cx="8001000" cy="1313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PARA CRECER EN EL ENTORNO DE NEGOCIOS ACTUAL, LAS EMPRESAS DEBEN CONSTITUIR UN CAPITAL DE RELACIONES-CAPACIDAD DE ESTABLECER Y MANTENER RELACIONES CON CLIENTES, PROVEEDORES Y SO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0" idx="3"/>
            <a:endCxn id="72" idx="3"/>
          </p:cNvCxnSpPr>
          <p:nvPr/>
        </p:nvCxnSpPr>
        <p:spPr>
          <a:xfrm>
            <a:off x="8686800" y="1888920"/>
            <a:ext cx="2160" cy="4029480"/>
          </a:xfrm>
          <a:prstGeom prst="bentConnector3">
            <a:avLst>
              <a:gd name="adj1" fmla="val 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71" idx="1"/>
            <a:endCxn id="72" idx="1"/>
          </p:cNvCxnSpPr>
          <p:nvPr/>
        </p:nvCxnSpPr>
        <p:spPr>
          <a:xfrm flipH="1" flipV="1" rot="10800000">
            <a:off x="685440" y="3946320"/>
            <a:ext cx="2160" cy="1972080"/>
          </a:xfrm>
          <a:prstGeom prst="bentConnector3">
            <a:avLst>
              <a:gd name="adj1" fmla="val -14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7732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Unicode MS"/>
              </a:rPr>
              <a:t>La función de la calidad en el establecimiento de relaciones con 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371600"/>
            <a:ext cx="8001000" cy="1130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 u="sng">
                <a:solidFill>
                  <a:srgbClr val="000000"/>
                </a:solidFill>
                <a:uFillTx/>
                <a:latin typeface="Arial Unicode MS"/>
              </a:rPr>
              <a:t>QUE ES LA CALIDAD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 Unicode MS"/>
              </a:rPr>
              <a:t>TÉRMINO RELATIVO QUE ALUDE AL GRADO DE SUPERIORIDAD DE LOS BIENES O SERVICIO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743200"/>
            <a:ext cx="8001000" cy="35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 u="sng">
                <a:solidFill>
                  <a:srgbClr val="000000"/>
                </a:solidFill>
                <a:uFillTx/>
                <a:latin typeface="Arial Unicode MS"/>
              </a:rPr>
              <a:t>COMO PUEDEN LOS NEGOCIOS MEJORAR LA CALIDAD DE SUS SERVICIOS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14800"/>
            <a:ext cx="5257800" cy="914400"/>
          </a:xfrm>
          <a:custGeom>
            <a:avLst/>
            <a:gdLst>
              <a:gd name="textAreaLeft" fmla="*/ 269280 w 5257800"/>
              <a:gd name="textAreaRight" fmla="*/ 4988520 w 5257800"/>
              <a:gd name="textAreaTop" fmla="*/ 247680 h 914400"/>
              <a:gd name="textAreaBottom" fmla="*/ 6667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850"/>
                </a:moveTo>
                <a:lnTo>
                  <a:pt x="19185" y="5850"/>
                </a:lnTo>
                <a:lnTo>
                  <a:pt x="19185" y="0"/>
                </a:lnTo>
                <a:lnTo>
                  <a:pt x="21600" y="10800"/>
                </a:lnTo>
                <a:lnTo>
                  <a:pt x="19185" y="21600"/>
                </a:lnTo>
                <a:lnTo>
                  <a:pt x="19185" y="15750"/>
                </a:lnTo>
                <a:lnTo>
                  <a:pt x="0" y="15750"/>
                </a:lnTo>
                <a:lnTo>
                  <a:pt x="1107" y="10800"/>
                </a:lnTo>
                <a:lnTo>
                  <a:pt x="0" y="58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Prometer sólo lo que puede entrega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276720"/>
            <a:ext cx="4343400" cy="914400"/>
          </a:xfrm>
          <a:custGeom>
            <a:avLst/>
            <a:gdLst>
              <a:gd name="textAreaLeft" fmla="*/ 222480 w 4343400"/>
              <a:gd name="textAreaRight" fmla="*/ 4120920 w 4343400"/>
              <a:gd name="textAreaTop" fmla="*/ 247680 h 914400"/>
              <a:gd name="textAreaBottom" fmla="*/ 6667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850"/>
                </a:moveTo>
                <a:lnTo>
                  <a:pt x="19185" y="5850"/>
                </a:lnTo>
                <a:lnTo>
                  <a:pt x="19185" y="0"/>
                </a:lnTo>
                <a:lnTo>
                  <a:pt x="21600" y="10800"/>
                </a:lnTo>
                <a:lnTo>
                  <a:pt x="19185" y="21600"/>
                </a:lnTo>
                <a:lnTo>
                  <a:pt x="19185" y="15750"/>
                </a:lnTo>
                <a:lnTo>
                  <a:pt x="0" y="15750"/>
                </a:lnTo>
                <a:lnTo>
                  <a:pt x="1107" y="10800"/>
                </a:lnTo>
                <a:lnTo>
                  <a:pt x="0" y="58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Cumplir las especif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4952880"/>
            <a:ext cx="7543800" cy="914400"/>
          </a:xfrm>
          <a:custGeom>
            <a:avLst/>
            <a:gdLst>
              <a:gd name="textAreaLeft" fmla="*/ 386280 w 7543800"/>
              <a:gd name="textAreaRight" fmla="*/ 7157520 w 7543800"/>
              <a:gd name="textAreaTop" fmla="*/ 247680 h 914400"/>
              <a:gd name="textAreaBottom" fmla="*/ 6667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850"/>
                </a:moveTo>
                <a:lnTo>
                  <a:pt x="19185" y="5850"/>
                </a:lnTo>
                <a:lnTo>
                  <a:pt x="19185" y="0"/>
                </a:lnTo>
                <a:lnTo>
                  <a:pt x="21600" y="10800"/>
                </a:lnTo>
                <a:lnTo>
                  <a:pt x="19185" y="21600"/>
                </a:lnTo>
                <a:lnTo>
                  <a:pt x="19185" y="15750"/>
                </a:lnTo>
                <a:lnTo>
                  <a:pt x="0" y="15750"/>
                </a:lnTo>
                <a:lnTo>
                  <a:pt x="1107" y="10800"/>
                </a:lnTo>
                <a:lnTo>
                  <a:pt x="0" y="58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Entender las expectativas, necesidades y deseos de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791320"/>
            <a:ext cx="8381880" cy="838080"/>
          </a:xfrm>
          <a:custGeom>
            <a:avLst/>
            <a:gdLst>
              <a:gd name="textAreaLeft" fmla="*/ 429480 w 8381880"/>
              <a:gd name="textAreaRight" fmla="*/ 7952400 w 8381880"/>
              <a:gd name="textAreaTop" fmla="*/ 226800 h 838080"/>
              <a:gd name="textAreaBottom" fmla="*/ 6112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5850"/>
                </a:moveTo>
                <a:lnTo>
                  <a:pt x="19185" y="5850"/>
                </a:lnTo>
                <a:lnTo>
                  <a:pt x="19185" y="0"/>
                </a:lnTo>
                <a:lnTo>
                  <a:pt x="21600" y="10800"/>
                </a:lnTo>
                <a:lnTo>
                  <a:pt x="19185" y="21600"/>
                </a:lnTo>
                <a:lnTo>
                  <a:pt x="19185" y="15750"/>
                </a:lnTo>
                <a:lnTo>
                  <a:pt x="0" y="15750"/>
                </a:lnTo>
                <a:lnTo>
                  <a:pt x="1107" y="10800"/>
                </a:lnTo>
                <a:lnTo>
                  <a:pt x="0" y="58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Traducir investigaciones sobre la clientela en medidas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3429000"/>
            <a:ext cx="1371600" cy="1295280"/>
          </a:xfrm>
          <a:prstGeom prst="flowChartMagneticTape">
            <a:avLst/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21720" y="388620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17:38:43Z</dcterms:created>
  <dc:creator>cnaranjo1</dc:creator>
  <dc:description/>
  <dc:language>en-US</dc:language>
  <cp:lastModifiedBy>Ronald Alvarez G.</cp:lastModifiedBy>
  <dcterms:modified xsi:type="dcterms:W3CDTF">2004-03-03T03:08:51Z</dcterms:modified>
  <cp:revision>29</cp:revision>
  <dc:subject/>
  <dc:title>CAPITULO 2 ANALISIS SITUACIONAL Y DEL ENTORNO</dc:title>
</cp:coreProperties>
</file>