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471D8-BB52-4F28-95B0-2A6388AB5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6B628-7DF9-468A-980E-EE7EBEFCF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B6279-B5C6-4ABC-8C0E-258761B29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8C581-688A-48A3-AF21-A8FB35A02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8F583-8035-44E9-A99F-D22C3BA80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25386-2B10-47AB-AA8C-202186C55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A73A8-637A-4D89-9AAF-019B93E30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9829C-5451-42DB-99AD-3DF764B06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8B6F3-4385-4091-A13F-719DD89F2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327A4-55AA-4EEC-B675-5AFCBE9D5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832F1-3AB4-4F2C-BB8E-C1EFC83FE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59B4D-8936-49AE-A85E-2332485A0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411F-5B11-4C71-B34F-D6F1F9C2D1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66320"/>
            <a:ext cx="8305920" cy="3429000"/>
          </a:xfrm>
          <a:prstGeom prst="rect">
            <a:avLst/>
          </a:prstGeom>
          <a:blipFill rotWithShape="0">
            <a:blip r:embed="rId2"/>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Arial Unicode MS"/>
              </a:rPr>
              <a:t>CAPITULO 5 FERRELL</a:t>
            </a:r>
            <a:br>
              <a:rPr sz="3800"/>
            </a:br>
            <a:br>
              <a:rPr sz="3800"/>
            </a:br>
            <a:r>
              <a:rPr b="1" lang="es-ES_tradnl" sz="3800" spc="-1" strike="noStrike">
                <a:solidFill>
                  <a:srgbClr val="000000"/>
                </a:solidFill>
                <a:latin typeface="Arial Unicode MS"/>
              </a:rPr>
              <a:t>“ESTABLECIMIENTO DE RELACIONES CON LOS CLIENTES MEDIANTE CALIDAD, VALOR Y SATISFACCIÓN”</a:t>
            </a:r>
            <a:endParaRPr b="0" lang="en-US" sz="3800" spc="-1" strike="noStrike">
              <a:solidFill>
                <a:srgbClr val="000000"/>
              </a:solidFill>
              <a:latin typeface="Times New Roman"/>
            </a:endParaRPr>
          </a:p>
        </p:txBody>
      </p:sp>
      <p:sp>
        <p:nvSpPr>
          <p:cNvPr id="42" name="PlaceHolder 2"/>
          <p:cNvSpPr>
            <a:spLocks noGrp="1"/>
          </p:cNvSpPr>
          <p:nvPr>
            <p:ph type="subTitle"/>
          </p:nvPr>
        </p:nvSpPr>
        <p:spPr>
          <a:xfrm>
            <a:off x="5181120" y="4571640"/>
            <a:ext cx="3505320" cy="2057400"/>
          </a:xfrm>
          <a:prstGeom prst="rect">
            <a:avLst/>
          </a:prstGeom>
          <a:blipFill rotWithShape="0">
            <a:blip r:embed="rId3"/>
            <a:tile tx="0" ty="0" sx="100000" sy="100000" algn="ctr"/>
          </a:blip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Javier Varga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Alvaro Quesada</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Roy Sosa</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Allan Quiro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Marco Chinchi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457200"/>
            <a:ext cx="8077320" cy="3808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Unicode MS"/>
              </a:rPr>
              <a:t>Crear valor para establecer relaciones con el cliente</a:t>
            </a:r>
            <a:endParaRPr b="0" lang="en-US" sz="3200" spc="-1" strike="noStrike">
              <a:solidFill>
                <a:srgbClr val="000000"/>
              </a:solidFill>
              <a:latin typeface="Times New Roman"/>
            </a:endParaRPr>
          </a:p>
        </p:txBody>
      </p:sp>
      <p:sp>
        <p:nvSpPr>
          <p:cNvPr id="44" name=""/>
          <p:cNvSpPr/>
          <p:nvPr/>
        </p:nvSpPr>
        <p:spPr>
          <a:xfrm>
            <a:off x="685800" y="1066680"/>
            <a:ext cx="8001000" cy="1649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00"/>
                </a:solidFill>
                <a:uFillTx/>
                <a:latin typeface="Arial Unicode MS"/>
              </a:rPr>
              <a:t>QUE ES VAL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00"/>
                </a:solidFill>
                <a:uFillTx/>
                <a:latin typeface="Arial Unicode MS"/>
              </a:rPr>
              <a:t>ES LA EVALUACION SUBJETIVA QUE HACE EL CLIENTE DE LOS BENEFICIOS EN RELACION CON LOS COSTOS PARA DETERMINAR EL VALOR DEL PRODUCTO DE UNA EMPRESA EN RELACION CON LO QUE OFRECEN OTRAS EMPRESA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5" name=""/>
          <p:cNvSpPr/>
          <p:nvPr/>
        </p:nvSpPr>
        <p:spPr>
          <a:xfrm>
            <a:off x="685800" y="2743200"/>
            <a:ext cx="8001000" cy="612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00"/>
                </a:solidFill>
                <a:uFillTx/>
                <a:latin typeface="Arial Unicode MS"/>
              </a:rPr>
              <a:t>BENFICIOS PARA LOS CLIENTES</a:t>
            </a:r>
            <a:endParaRPr b="0" lang="en-US" sz="1700" spc="-1" strike="noStrike">
              <a:solidFill>
                <a:srgbClr val="000000"/>
              </a:solidFill>
              <a:latin typeface="Times New Roman"/>
            </a:endParaRPr>
          </a:p>
        </p:txBody>
      </p:sp>
      <p:sp>
        <p:nvSpPr>
          <p:cNvPr id="46" name=""/>
          <p:cNvSpPr/>
          <p:nvPr/>
        </p:nvSpPr>
        <p:spPr>
          <a:xfrm>
            <a:off x="0" y="3809880"/>
            <a:ext cx="7543800" cy="914400"/>
          </a:xfrm>
          <a:custGeom>
            <a:avLst/>
            <a:gdLst>
              <a:gd name="textAreaLeft" fmla="*/ 386280 w 7543800"/>
              <a:gd name="textAreaRight" fmla="*/ 7157520 w 7543800"/>
              <a:gd name="textAreaTop" fmla="*/ 247680 h 914400"/>
              <a:gd name="textAreaBottom" fmla="*/ 666720 h 914400"/>
            </a:gdLst>
            <a:ahLst/>
            <a:rect l="textAreaLeft" t="textAreaTop" r="textAreaRight" b="textAreaBottom"/>
            <a:pathLst>
              <a:path w="21600" h="21600">
                <a:moveTo>
                  <a:pt x="0" y="5850"/>
                </a:moveTo>
                <a:lnTo>
                  <a:pt x="19185" y="5850"/>
                </a:lnTo>
                <a:lnTo>
                  <a:pt x="19185" y="0"/>
                </a:lnTo>
                <a:lnTo>
                  <a:pt x="21600" y="10800"/>
                </a:lnTo>
                <a:lnTo>
                  <a:pt x="19185" y="21600"/>
                </a:lnTo>
                <a:lnTo>
                  <a:pt x="19185" y="15750"/>
                </a:lnTo>
                <a:lnTo>
                  <a:pt x="0" y="15750"/>
                </a:lnTo>
                <a:lnTo>
                  <a:pt x="1107" y="10800"/>
                </a:lnTo>
                <a:lnTo>
                  <a:pt x="0" y="5850"/>
                </a:lnTo>
                <a:close/>
              </a:path>
            </a:pathLst>
          </a:custGeom>
          <a:solidFill>
            <a:srgbClr val="ffffff"/>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Calidad del producto central</a:t>
            </a:r>
            <a:endParaRPr b="0" lang="en-US" sz="1800" spc="-1" strike="noStrike">
              <a:solidFill>
                <a:srgbClr val="000000"/>
              </a:solidFill>
              <a:latin typeface="Times New Roman"/>
            </a:endParaRPr>
          </a:p>
        </p:txBody>
      </p:sp>
      <p:sp>
        <p:nvSpPr>
          <p:cNvPr id="47" name=""/>
          <p:cNvSpPr/>
          <p:nvPr/>
        </p:nvSpPr>
        <p:spPr>
          <a:xfrm>
            <a:off x="0" y="5334120"/>
            <a:ext cx="8381880" cy="838080"/>
          </a:xfrm>
          <a:custGeom>
            <a:avLst/>
            <a:gdLst>
              <a:gd name="textAreaLeft" fmla="*/ 429480 w 8381880"/>
              <a:gd name="textAreaRight" fmla="*/ 7952400 w 8381880"/>
              <a:gd name="textAreaTop" fmla="*/ 226800 h 838080"/>
              <a:gd name="textAreaBottom" fmla="*/ 611280 h 838080"/>
            </a:gdLst>
            <a:ahLst/>
            <a:rect l="textAreaLeft" t="textAreaTop" r="textAreaRight" b="textAreaBottom"/>
            <a:pathLst>
              <a:path w="21600" h="21600">
                <a:moveTo>
                  <a:pt x="0" y="5850"/>
                </a:moveTo>
                <a:lnTo>
                  <a:pt x="19185" y="5850"/>
                </a:lnTo>
                <a:lnTo>
                  <a:pt x="19185" y="0"/>
                </a:lnTo>
                <a:lnTo>
                  <a:pt x="21600" y="10800"/>
                </a:lnTo>
                <a:lnTo>
                  <a:pt x="19185" y="21600"/>
                </a:lnTo>
                <a:lnTo>
                  <a:pt x="19185" y="15750"/>
                </a:lnTo>
                <a:lnTo>
                  <a:pt x="0" y="15750"/>
                </a:lnTo>
                <a:lnTo>
                  <a:pt x="1107" y="10800"/>
                </a:lnTo>
                <a:lnTo>
                  <a:pt x="0" y="5850"/>
                </a:lnTo>
                <a:close/>
              </a:path>
            </a:pathLst>
          </a:custGeom>
          <a:solidFill>
            <a:srgbClr val="ffffff"/>
          </a:soli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Calidad de servicio basado en la experiencia</a:t>
            </a:r>
            <a:endParaRPr b="0" lang="en-US" sz="1800" spc="-1" strike="noStrike">
              <a:solidFill>
                <a:srgbClr val="000000"/>
              </a:solidFill>
              <a:latin typeface="Times New Roman"/>
            </a:endParaRPr>
          </a:p>
        </p:txBody>
      </p:sp>
      <p:sp>
        <p:nvSpPr>
          <p:cNvPr id="48" name=""/>
          <p:cNvSpPr/>
          <p:nvPr/>
        </p:nvSpPr>
        <p:spPr>
          <a:xfrm>
            <a:off x="7391520" y="4114800"/>
            <a:ext cx="1371600" cy="1295280"/>
          </a:xfrm>
          <a:prstGeom prst="flowChartMagneticTape">
            <a:avLst/>
          </a:prstGeom>
          <a:gradFill rotWithShape="0">
            <a:gsLst>
              <a:gs pos="0">
                <a:srgbClr val="ffcc99"/>
              </a:gs>
              <a:gs pos="100000">
                <a:srgbClr val="755e4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7624080" y="457200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Unicode MS"/>
              </a:rPr>
              <a:t>VAL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CIOS DEL CLIENT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arcan cualquier cosa que reciba en su trato con la empre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 los clientes que reciben beneficios en cuanto a instalacion, entrega, capacitacion y programas de reservaciones, la calidad del servicio depende de que tan confiable y receptiva sea la empresa a las solicitudes del usu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CIOS DEL CLIENT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lientes obtienen beneficios de su experienc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 los clientes de articulos deportivos  donde la calidad de la experiencia del aficionado suele ser mas importante que el producto central que constituye el juego o encuen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O CONSERVAR LA SATISFACCIO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IENDA LO QUE PUEDE SALIR MAL,</a:t>
            </a:r>
            <a:r>
              <a:rPr b="0" lang="en-US" sz="3200" spc="-1" strike="noStrike">
                <a:solidFill>
                  <a:srgbClr val="000000"/>
                </a:solidFill>
                <a:latin typeface="Times New Roman"/>
              </a:rPr>
              <a:t> ni las mejores estrategias funcionan cuando el cliente no esta de hum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FOQUESE EN ASPECTOS CONTROLABLES,</a:t>
            </a:r>
            <a:r>
              <a:rPr b="0" lang="en-US" sz="3200" spc="-1" strike="noStrike">
                <a:solidFill>
                  <a:srgbClr val="000000"/>
                </a:solidFill>
                <a:latin typeface="Times New Roman"/>
              </a:rPr>
              <a:t> resulta especial que el producto central sea de gran calidad, de lo contrario la empresa tiene pocas probabilidades de establecer relaciones l.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O CONSERVAR LA SATISFACCIO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GA DE LA MEDICION DE LA SATISFACCION DEL CLIENTE UNA PRIORIDAD CONTINUA</a:t>
            </a:r>
            <a:r>
              <a:rPr b="0" lang="en-US" sz="3200" spc="-1" strike="noStrike">
                <a:solidFill>
                  <a:srgbClr val="000000"/>
                </a:solidFill>
                <a:latin typeface="Times New Roman"/>
              </a:rPr>
              <a:t>, si usted desconoce lo que ellos desean, necesitan o esperan, cualquier otra cosa sera una perdida de tiempo y recur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7:38:43Z</dcterms:created>
  <dc:creator>cnaranjo1</dc:creator>
  <dc:description/>
  <dc:language>en-US</dc:language>
  <cp:lastModifiedBy>.</cp:lastModifiedBy>
  <dcterms:modified xsi:type="dcterms:W3CDTF">2004-02-19T22:45:32Z</dcterms:modified>
  <cp:revision>33</cp:revision>
  <dc:subject/>
  <dc:title>CAPITULO 2 ANALISIS SITUACIONAL Y DEL ENTORNO</dc:title>
</cp:coreProperties>
</file>