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D22D-445D-417B-8AC9-0961F43B2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356D-974B-4D2B-8D42-83D23349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62D0-394F-4E59-BA7D-2244B0C08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BC1F-DA75-4C06-B6E7-56E602928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61E9-E671-4A8E-93E8-F4F162AD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08AD-40F4-47F8-9A1B-BC227E64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9B58-914E-48A5-A96D-AA7B1406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6F36-8F64-480B-BB25-E15DD6AD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EE29-B9AA-42E6-A51A-644DB6DD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1163-B105-4CBB-AB4D-A7B2C439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1C1B-5DAB-4AED-AB69-4700C399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03A3-39BA-4E33-9EA6-3EA1DC4A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9"/>
            </a:gs>
            <a:gs pos="100000">
              <a:srgbClr val="d9d9a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627A-33BF-45D6-B584-B36E486C9DFC}" type="slidenum">
              <a:rPr b="0" lang="es-C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9"/>
            </a:gs>
            <a:gs pos="100000">
              <a:srgbClr val="d9d9a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000000"/>
                </a:solidFill>
                <a:latin typeface="Tahoma"/>
              </a:rPr>
              <a:t>Enfoque Futu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327672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ahoma"/>
              </a:rPr>
              <a:t>Realizado por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ahoma"/>
              </a:rPr>
              <a:t>Jenny Moo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ahoma"/>
              </a:rPr>
              <a:t>Felipe Guard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ahoma"/>
              </a:rPr>
              <a:t>Fabio Cha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ahoma"/>
              </a:rPr>
              <a:t>Arnoldo Sal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9"/>
            </a:gs>
            <a:gs pos="100000">
              <a:srgbClr val="d9d9a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400" spc="-1" strike="noStrike">
                <a:solidFill>
                  <a:srgbClr val="000000"/>
                </a:solidFill>
                <a:latin typeface="Tahoma"/>
              </a:rPr>
              <a:t>¿Qué hace falta para triunfar en el siglo XXI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ahoma"/>
              </a:rPr>
              <a:t>Aumento del Ingres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ahoma"/>
              </a:rPr>
              <a:t>Aumento de Gananci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ahoma"/>
              </a:rPr>
              <a:t>Aumento de la Capitalización de Mercad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ahoma"/>
              </a:rPr>
              <a:t>Globalizació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9"/>
            </a:gs>
            <a:gs pos="100000">
              <a:srgbClr val="d9d9a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000000"/>
                </a:solidFill>
                <a:latin typeface="Tahoma"/>
              </a:rPr>
              <a:t>Cuatro Cualidades las que se necesit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1981080"/>
            <a:ext cx="5790960" cy="685800"/>
          </a:xfrm>
          <a:prstGeom prst="rect">
            <a:avLst/>
          </a:prstGeom>
          <a:solidFill>
            <a:srgbClr val="e3e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1337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ahoma"/>
              </a:rPr>
              <a:t>Especialización: de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2971800"/>
            <a:ext cx="5790960" cy="685800"/>
          </a:xfrm>
          <a:prstGeom prst="rect">
            <a:avLst/>
          </a:prstGeom>
          <a:solidFill>
            <a:srgbClr val="e3e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4038480"/>
            <a:ext cx="5790960" cy="685800"/>
          </a:xfrm>
          <a:prstGeom prst="rect">
            <a:avLst/>
          </a:prstGeom>
          <a:solidFill>
            <a:srgbClr val="e3e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5257800"/>
            <a:ext cx="5790960" cy="685800"/>
          </a:xfrm>
          <a:prstGeom prst="rect">
            <a:avLst/>
          </a:prstGeom>
          <a:solidFill>
            <a:srgbClr val="e3e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3048120"/>
            <a:ext cx="5410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000000"/>
                </a:solidFill>
                <a:latin typeface="Tahoma"/>
              </a:rPr>
              <a:t>Innovación: nuevos productos, modelo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4191120"/>
            <a:ext cx="571500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000000"/>
                </a:solidFill>
                <a:latin typeface="Tahoma"/>
              </a:rPr>
              <a:t>Globalización: Aumentar a otros mercados</a:t>
            </a:r>
            <a:r>
              <a:rPr b="0" lang="es-C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0200" y="53341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ahoma"/>
              </a:rPr>
              <a:t>Flexibilidad: Enfrentar severos re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9"/>
            </a:gs>
            <a:gs pos="100000">
              <a:srgbClr val="d9d9a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000000"/>
                </a:solidFill>
                <a:latin typeface="Tahoma"/>
              </a:rPr>
              <a:t>Especializ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ahoma"/>
              </a:rPr>
              <a:t>Focalizar sus actividades en lo que realmente se es competitiv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ahoma"/>
              </a:rPr>
              <a:t>Los mercados son variables: se gana, se perde valor, aparecen nuevas tecnologí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ahoma"/>
              </a:rPr>
              <a:t>El especializarse en una actividad determinada, influye también en comprometer recursos, los empleados deben formar parte del cambi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ahoma"/>
              </a:rPr>
              <a:t>Al haber mayor especialización hay menos distracció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9"/>
            </a:gs>
            <a:gs pos="100000">
              <a:srgbClr val="d9d9a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000000"/>
                </a:solidFill>
                <a:latin typeface="Tahoma"/>
              </a:rPr>
              <a:t>Innovad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ahoma"/>
              </a:rPr>
              <a:t>Llegar primero a la mente del consumid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ahoma"/>
              </a:rPr>
              <a:t>Diferentes formas de innovar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0000"/>
                </a:solidFill>
                <a:latin typeface="Tahoma"/>
              </a:rPr>
              <a:t>Nuevo modelo comerci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0000"/>
                </a:solidFill>
                <a:latin typeface="Tahoma"/>
              </a:rPr>
              <a:t>Nuevos proces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0000"/>
                </a:solidFill>
                <a:latin typeface="Tahoma"/>
              </a:rPr>
              <a:t>Nuevos productos y servici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ahoma"/>
              </a:rPr>
              <a:t>Innovación: un proceso infinit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ahoma"/>
              </a:rPr>
              <a:t>El mejor en innovación será el lider del mercad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9"/>
            </a:gs>
            <a:gs pos="100000">
              <a:srgbClr val="d9d9a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000000"/>
                </a:solidFill>
                <a:latin typeface="Tahoma"/>
              </a:rPr>
              <a:t>Mercados Glob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ahoma"/>
              </a:rPr>
              <a:t>Concentrarse en mercados internaciona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ahoma"/>
              </a:rPr>
              <a:t>Beneficio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0000"/>
                </a:solidFill>
                <a:latin typeface="Tahoma"/>
              </a:rPr>
              <a:t>Economías nacionales son menos estab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0000"/>
                </a:solidFill>
                <a:latin typeface="Tahoma"/>
              </a:rPr>
              <a:t>Una marca internacional se valora mejo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0000"/>
                </a:solidFill>
                <a:latin typeface="Tahoma"/>
              </a:rPr>
              <a:t>Si no buscan expansión sus principales competidores invadirán el territorio nacion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0000"/>
                </a:solidFill>
                <a:latin typeface="Tahoma"/>
              </a:rPr>
              <a:t>Se genera un crecimiento sustanci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9"/>
            </a:gs>
            <a:gs pos="100000">
              <a:srgbClr val="d9d9a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ahoma"/>
              </a:rPr>
              <a:t>Ser creativos para evadir los malos tiemp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ahoma"/>
              </a:rPr>
              <a:t>De las peores situaciones sacar el mejor provech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ahoma"/>
              </a:rPr>
              <a:t>Pensamiento a largo plaz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ahoma"/>
              </a:rPr>
              <a:t>Pueden hacer reestructuraciones durante un proceso si es necesari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ahoma"/>
              </a:rPr>
              <a:t>Empresas de éxito, navegan en tiempos buenos y tiempos malos. Se debe tener flexibilidad para enfrentar los malos tiemp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9"/>
            </a:gs>
            <a:gs pos="100000">
              <a:srgbClr val="d9d9a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000000"/>
                </a:solidFill>
                <a:latin typeface="Tahoma"/>
              </a:rPr>
              <a:t>Algunos Ejemp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600" spc="-1" strike="noStrike">
                <a:solidFill>
                  <a:srgbClr val="000000"/>
                </a:solidFill>
                <a:latin typeface="Tahoma"/>
              </a:rPr>
              <a:t>Dell Computer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0000"/>
                </a:solidFill>
                <a:latin typeface="Tahoma"/>
              </a:rPr>
              <a:t>Atacó mercados que estaban en proceso de forma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0000"/>
                </a:solidFill>
                <a:latin typeface="Tahoma"/>
              </a:rPr>
              <a:t>Apegarse a una modalidad de vent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0000"/>
                </a:solidFill>
                <a:latin typeface="Tahoma"/>
              </a:rPr>
              <a:t>Crear nuevos mercad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600" spc="-1" strike="noStrike">
                <a:solidFill>
                  <a:srgbClr val="000000"/>
                </a:solidFill>
                <a:latin typeface="Tahoma"/>
              </a:rPr>
              <a:t>Intel Corpora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0000"/>
                </a:solidFill>
                <a:latin typeface="Tahoma"/>
              </a:rPr>
              <a:t>Llego primero al mercado de microprocesador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0000"/>
                </a:solidFill>
                <a:latin typeface="Tahoma"/>
              </a:rPr>
              <a:t>Paciencia para el crecimiento del mercad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0000"/>
                </a:solidFill>
                <a:latin typeface="Tahoma"/>
              </a:rPr>
              <a:t>Especialidad ya que dejo de lado los chips de memor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0000"/>
                </a:solidFill>
                <a:latin typeface="Tahoma"/>
              </a:rPr>
              <a:t>Creo una marca en la mente del usuari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9"/>
            </a:gs>
            <a:gs pos="100000">
              <a:srgbClr val="d9d9a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000000"/>
                </a:solidFill>
                <a:latin typeface="Tahoma"/>
              </a:rPr>
              <a:t>Algunos Ejemp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600" spc="-1" strike="noStrike">
                <a:solidFill>
                  <a:srgbClr val="000000"/>
                </a:solidFill>
                <a:latin typeface="Tahoma"/>
              </a:rPr>
              <a:t>Heineke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0000"/>
                </a:solidFill>
                <a:latin typeface="Tahoma"/>
              </a:rPr>
              <a:t>Globalización: llegar primero al merc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0000"/>
                </a:solidFill>
                <a:latin typeface="Tahoma"/>
              </a:rPr>
              <a:t>Posicionamiento de liderazgo al llegar primer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600" spc="-1" strike="noStrike">
                <a:solidFill>
                  <a:srgbClr val="000000"/>
                </a:solidFill>
                <a:latin typeface="Tahoma"/>
              </a:rPr>
              <a:t>Nokia Corpora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0000"/>
                </a:solidFill>
                <a:latin typeface="Tahoma"/>
              </a:rPr>
              <a:t>Especialización, ya que los competidores son hasta dos o tres veces más grandes, sin embargo no están en las telecomunicaciones inalambric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0000"/>
                </a:solidFill>
                <a:latin typeface="Tahoma"/>
              </a:rPr>
              <a:t>Enfocarse en un mercado con futur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0000"/>
                </a:solidFill>
                <a:latin typeface="Tahoma"/>
              </a:rPr>
              <a:t>Controlar ese mercado para crear liderazg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04:26:16Z</dcterms:created>
  <dc:creator>Arnoldo Salas</dc:creator>
  <dc:description/>
  <dc:language>en-US</dc:language>
  <cp:lastModifiedBy>Arnoldo</cp:lastModifiedBy>
  <dcterms:modified xsi:type="dcterms:W3CDTF">2004-02-26T15:24:45Z</dcterms:modified>
  <cp:revision>14</cp:revision>
  <dc:subject/>
  <dc:title>Enfoque Futuro</dc:title>
</cp:coreProperties>
</file>