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AE8-9755-4013-899E-02C6EA4F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1631-AEAA-4B95-971D-BBD382E6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C65-D3A7-409E-B87F-1C9976C0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83B-0AD9-454C-815B-5F6006BC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18F0-9A90-485D-91D3-146FA5E2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3D93-735D-4A9C-AD0F-396B328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8BA3-4EC6-480C-A03F-F6AF7F28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88ED-E4D0-4FCB-AE46-29F81B08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9706-470B-41F8-AC0E-9615F23C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F4DB-CD96-40B0-993D-5DB30043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0CBB-62BD-4CCD-A693-E8CF2BD0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886-0200-4FD2-B1EA-22FE3CB8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C464-41E7-407D-84CA-A32417EF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9AD9-1CBD-4A63-B25D-D25D9519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A4CE-BE38-4D3E-85C3-BEE4041A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B5D3-6C8B-4A38-9506-5AEC7FFB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0E60-CAE2-4641-A655-801F1485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CBD-BCC6-4F6C-8014-3BA97CD6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11D-B322-474E-A279-7326DC50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1B4-8E23-4F0B-84A9-B5D85959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5E7-F1C4-4919-8E48-4D87BB99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19C1-D63B-4620-BAF6-4D01F4BA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B34-4BD5-46C9-9D19-0ABDEE3F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D14-352A-4DEB-8A7F-3274FB07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C033-56C1-44F1-9CAC-4B2B4A8AC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8D76-28A0-43E2-8719-5F1D33CA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5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Grupo #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Jorge Le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Laura Ort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Ronald Por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Luis U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 fontScale="98000"/>
          </a:bodyPr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 u="sng">
                <a:solidFill>
                  <a:srgbClr val="0099cc"/>
                </a:solidFill>
                <a:uFillTx/>
                <a:latin typeface="Verdana"/>
              </a:rPr>
              <a:t>El reto clave para el diseño del siti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Atractivo: para la primera impre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Interesante: para estimular visitas repet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No dejar abandonado al navegante y posibles clientes en el ciberespa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Gráficamente avanzado, texto, sonido, ani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Ejempl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 u="sng">
                <a:solidFill>
                  <a:srgbClr val="99ccff"/>
                </a:solidFill>
                <a:uFillTx/>
                <a:latin typeface="Verdana"/>
              </a:rPr>
              <a:t>www</a:t>
            </a:r>
            <a:r>
              <a:rPr b="0" lang="es-CR" sz="2000" spc="-1" strike="noStrike" u="sng">
                <a:solidFill>
                  <a:srgbClr val="99ccff"/>
                </a:solidFill>
                <a:uFillTx/>
                <a:latin typeface="Verdana"/>
              </a:rPr>
              <a:t>.gap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 u="sng">
                <a:solidFill>
                  <a:srgbClr val="003366"/>
                </a:solidFill>
                <a:uFillTx/>
                <a:latin typeface="Verdana"/>
              </a:rPr>
              <a:t>www.1800flower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541044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 u="sng">
                <a:solidFill>
                  <a:srgbClr val="0099cc"/>
                </a:solidFill>
                <a:uFillTx/>
                <a:latin typeface="Verdana"/>
              </a:rPr>
              <a:t>Publicidad en línea: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 u="sng">
                <a:solidFill>
                  <a:srgbClr val="0099cc"/>
                </a:solidFill>
                <a:uFillTx/>
                <a:latin typeface="Verdana"/>
              </a:rPr>
              <a:t>Varias man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99cc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Colocar anuncios en secciones especiales que ofrecen los principales servicios en lín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Ejemplo: ESPNet SportsZone </a:t>
            </a:r>
            <a:r>
              <a:rPr b="0" lang="es-CR" sz="1600" spc="-1" strike="noStrike" u="sng">
                <a:solidFill>
                  <a:srgbClr val="99ccff"/>
                </a:solidFill>
                <a:uFillTx/>
                <a:latin typeface="Verdana"/>
              </a:rPr>
              <a:t>www.espnet-sportszone.</a:t>
            </a:r>
            <a:r>
              <a:rPr b="0" lang="es-CR" sz="1600" spc="-1" strike="noStrike" u="sng">
                <a:solidFill>
                  <a:srgbClr val="99ccff"/>
                </a:solidFill>
                <a:uFillTx/>
                <a:latin typeface="Verdana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2. Colocar anuncios e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ciertos grupos de noticias d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bole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Comunidades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3. Colocar anuncios “en líne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Encabezados, ventanas, tickers, controles de carret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4. Inscribirse a empresas de difusión por Web ( Webcasting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Pointcast, I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bajan automáticamente información personalizada a las PC de 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los destinatarios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Los expertos lo denominan “programación de empuj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Tener cuidado de no sobrecargar de “correo chatarra” y adquirir 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reputación de “spamm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Spam: Termino que se da al correo electrónico no solicitado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 u="sng">
                <a:solidFill>
                  <a:srgbClr val="0099cc"/>
                </a:solidFill>
                <a:uFillTx/>
                <a:latin typeface="Verdana"/>
              </a:rPr>
              <a:t>Aspectos negativos que deben ser considerados: 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99cc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Compra limitada de los nevegantes de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99cc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Sesgo en las características demográficas y psocográficas de los usu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99cc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Caos y sat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99cc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99cc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Problemas ét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99cc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Reacción negativa de los consum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5791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r>
              <a:rPr b="0" lang="es-CR" sz="2400" spc="-1" strike="noStrike">
                <a:solidFill>
                  <a:srgbClr val="0099cc"/>
                </a:solidFill>
                <a:latin typeface="Times New Roman"/>
              </a:rPr>
              <a:t>GRA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Marketing del siglo XX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“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Espacio de mercado” y no “Mercado fís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0099cc"/>
                </a:solidFill>
                <a:uFillTx/>
                <a:latin typeface="Verdana"/>
              </a:rPr>
              <a:t>Compras que comunmente efectu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Hardware, software, pasajes aéreos, libros, música, alimentos, flores, vinos, ropa,aparatos electrónicos, transaccione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5490a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 u="sng">
                <a:solidFill>
                  <a:srgbClr val="0099cc"/>
                </a:solidFill>
                <a:uFillTx/>
                <a:latin typeface="Verdana"/>
              </a:rPr>
              <a:t>Canales de comercio eletrón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99cc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Canales comerci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Empresas que ofrecen información y servicios de marketing en lí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Se deben de inscribir y pagar una cu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America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Microsoft Network (MS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Prodi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A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2. Interne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World Wide Web (ww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Netscape Navigator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Microsoft 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3. Buscad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Yaho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Infos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Ex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Altav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0099cc"/>
                </a:solidFill>
                <a:uFillTx/>
                <a:latin typeface="Verdana"/>
              </a:rPr>
              <a:t>Características de la población de internet: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j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mejor posición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mejor instr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se esta volviendo más normal y diver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dan más valor a la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responden en forma negativa a mensajes que solo buscan v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el consumidor es el que tiene 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400" spc="-1" strike="noStrike">
                <a:solidFill>
                  <a:srgbClr val="0099cc"/>
                </a:solidFill>
                <a:latin typeface="Verdana"/>
              </a:rPr>
              <a:t>el mercadólog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Esas características invierten las prácticas de marketing tradi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 u="sng">
                <a:solidFill>
                  <a:srgbClr val="99ccff"/>
                </a:solidFill>
                <a:uFillTx/>
                <a:latin typeface="Verdana"/>
              </a:rPr>
              <a:t>www.edmunds.</a:t>
            </a:r>
            <a:r>
              <a:rPr b="0" lang="es-CR" sz="2000" spc="-1" strike="noStrike" u="sng">
                <a:solidFill>
                  <a:srgbClr val="99ccff"/>
                </a:solidFill>
                <a:uFillTx/>
                <a:latin typeface="Verdana"/>
              </a:rPr>
              <a:t>com</a:t>
            </a:r>
            <a:r>
              <a:rPr b="0" lang="es-CR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CR" sz="2000" spc="-1" strike="noStrike" u="sng">
                <a:solidFill>
                  <a:srgbClr val="003366"/>
                </a:solidFill>
                <a:uFillTx/>
                <a:latin typeface="Verdana"/>
              </a:rPr>
              <a:t>www.supereconomico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Comparación:  costos, características, calidad, márgenes distribu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Restricción de busqueda: En cuanto a marcas y mode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Solicitud de colaboración con los fabric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Consejos y discusión con otros clientes, podemos ver quej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Consertar citas para probar varias marcas y modelos en un lugar y a una hora previamente fij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Pueden pedir al socio de edmunds “AutoBytel.com” que actue como su agente de 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Pueden solicitar a otros socios de edmund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88640" indent="-342720">
              <a:lnSpc>
                <a:spcPct val="90000"/>
              </a:lnSpc>
              <a:buClr>
                <a:srgbClr val="0099cc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Financi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988640" indent="-342720">
              <a:lnSpc>
                <a:spcPct val="90000"/>
              </a:lnSpc>
              <a:buClr>
                <a:srgbClr val="0099cc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Garant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988640" indent="-342720">
              <a:lnSpc>
                <a:spcPct val="90000"/>
              </a:lnSpc>
              <a:buClr>
                <a:srgbClr val="0099cc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988640" indent="-342720">
              <a:lnSpc>
                <a:spcPct val="90000"/>
              </a:lnSpc>
              <a:buClr>
                <a:srgbClr val="0099cc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acceso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5490a8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 u="sng">
                <a:solidFill>
                  <a:srgbClr val="0099cc"/>
                </a:solidFill>
                <a:uFillTx/>
                <a:latin typeface="Verdana"/>
              </a:rPr>
              <a:t>Ventajas del marketing en línea para el cl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Comod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Menos molest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 u="sng">
                <a:solidFill>
                  <a:srgbClr val="0099cc"/>
                </a:solidFill>
                <a:uFillTx/>
                <a:latin typeface="Verdana"/>
              </a:rPr>
              <a:t>Ventajas del mkt en línea para el empres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Ajustes rápidos a las condiciones del merc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Costos más baj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Creación de rel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Determinación del tamaño del públ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 u="sng">
                <a:solidFill>
                  <a:srgbClr val="0099cc"/>
                </a:solidFill>
                <a:uFillTx/>
                <a:latin typeface="Verdana"/>
              </a:rPr>
              <a:t>Desventaj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El Mkt en línea no es para todas las empresas ni para todos los 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Ej: Productos que deben de tocarse, probarse, degustarse, palpa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Existen excep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buClr>
                <a:srgbClr val="0099cc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Ejempl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lnSpc>
                <a:spcPct val="9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 u="sng">
                <a:solidFill>
                  <a:srgbClr val="99ccff"/>
                </a:solidFill>
                <a:uFillTx/>
                <a:latin typeface="Verdana"/>
              </a:rPr>
              <a:t>www.del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lnSpc>
                <a:spcPct val="9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 u="sng">
                <a:solidFill>
                  <a:srgbClr val="99ccff"/>
                </a:solidFill>
                <a:uFillTx/>
                <a:latin typeface="Verdana"/>
              </a:rPr>
              <a:t>www.calyxandcoroll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5490a8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 u="sng">
                <a:solidFill>
                  <a:srgbClr val="99ccff"/>
                </a:solidFill>
                <a:uFillTx/>
                <a:latin typeface="Verdana"/>
              </a:rPr>
              <a:t>www</a:t>
            </a:r>
            <a:r>
              <a:rPr b="0" lang="es-CR" sz="2000" spc="-1" strike="noStrike" u="sng">
                <a:solidFill>
                  <a:srgbClr val="99ccff"/>
                </a:solidFill>
                <a:uFillTx/>
                <a:latin typeface="Verdana"/>
              </a:rPr>
              <a:t>.del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Sitio en los idiomas de cada pá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Cobertura a nivel mund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interactiv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Descripción detallada de los productos principales y acceso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Precios, promociones,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Un servicio exacto, se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5490a8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 u="sng">
                <a:solidFill>
                  <a:srgbClr val="99ccff"/>
                </a:solidFill>
                <a:uFillTx/>
                <a:latin typeface="Verdana"/>
              </a:rPr>
              <a:t>www.calyxandcorolla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Los clientes hacen los ped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Los pedidos se remiten inmediatamente a algunos de los 55 cultivadores alrededor del mundo de la red C&amp;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Los cultivadores cortan y empaquetan las f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Envian el pedido por Fe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99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99cc"/>
                </a:solidFill>
                <a:latin typeface="Verdana"/>
              </a:rPr>
              <a:t>Flores más frescas, duran 10 días m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5490a8"/>
                </a:solidFill>
                <a:latin typeface="Verdan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Presencia electrónic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 u="sng">
                <a:solidFill>
                  <a:srgbClr val="0099cc"/>
                </a:solidFill>
                <a:uFillTx/>
                <a:latin typeface="Verdana"/>
              </a:rPr>
              <a:t>Comprar un espacio en un servicio en línea comerci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489320" indent="-323640">
              <a:lnSpc>
                <a:spcPct val="90000"/>
              </a:lnSpc>
              <a:buClr>
                <a:srgbClr val="0099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America Online, CompuServe, Prodi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89320" indent="-323640">
              <a:lnSpc>
                <a:spcPct val="90000"/>
              </a:lnSpc>
              <a:buClr>
                <a:srgbClr val="0099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Diseñan la “fachada de la tiend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89320" indent="-323640">
              <a:lnSpc>
                <a:spcPct val="90000"/>
              </a:lnSpc>
              <a:buClr>
                <a:srgbClr val="0099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200" spc="-1" strike="noStrike">
                <a:solidFill>
                  <a:srgbClr val="0099cc"/>
                </a:solidFill>
                <a:latin typeface="Verdana"/>
              </a:rPr>
              <a:t>Se paga un cuota mensual y un pequeño porcentajes de las ve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893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 u="sng">
                <a:solidFill>
                  <a:srgbClr val="0099cc"/>
                </a:solidFill>
                <a:uFillTx/>
                <a:latin typeface="Verdana"/>
              </a:rPr>
              <a:t>Abrir su propio sitio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600" spc="-1" strike="noStrike">
                <a:solidFill>
                  <a:srgbClr val="0099cc"/>
                </a:solidFill>
                <a:latin typeface="Verdana"/>
              </a:rPr>
              <a:t>Agencia de diseño web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99cc"/>
                </a:solidFill>
                <a:latin typeface="Verdana"/>
              </a:rPr>
              <a:t>Estos sitios adoptan dos formas bá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9320" indent="-323640">
              <a:lnSpc>
                <a:spcPct val="90000"/>
              </a:lnSpc>
              <a:buClr>
                <a:srgbClr val="0099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Sitio Web Corpo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7812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 u="sng">
                <a:solidFill>
                  <a:srgbClr val="003366"/>
                </a:solidFill>
                <a:uFillTx/>
                <a:latin typeface="Verdana"/>
              </a:rPr>
              <a:t>www.dospino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9320" indent="-323640">
              <a:lnSpc>
                <a:spcPct val="90000"/>
              </a:lnSpc>
              <a:buClr>
                <a:srgbClr val="0099c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Sitio Web de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7812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0099cc"/>
                </a:solidFill>
                <a:latin typeface="Verdana"/>
              </a:rPr>
              <a:t>	</a:t>
            </a:r>
            <a:r>
              <a:rPr b="0" lang="es-CR" sz="2000" spc="-1" strike="noStrike" u="sng">
                <a:solidFill>
                  <a:srgbClr val="99ccff"/>
                </a:solidFill>
                <a:uFillTx/>
                <a:latin typeface="Verdana"/>
              </a:rPr>
              <a:t>www.watts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812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CR" sz="2000" spc="-1" strike="noStrike">
                <a:solidFill>
                  <a:srgbClr val="003366"/>
                </a:solidFill>
                <a:latin typeface="Verdana"/>
              </a:rPr>
              <a:t>	</a:t>
            </a:r>
            <a:r>
              <a:rPr b="0" lang="es-CR" sz="2000" spc="-1" strike="noStrike" u="sng">
                <a:solidFill>
                  <a:srgbClr val="99ccff"/>
                </a:solidFill>
                <a:uFillTx/>
                <a:latin typeface="Verdana"/>
              </a:rPr>
              <a:t>www.caffebrit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812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3366"/>
                </a:solidFill>
                <a:latin typeface="Verdana"/>
              </a:rPr>
              <a:t>                     </a:t>
            </a:r>
            <a:r>
              <a:rPr b="0" lang="es-CR" sz="2000" spc="-1" strike="noStrike" u="sng">
                <a:solidFill>
                  <a:srgbClr val="003366"/>
                </a:solidFill>
                <a:uFillTx/>
                <a:latin typeface="Verdana"/>
              </a:rPr>
              <a:t>www.legalchi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5490a8"/>
                </a:solidFill>
                <a:latin typeface="Verdana"/>
              </a:rPr>
              <a:t>	</a:t>
            </a:r>
            <a:r>
              <a:rPr b="0" lang="es-CR" sz="1400" spc="-1" strike="noStrike">
                <a:solidFill>
                  <a:srgbClr val="5490a8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99cc"/>
                </a:solidFill>
                <a:latin typeface="Copperplate Gothic Bold"/>
              </a:rPr>
              <a:t>Mercadeo por Inter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07:26:46Z</dcterms:created>
  <dc:creator>Lic. Jorge León Vargas.</dc:creator>
  <dc:description/>
  <dc:language>en-US</dc:language>
  <cp:lastModifiedBy>Lic. Jorge León Vargas.</cp:lastModifiedBy>
  <dcterms:modified xsi:type="dcterms:W3CDTF">2004-03-02T06:01:41Z</dcterms:modified>
  <cp:revision>9</cp:revision>
  <dc:subject/>
  <dc:title>Mercadeo por Internet</dc:title>
</cp:coreProperties>
</file>