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5B2-0053-4C1B-A577-F1DAD8A5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18F-A5C3-4AE5-AA75-D5153503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C7E-A91B-4360-9379-0C1EBC50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6CF-C1E3-4C21-A82D-A45A836C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41A-E0AC-4066-B77D-E68113B8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D03-0A60-4EEF-8519-F22E09CD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B6D-090F-4491-BF7A-1C7A442D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A54-8BED-44BB-B73F-7C8891DF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C1F-3B8E-4CAB-BD9C-DB4992E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A72-665D-478A-AEAB-13A9403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FBB-E5B6-4031-AA58-7F036BE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677-442C-41FA-BE61-68CDD24D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C1AF-B712-4B4B-B05D-B2495BD066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05920" cy="3429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 Unicode MS"/>
              </a:rPr>
              <a:t>CAPITULO 20 LAMB</a:t>
            </a:r>
            <a:br>
              <a:rPr sz="3800"/>
            </a:br>
            <a:br>
              <a:rPr sz="3800"/>
            </a:br>
            <a:r>
              <a:rPr b="1" lang="es-ES_tradnl" sz="3800" spc="-1" strike="noStrike">
                <a:solidFill>
                  <a:srgbClr val="000000"/>
                </a:solidFill>
                <a:latin typeface="Arial Unicode MS"/>
              </a:rPr>
              <a:t>“MARKETING DE UNO A UNO”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4876920"/>
            <a:ext cx="3505320" cy="1752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Liza Gutier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hristian Naran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Francina O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Juan Vicente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¿QUE ES EL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“MARKETING DE UNO A UNO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9000" y="1447920"/>
            <a:ext cx="91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Unicode MS"/>
              </a:rPr>
              <a:t>(administración de las relaciones con el cli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2296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09680"/>
            <a:ext cx="7772400" cy="15242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43828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s un método de marketing individualizado que utiliza información del cliente para establecer relaciones a largo plazo, personalizadas y redituables con cada uno de el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7242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¿PORQUE EL 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“MARKETING DE UNO A UNO” NECESITA TECNOLOGÍA DE BASE DE DAT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388620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En esencia, el marketing uno a uno no es más que la relación cultivada por una persona de ventas con 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48769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La base del marketing es la atención meditada, a diferencia en que se la intuición se cambia por proyecciones a conci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8" idx="3"/>
            <a:endCxn id="49" idx="1"/>
          </p:cNvCxnSpPr>
          <p:nvPr/>
        </p:nvCxnSpPr>
        <p:spPr>
          <a:xfrm flipV="1">
            <a:off x="3428640" y="4298400"/>
            <a:ext cx="686520" cy="997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"/>
          <p:cNvCxnSpPr>
            <a:stCxn id="48" idx="3"/>
            <a:endCxn id="50" idx="1"/>
          </p:cNvCxnSpPr>
          <p:nvPr/>
        </p:nvCxnSpPr>
        <p:spPr>
          <a:xfrm flipV="1">
            <a:off x="3428640" y="5289120"/>
            <a:ext cx="76284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"/>
          <p:cNvSpPr/>
          <p:nvPr/>
        </p:nvSpPr>
        <p:spPr>
          <a:xfrm>
            <a:off x="4191120" y="5788080"/>
            <a:ext cx="49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La tecnología de base de datos de hoy permite que los mercadólogos hagan lo que los antiguos comerciantes de 1800jacían:llegar a conocer a sus clientes sobre bases personales: de uno a 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257800"/>
            <a:ext cx="6858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858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Fuerzas que influyen en el marketing de uno 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905120"/>
            <a:ext cx="77724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Diversidad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onsumidores más exigentes y carentes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Declinación de la lealtad hacia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La aparición de nuevas alternativ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Demanda de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381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Proceso de comunicación del marketing uno 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133720" y="2057400"/>
            <a:ext cx="1523880" cy="3733920"/>
            <a:chOff x="2133720" y="2057400"/>
            <a:chExt cx="1523880" cy="3733920"/>
          </a:xfrm>
        </p:grpSpPr>
        <p:sp>
          <p:nvSpPr>
            <p:cNvPr id="59" name=""/>
            <p:cNvSpPr/>
            <p:nvPr/>
          </p:nvSpPr>
          <p:spPr>
            <a:xfrm>
              <a:off x="2133720" y="2057400"/>
              <a:ext cx="1523880" cy="3733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09680" y="2133720"/>
              <a:ext cx="1371240" cy="331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Unicode MS"/>
                </a:rPr>
                <a:t>Codifica-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El remitente codifica el mensaje personaliza-do sobre la base de la identificación de las necesidades del cliente prospec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0880" y="2057400"/>
            <a:ext cx="1524240" cy="3733920"/>
            <a:chOff x="380880" y="2057400"/>
            <a:chExt cx="1524240" cy="3733920"/>
          </a:xfrm>
        </p:grpSpPr>
        <p:sp>
          <p:nvSpPr>
            <p:cNvPr id="62" name=""/>
            <p:cNvSpPr/>
            <p:nvPr/>
          </p:nvSpPr>
          <p:spPr>
            <a:xfrm>
              <a:off x="380880" y="2057400"/>
              <a:ext cx="1524240" cy="3733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" y="2133720"/>
              <a:ext cx="1371600" cy="14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Unicode MS"/>
                </a:rPr>
                <a:t>Remi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 Unicode MS"/>
                </a:rPr>
                <a:t>Mercado logo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 Unicode MS"/>
                </a:rPr>
                <a:t>uno a u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886200" y="2057400"/>
            <a:ext cx="1523880" cy="3733920"/>
            <a:chOff x="3886200" y="2057400"/>
            <a:chExt cx="1523880" cy="3733920"/>
          </a:xfrm>
        </p:grpSpPr>
        <p:sp>
          <p:nvSpPr>
            <p:cNvPr id="65" name=""/>
            <p:cNvSpPr/>
            <p:nvPr/>
          </p:nvSpPr>
          <p:spPr>
            <a:xfrm>
              <a:off x="3886200" y="2057400"/>
              <a:ext cx="1523880" cy="3733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62160" y="2133720"/>
              <a:ext cx="1371240" cy="359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Unicode MS"/>
                </a:rPr>
                <a:t>Canal del mensaje uno a u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Correo direc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Telemerca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Venta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E 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Cat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Boletí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Carta 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38680" y="2057400"/>
            <a:ext cx="1524240" cy="3733920"/>
            <a:chOff x="5638680" y="2057400"/>
            <a:chExt cx="1524240" cy="3733920"/>
          </a:xfrm>
        </p:grpSpPr>
        <p:sp>
          <p:nvSpPr>
            <p:cNvPr id="68" name=""/>
            <p:cNvSpPr/>
            <p:nvPr/>
          </p:nvSpPr>
          <p:spPr>
            <a:xfrm>
              <a:off x="5638680" y="2057400"/>
              <a:ext cx="1524240" cy="3733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2133720"/>
              <a:ext cx="1371600" cy="18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Unicode MS"/>
                </a:rPr>
                <a:t>Decodifica-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El receptor interpreta el mensaje personaliz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391520" y="2057400"/>
            <a:ext cx="1523880" cy="3733920"/>
            <a:chOff x="7391520" y="2057400"/>
            <a:chExt cx="1523880" cy="3733920"/>
          </a:xfrm>
        </p:grpSpPr>
        <p:sp>
          <p:nvSpPr>
            <p:cNvPr id="71" name=""/>
            <p:cNvSpPr/>
            <p:nvPr/>
          </p:nvSpPr>
          <p:spPr>
            <a:xfrm>
              <a:off x="7391520" y="2057400"/>
              <a:ext cx="1523880" cy="3733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67480" y="2133720"/>
              <a:ext cx="1371240" cy="231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Unicode MS"/>
                </a:rPr>
                <a:t>Re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El remitente identifica a los clientes prospectos como probables compra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" name=""/>
          <p:cNvCxnSpPr>
            <a:stCxn id="71" idx="2"/>
            <a:endCxn id="62" idx="2"/>
          </p:cNvCxnSpPr>
          <p:nvPr/>
        </p:nvCxnSpPr>
        <p:spPr>
          <a:xfrm rot="5400000">
            <a:off x="4646520" y="2286720"/>
            <a:ext cx="2160" cy="7011000"/>
          </a:xfrm>
          <a:prstGeom prst="bentConnector3">
            <a:avLst>
              <a:gd name="adj1" fmla="val 25680000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2976840" y="624852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Respuesta del 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219320" y="1752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895480" y="1752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75248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" y="1371600"/>
            <a:ext cx="58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Unicode MS"/>
              </a:rPr>
              <a:t>La captura de la respuesta da forma a mensajes futu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Ocho aplicaciones comunes de marketing uno 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6600" y="3124080"/>
            <a:ext cx="1349640" cy="1219320"/>
            <a:chOff x="786600" y="3124080"/>
            <a:chExt cx="1349640" cy="1219320"/>
          </a:xfrm>
        </p:grpSpPr>
        <p:sp>
          <p:nvSpPr>
            <p:cNvPr id="85" name=""/>
            <p:cNvSpPr/>
            <p:nvPr/>
          </p:nvSpPr>
          <p:spPr>
            <a:xfrm>
              <a:off x="838080" y="3124080"/>
              <a:ext cx="1219320" cy="121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600" y="3429000"/>
              <a:ext cx="13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del 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415960" y="3048120"/>
            <a:ext cx="1110240" cy="1371600"/>
            <a:chOff x="2415960" y="3048120"/>
            <a:chExt cx="1110240" cy="1371600"/>
          </a:xfrm>
        </p:grpSpPr>
        <p:sp>
          <p:nvSpPr>
            <p:cNvPr id="88" name=""/>
            <p:cNvSpPr/>
            <p:nvPr/>
          </p:nvSpPr>
          <p:spPr>
            <a:xfrm>
              <a:off x="2438280" y="3048120"/>
              <a:ext cx="1066680" cy="1371600"/>
            </a:xfrm>
            <a:prstGeom prst="flowChartMagneticDisk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15960" y="3505320"/>
              <a:ext cx="111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Base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datos d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 Unicode MS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" name=""/>
          <p:cNvCxnSpPr>
            <a:stCxn id="86" idx="3"/>
            <a:endCxn id="88" idx="2"/>
          </p:cNvCxnSpPr>
          <p:nvPr/>
        </p:nvCxnSpPr>
        <p:spPr>
          <a:xfrm>
            <a:off x="2084040" y="3719520"/>
            <a:ext cx="35460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</p:cxnSp>
      <p:sp>
        <p:nvSpPr>
          <p:cNvPr id="91" name=""/>
          <p:cNvSpPr/>
          <p:nvPr/>
        </p:nvSpPr>
        <p:spPr>
          <a:xfrm>
            <a:off x="4343400" y="167652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228600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533412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79132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89548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464832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19112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505320"/>
            <a:ext cx="2133720" cy="61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 Unicode MS"/>
              </a:rPr>
              <a:t>Identificar los mejore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9" idx="3"/>
            <a:endCxn id="91" idx="1"/>
          </p:cNvCxnSpPr>
          <p:nvPr/>
        </p:nvCxnSpPr>
        <p:spPr>
          <a:xfrm flipV="1">
            <a:off x="3503160" y="1985760"/>
            <a:ext cx="840600" cy="1932480"/>
          </a:xfrm>
          <a:prstGeom prst="bentConnector3">
            <a:avLst>
              <a:gd name="adj1" fmla="val 498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8" idx="4"/>
            <a:endCxn id="92" idx="1"/>
          </p:cNvCxnSpPr>
          <p:nvPr/>
        </p:nvCxnSpPr>
        <p:spPr>
          <a:xfrm flipV="1">
            <a:off x="3504960" y="2595240"/>
            <a:ext cx="3277080" cy="1139040"/>
          </a:xfrm>
          <a:prstGeom prst="bentConnector3">
            <a:avLst>
              <a:gd name="adj1" fmla="val 20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9" idx="3"/>
            <a:endCxn id="95" idx="1"/>
          </p:cNvCxnSpPr>
          <p:nvPr/>
        </p:nvCxnSpPr>
        <p:spPr>
          <a:xfrm flipV="1">
            <a:off x="3503160" y="3204720"/>
            <a:ext cx="840600" cy="713520"/>
          </a:xfrm>
          <a:prstGeom prst="bentConnector3">
            <a:avLst>
              <a:gd name="adj1" fmla="val 498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89" idx="3"/>
            <a:endCxn id="98" idx="1"/>
          </p:cNvCxnSpPr>
          <p:nvPr/>
        </p:nvCxnSpPr>
        <p:spPr>
          <a:xfrm flipV="1">
            <a:off x="3503520" y="3814560"/>
            <a:ext cx="3278880" cy="10368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89" idx="3"/>
            <a:endCxn id="96" idx="0"/>
          </p:cNvCxnSpPr>
          <p:nvPr/>
        </p:nvCxnSpPr>
        <p:spPr>
          <a:xfrm>
            <a:off x="3503520" y="3917520"/>
            <a:ext cx="4345920" cy="731160"/>
          </a:xfrm>
          <a:prstGeom prst="bentConnector2">
            <a:avLst/>
          </a:prstGeom>
          <a:ln w="0">
            <a:noFill/>
          </a:ln>
        </p:spPr>
      </p:cxnSp>
      <p:cxnSp>
        <p:nvCxnSpPr>
          <p:cNvPr id="104" name=""/>
          <p:cNvCxnSpPr>
            <a:stCxn id="89" idx="3"/>
            <a:endCxn id="97" idx="1"/>
          </p:cNvCxnSpPr>
          <p:nvPr/>
        </p:nvCxnSpPr>
        <p:spPr>
          <a:xfrm>
            <a:off x="3503160" y="3917520"/>
            <a:ext cx="840600" cy="583560"/>
          </a:xfrm>
          <a:prstGeom prst="bentConnector3">
            <a:avLst>
              <a:gd name="adj1" fmla="val 498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89" idx="3"/>
            <a:endCxn id="96" idx="1"/>
          </p:cNvCxnSpPr>
          <p:nvPr/>
        </p:nvCxnSpPr>
        <p:spPr>
          <a:xfrm>
            <a:off x="3503520" y="3917520"/>
            <a:ext cx="3278880" cy="1040760"/>
          </a:xfrm>
          <a:prstGeom prst="bentConnector3">
            <a:avLst>
              <a:gd name="adj1" fmla="val 132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89" idx="3"/>
            <a:endCxn id="93" idx="1"/>
          </p:cNvCxnSpPr>
          <p:nvPr/>
        </p:nvCxnSpPr>
        <p:spPr>
          <a:xfrm>
            <a:off x="3503160" y="3917880"/>
            <a:ext cx="840600" cy="1726560"/>
          </a:xfrm>
          <a:prstGeom prst="bentConnector3">
            <a:avLst>
              <a:gd name="adj1" fmla="val 498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89" idx="3"/>
            <a:endCxn id="94" idx="1"/>
          </p:cNvCxnSpPr>
          <p:nvPr/>
        </p:nvCxnSpPr>
        <p:spPr>
          <a:xfrm>
            <a:off x="3503520" y="3917880"/>
            <a:ext cx="3278880" cy="2183760"/>
          </a:xfrm>
          <a:prstGeom prst="bentConnector3">
            <a:avLst>
              <a:gd name="adj1" fmla="val 1278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Unicode MS"/>
              </a:rPr>
              <a:t>Elementos básicos de la tecnología del marketing de base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9051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 Unicode MS"/>
              </a:rPr>
              <a:t>Marketing impulsado por datos:</a:t>
            </a: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 proceso de recopilar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analizar información sobre clientes y prospectos para aplic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la comunicación mas eficiente y efec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6920" y="3886200"/>
            <a:ext cx="814500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onstrucción de una base de dato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Fortalecimiento de los datos 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Encontrar respuestas al analizar los datos 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7:38:43Z</dcterms:created>
  <dc:creator>cnaranjo1</dc:creator>
  <dc:description/>
  <dc:language>en-US</dc:language>
  <cp:lastModifiedBy>alin</cp:lastModifiedBy>
  <dcterms:modified xsi:type="dcterms:W3CDTF">2004-02-26T14:47:31Z</dcterms:modified>
  <cp:revision>38</cp:revision>
  <dc:subject/>
  <dc:title>CAPITULO 2 ANALISIS SITUACIONAL Y DEL ENTORNO</dc:title>
</cp:coreProperties>
</file>