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703BD-6795-411C-9F24-518709D28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0F2EE-CA1C-42B5-B810-36859598B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CEF4F-9C5F-4A9F-85D7-562AD26D0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115CC-ED9A-43D2-8E5C-36396F59B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92F98-F929-4A31-BA99-ED9443B65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1C4E5-3E28-4EC1-9496-3995CF131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AB137-ECB4-4873-87AA-4B4DB39F1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7E105-EC56-4CD8-ABE5-17286ECF2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5972A-2ED0-417F-AF8F-BA3B8EC3E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E5067-BD6E-4D2D-935E-59DFA7FAF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09A0C-323C-43D1-987E-7FD68E64C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4B2E3-29FA-402B-9FB7-4B49CF6B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2E931-9451-47DA-91BC-81805BFB2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3B73E-1AD1-4884-A511-49A29257A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FE4F7-4BFE-438C-8F3C-779391DE3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41AF2-EB1A-43D4-8C28-B3A4CBE42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7F635-2037-426D-A26A-00D2D815F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AF6C9-71DC-4F89-BBFC-8356095D39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DFDC0-4237-46E2-B115-750FFBE68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9EC67-18D2-46C9-85B1-BA8A5F5AEB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38F2A4-A7B1-492D-B852-AA352E30D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A6957-967E-4B3D-9DB6-987399F29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AF32-B6B7-455A-9CC5-97398B04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F971C-FC38-4333-A11A-BA391520F7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09D38-EDD6-4433-8790-3DC46CBE9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79077-3835-4EF3-AF37-31E0C93D9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D83E8-D05A-4B49-B673-4CF035803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F58F9-B365-4ACD-AD11-5611E6D71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0E0A07-F57C-4EE7-8CFC-BED3B5A587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89DAB8-E989-4CED-8321-383393CFFF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BDC864-DF5D-4948-9C4B-B91812787B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4CAA5-63C7-465A-95EE-746A46BC9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908D4F-4B16-4EE7-A2DC-CFD52FC32F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5851C-8168-435C-B412-DDD82AF67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4D05F-60D4-4FF9-9603-8E2595157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31AD3-087E-4B22-A488-41091B1894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54A3A-BC63-4308-ABFF-22DD41927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C7383-F441-46A6-BDCF-7355F4F8B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5CA47-48C2-44E3-9BA7-D4472435A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1E761-DA06-4E04-B4B9-2BCB0C87C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7BDE6-8593-45A3-B934-147FA26B2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1D644-9867-4732-BBFE-F3CA109C3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EFE69C-649F-460D-994C-D9C128A360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8F75E-9A8F-4757-B206-16CF43535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924F-6B80-472C-9255-2D523CA03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D32E-6648-4207-BD55-6E1E8E7A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4981-AF98-4B0F-898E-CFED7E19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AF89-C23B-4F98-9688-6468CE709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94A2-DCDD-494C-8419-71D0498555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DE2C-51EF-4997-8BDE-DFCDA433493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1071720" y="304920"/>
            <a:ext cx="7614720" cy="1106280"/>
            <a:chOff x="1071720" y="304920"/>
            <a:chExt cx="7614720" cy="1106280"/>
          </a:xfrm>
        </p:grpSpPr>
        <p:sp>
          <p:nvSpPr>
            <p:cNvPr id="38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FD0D-1CC9-474F-8020-84566F9B75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
          <p:cNvGrpSpPr/>
          <p:nvPr/>
        </p:nvGrpSpPr>
        <p:grpSpPr>
          <a:xfrm>
            <a:off x="1658520" y="1600200"/>
            <a:ext cx="6837480" cy="3200400"/>
            <a:chOff x="1658520" y="1600200"/>
            <a:chExt cx="6837480" cy="3200400"/>
          </a:xfrm>
        </p:grpSpPr>
        <p:sp>
          <p:nvSpPr>
            <p:cNvPr id="43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7239-9763-4EEE-90E7-92655734AE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1828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Mercadeo Estratégico</a:t>
            </a:r>
            <a:br>
              <a:rPr sz="3800"/>
            </a:br>
            <a:br>
              <a:rPr sz="3800"/>
            </a:br>
            <a:r>
              <a:rPr b="0" lang="es-ES" sz="3200" spc="-1" strike="noStrike">
                <a:solidFill>
                  <a:srgbClr val="000000"/>
                </a:solidFill>
                <a:latin typeface="Arial"/>
              </a:rPr>
              <a:t>Marketing 1 a 1</a:t>
            </a:r>
            <a:endParaRPr b="0" lang="en-US" sz="3200" spc="-1" strike="noStrike">
              <a:solidFill>
                <a:srgbClr val="000000"/>
              </a:solidFill>
              <a:latin typeface="Arial"/>
            </a:endParaRPr>
          </a:p>
        </p:txBody>
      </p:sp>
      <p:sp>
        <p:nvSpPr>
          <p:cNvPr id="479" name="PlaceHolder 2"/>
          <p:cNvSpPr>
            <a:spLocks noGrp="1"/>
          </p:cNvSpPr>
          <p:nvPr>
            <p:ph/>
          </p:nvPr>
        </p:nvSpPr>
        <p:spPr>
          <a:xfrm>
            <a:off x="4038120" y="3809520"/>
            <a:ext cx="4343400" cy="3048120"/>
          </a:xfrm>
          <a:prstGeom prst="rect">
            <a:avLst/>
          </a:prstGeom>
          <a:noFill/>
          <a:ln w="0">
            <a:noFill/>
          </a:ln>
        </p:spPr>
        <p:txBody>
          <a:bodyPr lIns="90000" rIns="90000" tIns="46800" bIns="46800" anchor="t">
            <a:normAutofit/>
          </a:bodyPr>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Grupo 6</a:t>
            </a:r>
            <a:endParaRPr b="0" lang="en-US" sz="27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lan Quirós</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varo Quesada</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vier Vargas</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y Sosa</a:t>
            </a:r>
            <a:endParaRPr b="0" lang="en-US" sz="2000" spc="-1" strike="noStrike">
              <a:solidFill>
                <a:srgbClr val="000000"/>
              </a:solidFill>
              <a:latin typeface="Arial"/>
            </a:endParaRPr>
          </a:p>
          <a:p>
            <a:pPr lvl="4" marL="2057400" indent="-228600">
              <a:spcBef>
                <a:spcPts val="499"/>
              </a:spcBef>
              <a:buClr>
                <a:srgbClr val="cccc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co Chinchil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MAZON.COM</a:t>
            </a:r>
            <a:br>
              <a:rPr sz="4400"/>
            </a:br>
            <a:endParaRPr b="0" lang="en-US" sz="4400" spc="-1" strike="noStrike">
              <a:solidFill>
                <a:srgbClr val="000000"/>
              </a:solidFill>
              <a:latin typeface="Arial"/>
            </a:endParaRPr>
          </a:p>
        </p:txBody>
      </p:sp>
      <p:sp>
        <p:nvSpPr>
          <p:cNvPr id="490" name="PlaceHolder 2"/>
          <p:cNvSpPr>
            <a:spLocks noGrp="1"/>
          </p:cNvSpPr>
          <p:nvPr>
            <p:ph type="subTitle"/>
          </p:nvPr>
        </p:nvSpPr>
        <p:spPr>
          <a:xfrm>
            <a:off x="2057400" y="4190760"/>
            <a:ext cx="6400800" cy="10666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ejemplo de Marketing 1 a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833400" y="695160"/>
            <a:ext cx="7478640" cy="546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824040" y="757080"/>
            <a:ext cx="7497720" cy="534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844560" y="861840"/>
            <a:ext cx="7456320" cy="513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895320" y="914400"/>
            <a:ext cx="735480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839880" y="766800"/>
            <a:ext cx="7466040" cy="53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ptos basicos</a:t>
            </a:r>
            <a:endParaRPr b="0" lang="en-US" sz="3800" spc="-1" strike="noStrike">
              <a:solidFill>
                <a:srgbClr val="000000"/>
              </a:solidFill>
              <a:latin typeface="Arial"/>
            </a:endParaRPr>
          </a:p>
        </p:txBody>
      </p:sp>
      <p:sp>
        <p:nvSpPr>
          <p:cNvPr id="4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En la prehistoria, la comunicación con los clientes tenía una sola dirección que partía desde la empresa. Con el correr del tiempo, las empresas comenzaron a tomar en cuenta la opinión de los clientes y surgió la palabra retroalimentación.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Hoy en día, un proceso formal y estandarizado de retroalimentación, permite ofrecer productos y servicios que respondan a las necesidades expresadas por los clientes. Son los días del marketing 1 a 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Cómo funciona este proceso en el mundo online? Los “</a:t>
            </a:r>
            <a:r>
              <a:rPr b="0" i="1" lang="es-UY" sz="2400" spc="-1" strike="noStrike">
                <a:solidFill>
                  <a:srgbClr val="000000"/>
                </a:solidFill>
                <a:latin typeface="Arial"/>
              </a:rPr>
              <a:t>web sites</a:t>
            </a:r>
            <a:r>
              <a:rPr b="0" lang="es-UY" sz="2400" spc="-1" strike="noStrike">
                <a:solidFill>
                  <a:srgbClr val="000000"/>
                </a:solidFill>
                <a:latin typeface="Arial"/>
              </a:rPr>
              <a:t>” deben requerir y/o capturar información de los visitantes, con la intención de almacenarla en una base de datos, que luego les permita reconocerlos y ofrecerles productos o contenido de acuerdo con sus preferencias individuales. ¿Miles de visitantes a un mismo sitio y teniendo experiencias personalizadas todos al mismo tiempo? Si, así es como funcion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Arial"/>
              </a:rPr>
              <a:t>El Marketing uno a uno en Internet se basa en la interrelación entre las personas. Cada persona es tratada en forma individualizada -y así debe ser percibido- y la razón por la cuál sus técnicas han probado ser exitosas recaen en la necesidad del ser humano de ser reconocido como individuo que pertenece a una comunida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Identificar al posible cliente.</a:t>
            </a:r>
            <a:r>
              <a:rPr b="1" lang="es-UY" sz="3200" spc="-1" strike="noStrike">
                <a:solidFill>
                  <a:srgbClr val="000000"/>
                </a:solidFill>
                <a:latin typeface="Arial"/>
              </a:rPr>
              <a:t> </a:t>
            </a:r>
            <a:endParaRPr b="0" lang="en-US" sz="32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000000"/>
                </a:solidFill>
                <a:latin typeface="Arial"/>
              </a:rPr>
              <a:t>	</a:t>
            </a:r>
            <a:r>
              <a:rPr b="0" lang="es-UY" sz="2400" spc="-1" strike="noStrike">
                <a:solidFill>
                  <a:srgbClr val="000000"/>
                </a:solidFill>
                <a:latin typeface="Arial"/>
              </a:rPr>
              <a:t>Usted deberá obtener suficiente información que le permita predecir el comportamiento de cada visitante. Deberá crear y mantener bases de datos que incluyan las transacciones realizadas, preferencias, consultas que le haya hecho el cliente y, por supuesto, actualizar continuamente esa información cada vez que exista contacto con é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Diferenciarle del resto</a:t>
            </a:r>
            <a:r>
              <a:rPr b="1" lang="es-UY" sz="3200" spc="-1" strike="noStrike">
                <a:solidFill>
                  <a:srgbClr val="000000"/>
                </a:solidFill>
                <a:latin typeface="Arial"/>
              </a:rPr>
              <a:t>. </a:t>
            </a:r>
            <a:endParaRPr b="0" lang="en-US" sz="32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000000"/>
                </a:solidFill>
                <a:latin typeface="Arial"/>
              </a:rPr>
              <a:t>	</a:t>
            </a:r>
            <a:r>
              <a:rPr b="0" lang="es-UY" sz="2800" spc="-1" strike="noStrike">
                <a:solidFill>
                  <a:srgbClr val="000000"/>
                </a:solidFill>
                <a:latin typeface="Arial"/>
              </a:rPr>
              <a:t>Los recursos deben ser aplicados donde mayor efecto causen. Para eso, usted deberá aislar a sus clientes para determinar cuáles le están permitiendo el mejor retorno sobre la inversión y por supuesto, diferenciar sus necesidades. Diferenciar a sus visitantes le permitirá inclusive abandonar líneas que no sean ren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 </a:t>
            </a:r>
            <a:r>
              <a:rPr b="1" lang="es-UY" sz="2800" spc="-1" strike="noStrike">
                <a:solidFill>
                  <a:srgbClr val="000000"/>
                </a:solidFill>
                <a:latin typeface="Arial"/>
              </a:rPr>
              <a:t>Interactuar con él.</a:t>
            </a:r>
            <a:r>
              <a:rPr b="1" lang="es-UY"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000000"/>
                </a:solidFill>
                <a:latin typeface="Arial"/>
              </a:rPr>
              <a:t>	</a:t>
            </a:r>
            <a:r>
              <a:rPr b="0" lang="es-UY" sz="2400" spc="-1" strike="noStrike">
                <a:solidFill>
                  <a:srgbClr val="000000"/>
                </a:solidFill>
                <a:latin typeface="Arial"/>
              </a:rPr>
              <a:t>Tiene que ver al Marketing uno a uno como un proceso que se desarrolla de manera continua. De esa forma genera  una cultura de aprendizaje que puede retroalimentar su sis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000000"/>
                </a:solidFill>
                <a:latin typeface="Arial"/>
              </a:rPr>
              <a:t> </a:t>
            </a:r>
            <a:r>
              <a:rPr b="1" lang="es-UY" sz="2800" spc="-1" strike="noStrike">
                <a:solidFill>
                  <a:srgbClr val="000000"/>
                </a:solidFill>
                <a:latin typeface="Arial"/>
              </a:rPr>
              <a:t>Personalizar los productos o servicios de acuerdo con sus necesidades</a:t>
            </a:r>
            <a:r>
              <a:rPr b="1" lang="es-UY"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000000"/>
                </a:solidFill>
                <a:latin typeface="Arial"/>
              </a:rPr>
              <a:t>	</a:t>
            </a:r>
            <a:r>
              <a:rPr b="0" lang="es-UY" sz="2400" spc="-1" strike="noStrike">
                <a:solidFill>
                  <a:srgbClr val="000000"/>
                </a:solidFill>
                <a:latin typeface="Arial"/>
              </a:rPr>
              <a:t>El objetivo final del Marketing uno a uno es la adaptación del comportamiento de su organización a las necesidades de sus clientes. Usted ofrecerá experiencias únicas y construirá una relación duradera con sus visitantes. Estas acciones deberán ser objeto de monitoreo y establecimiento de parámetros mesurables de éx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No piense en un simple criterio de segmentación. El verdadero Marketing uno a uno va más allá de eso, al reconocer la necesidad de establecer relaciones con los individuos. Ellos son personas que merecen su lealtad, escuchándolos y satisfaciendo sus necesidades. Si usted les pide lealtad con su marca, usted también deberá ser leal con ell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4T12:57:33Z</dcterms:created>
  <dc:creator>aquesada</dc:creator>
  <dc:description/>
  <dc:language>en-US</dc:language>
  <cp:lastModifiedBy>aquesada</cp:lastModifiedBy>
  <dcterms:modified xsi:type="dcterms:W3CDTF">2004-02-26T11:58:09Z</dcterms:modified>
  <cp:revision>11</cp:revision>
  <dc:subject/>
  <dc:title>Slide 1</dc:title>
</cp:coreProperties>
</file>